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BE7E-AB55-453D-85B0-63D59505B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A69F-7832-4521-A92A-50BF13119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CA24-8DE2-4F7F-B398-DF61E40B4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D7AB-F4CC-4FB9-A616-8427A1BF1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374E-49EC-40CF-95BC-D3F74EEB3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E4D3-CED2-4EBD-9069-680E14D19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2AA6-AA0C-4FA0-8DD4-8AE5CAE8C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86D7-E35E-4EB0-8400-03F69CAEA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0EBB-7149-496A-8F4A-6547C10D8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54B5-E17A-412A-A2EB-92936B24C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F30A-72CA-4F4E-BB3E-537D75BC7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C0C0-C874-4894-8076-0A8CF5C01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3288B-89E6-4E9B-9F2F-1A4F6E0476E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高考训练题非谓语动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1412640"/>
            <a:ext cx="6400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Mr. Smith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ech, started to read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v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tired; boring             B. tiring; bo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 tired; bored              D. tiring; bo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: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Friendship is like money: easier made than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kept                          B. to be k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 keeping                     D. being k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: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8.—Why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to the museum with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at’s a good id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. not go           B. don’g to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. going            D. not go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Key: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9. English teacher encourages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 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more rea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. us doing       B. us to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. our reading  D. we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Key: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.—Mr. Wilson is expected back at no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—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you have him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 then,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calling   B. call  C. to call  D. cal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: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1.—Is the radio disturbing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—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ertainly is, I’d like i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turning  B. to turn C. turned D. tu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: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2. Sorry! I’ve forgotte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letter f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posting          B. to have po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to post           D. that I p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: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3. She is not worth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to get angry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getting ang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getting angry w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 to get angry w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: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11280" y="62064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4. The woman lay on the bed, her fac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boo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having covered  B. cov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to cover             D. cov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: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.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space, the earth looks like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ue planet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Seeing              B. To se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Seen                 D. Having s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: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6.Do you mi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sugges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me to make       B. my m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for me to make  D. I m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: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7.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of this apple juice-perhaps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ll like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Trying               B. Try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To try               D. Have tr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: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8.Lots of empty bottles were found 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man’s bed. He must hav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hing bu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drink B. to drink  C. drinking D. dru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: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9.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im busy in his garage, I said 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call again l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To find               B. When f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Finding              D. As fi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: 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. I bitterly regre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im the story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ter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to tell            B. to have t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told               D. having t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: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1. Gun-powder is generally consid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in Chi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inventing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having invented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to be inve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to have been inve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: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2. I’m considering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off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to accept       B. accep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accept           D. accep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: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3.The cloth won’t st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to wash          B. was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washed          D. for was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Key: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4.It’s pay-day, and they’re waiting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. for paying       B. to be pa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. to be paying   D. to have pa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Key: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5. —Will John come here to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No, he finally decided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. not to be         B. not to go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. not to              D. not go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Key: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539640" y="106488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.There are three waiting-rooms in the new station,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bout 1000 passeng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. seating        B. s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. seated        D. si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key: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her finest skirt, the girl tri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hersel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the par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Dressing; noticing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Dressed; noti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Dressing; being noti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Dressed; noti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: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With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need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she left the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mark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something; to bu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anything; having bou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everything; bu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everything; bou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: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—Where should I send my for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—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ersonnel office is the plac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for sending it     B. to  send it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to send              D. to send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: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He should at least answer when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speaking           B. spoke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spoken to          D. speaking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: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 —What do you think made Mary s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s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—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 new motorbi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As she lost       B. L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Losing              D. Because of lo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: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 The wonderful time they have bee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ing forward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ly arriv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had   B. have   C. has   D. ha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: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. Is this the TV set which you wish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to have it repa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to repair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to have repair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will be repa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: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1.She came in,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by a group of child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. following         B. follow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. to follow          D.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Key: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2. If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o a high temperature, water c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be turned into vapo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. heat  B. to heat  C. heating D. he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Key: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3. The girl was sitting there,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n dee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ou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. lose  B. to lose  C. losing  D. l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Key: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4.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his father had come, his face lit 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. Having heard   B. When he he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. Hearing            D. When hea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Key: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5. Do you know the boy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at the back of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 roo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. sat   B. sit         C. seating D. se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Key: 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. We’ve used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the country 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living               B. li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be living          D. have li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: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. His remarks left m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bout his real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po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wonder           B. wonde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wondered       D. to wo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: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7T00:13:46Z</dcterms:created>
  <dc:creator>guest</dc:creator>
  <dc:description/>
  <dc:language>en-US</dc:language>
  <cp:lastModifiedBy>wang xing zhong</cp:lastModifiedBy>
  <dcterms:modified xsi:type="dcterms:W3CDTF">2003-12-23T02:00:44Z</dcterms:modified>
  <cp:revision>25</cp:revision>
  <dc:subject/>
  <dc:title>高考训练题非谓语动词</dc:title>
</cp:coreProperties>
</file>