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C6D-3D33-47D3-B046-49A58969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CC4-C1B6-43ED-AD2A-2DAE756B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157-846E-4E04-B060-F9384D35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D19-7345-4702-B05B-33678CD1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7194-E2D7-47C3-88C6-B3C070FD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FD5C-04A4-4559-888E-74A8F9E9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1513-8062-4AC3-B896-1CBD2BDE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5BC8-DB93-4DD5-8DA0-E2B2E6C0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E3C3-BE64-49D7-9800-3351D188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7214-04FA-48D8-B808-82374EBC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AFF6-B56F-4DFB-A7FF-CE5FD08A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CF4-4146-47CB-AF07-1E583642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5C96-9360-4C6D-B15C-D16B27DD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392A-1889-45E7-BAEF-EC4D683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46F6-A7DE-44C0-A313-4342575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213B-4813-41D3-AA97-24BA78AA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EBF6-3117-420A-88A9-005E55BF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049-88FD-4508-AF14-0F8E2D1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7CB-E52C-4F08-87D6-A92779C0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06A-660E-4BFA-9E91-EF3120C6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CE8-B165-44B8-A0FE-2B24959A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A28-575D-48F6-97BF-8D146067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F7F-3980-4FD1-8494-2DAB7BBC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377-4871-43B1-BF66-9CDC1DD8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A6BE-3CAA-4A08-AF12-660FD4F55B4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0742-3B93-46DF-8F63-A7CC49FCEEC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Monotype Corsiva"/>
              </a:rPr>
              <a:t>UNIT 9  REVI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Book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played basketball the day before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going to play basketball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playing basketball n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cnimg_net_001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05740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1523880"/>
            <a:ext cx="5410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day before 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1760" y="29718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mor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962520"/>
            <a:ext cx="97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danced yesterday ev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often da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95480" y="1904760"/>
            <a:ext cx="3810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terday ev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cnimg_net_03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8288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22680" y="311292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drew a picture 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nimg_net_03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600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86200" y="1676160"/>
            <a:ext cx="4952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years ago, 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g,Work,  in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cle Wang worked in China two years a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nimg_net_09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89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66ff"/>
                </a:solidFill>
                <a:latin typeface="Times New Roman"/>
              </a:rPr>
              <a:t>Let’s do exercises togeth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写出下列单词的过去式形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e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d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g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48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am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lp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kne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a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di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nt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answ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work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go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mov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按要求改变句子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 September 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 Ch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变为否定句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—————————————————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 Fang went to school on fo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st Mond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d in Chin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 about ten yea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0520" y="1447560"/>
            <a:ext cx="9068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ere you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n’t do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id Wei Fang go to school on fo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did they live in Chi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用所给动词的正确形式填空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4124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______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)your sister bor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enjoy _______(live) with 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(watch) TV just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___(watch) TV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cy ________(play) games with Tom sometim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you ______ (live) in China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8760" y="2085840"/>
            <a:ext cx="12502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3680" y="1447920"/>
            <a:ext cx="10551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8280" y="2743200"/>
            <a:ext cx="17074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429000"/>
            <a:ext cx="22791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s wat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3960" y="4143240"/>
            <a:ext cx="1149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7720" y="5486400"/>
            <a:ext cx="870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560" y="5410080"/>
            <a:ext cx="869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66"/>
                </a:solidFill>
                <a:latin typeface="Comic Sans MS"/>
              </a:rPr>
              <a:t>THE END</a:t>
            </a:r>
            <a:r>
              <a:rPr b="0" lang="en-US" sz="66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9900"/>
                </a:solidFill>
                <a:latin typeface="Monotype Corsiva"/>
              </a:rPr>
              <a:t>Thanks very much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76720" y="30492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n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/o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re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2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was he born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as born on May 18, 19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4648320" cy="1905120"/>
          </a:xfrm>
          <a:prstGeom prst="wedgeEllipseCallout">
            <a:avLst>
              <a:gd name="adj1" fmla="val 44601"/>
              <a:gd name="adj2" fmla="val 59749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ame: T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irthday:  1999,5,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543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was born in Beijing .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4571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en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e was born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ptember 10,199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4343400" cy="2057400"/>
          </a:xfrm>
          <a:prstGeom prst="wedgeEllipseCallout">
            <a:avLst>
              <a:gd name="adj1" fmla="val 57199"/>
              <a:gd name="adj2" fmla="val 49074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     Lu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thday: 1999,9,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here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e was born in New York. (America/ the US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4038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When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She was born on October 29, 2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33520"/>
            <a:ext cx="4495680" cy="2209680"/>
          </a:xfrm>
          <a:prstGeom prst="wedgeEllipseCallout">
            <a:avLst>
              <a:gd name="adj1" fmla="val -46750"/>
              <a:gd name="adj2" fmla="val 29384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th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, 10,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617220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 was born in Japa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066680" y="0"/>
            <a:ext cx="7239240" cy="4952880"/>
            <a:chOff x="1066680" y="0"/>
            <a:chExt cx="7239240" cy="4952880"/>
          </a:xfrm>
        </p:grpSpPr>
        <p:sp>
          <p:nvSpPr>
            <p:cNvPr id="107" name=""/>
            <p:cNvSpPr/>
            <p:nvPr/>
          </p:nvSpPr>
          <p:spPr>
            <a:xfrm>
              <a:off x="1066680" y="0"/>
              <a:ext cx="7239240" cy="4952880"/>
            </a:xfrm>
            <a:custGeom>
              <a:avLst/>
              <a:gdLst>
                <a:gd name="textAreaLeft" fmla="*/ 1652400 w 7239240"/>
                <a:gd name="textAreaRight" fmla="*/ 5586840 w 7239240"/>
                <a:gd name="textAreaTop" fmla="*/ 1130760 h 4952880"/>
                <a:gd name="textAreaBottom" fmla="*/ 3822120 h 49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4568"/>
                  </a:solidFill>
                  <a:latin typeface="Times New Roman"/>
                </a:rPr>
                <a:t>No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" name="cnimg_net_004" descr=""/>
            <p:cNvPicPr/>
            <p:nvPr/>
          </p:nvPicPr>
          <p:blipFill>
            <a:blip r:embed="rId1"/>
            <a:stretch/>
          </p:blipFill>
          <p:spPr>
            <a:xfrm>
              <a:off x="2971800" y="990720"/>
              <a:ext cx="36576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392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  didn’t sing yesterday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d he sing yesterday?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 ,he di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419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is singing 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 sang  yester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often s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2209320"/>
            <a:ext cx="1295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160" y="33526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840" y="472428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1148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05:56Z</dcterms:created>
  <dc:creator>zlm</dc:creator>
  <dc:description/>
  <dc:language>en-US</dc:language>
  <cp:lastModifiedBy>dtyl</cp:lastModifiedBy>
  <dcterms:modified xsi:type="dcterms:W3CDTF">2004-05-12T12:21:46Z</dcterms:modified>
  <cp:revision>30</cp:revision>
  <dc:subject/>
  <dc:title>REVICE  UNIT 9</dc:title>
</cp:coreProperties>
</file>