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4.jpeg" ContentType="image/jpeg"/>
  <Override PartName="/ppt/media/image3.jpeg" ContentType="image/jpeg"/>
  <Override PartName="/ppt/media/image12.gif" ContentType="image/gif"/>
  <Override PartName="/ppt/media/333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4.wmf" ContentType="image/x-wmf"/>
  <Override PartName="/ppt/media/image16.png" ContentType="image/png"/>
  <Override PartName="/ppt/media/image17.gif" ContentType="image/gif"/>
  <Override PartName="/ppt/media/MYYPT.wav" ContentType="audio/x-wav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A71-E060-4BFF-BCF2-1037B235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A0F-8701-4839-A911-6CAC9388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D22-BF13-4702-9E00-5D093D76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954-A365-4E65-8E55-27479A23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EE7F-AC0C-4341-8AD9-4C79B85C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CA48-8A51-4BA3-872B-94709271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62CC-1AA8-4523-ADAB-58C9EFB6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DFF2-03B8-4721-9C79-65CD010C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158F-7367-402D-A4FC-4CF541D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04E-3288-43F0-B4D4-1A0F0D8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8B1D-7FD2-4F5B-AB0C-DBCD415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AD8-97B3-4F38-9AB0-73B00B2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382-37F1-497F-A170-B1D8B67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6D0D-1279-442D-8D0B-25A7870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7B3D-7351-4839-BE05-9088221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3548-4305-43B3-A5A7-F14E3415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BE0C-85C3-4DB2-8223-DBACD11E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3CE5-0118-49F8-9CBA-5C625C4C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E83A-70F6-41B7-A280-5217C4B4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3017-4A5F-4B3B-95A5-5B6CBCF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4801-AC4B-4901-A00F-2FE9AFD4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5B74-8D81-4EC3-896D-8A74E41F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93E-DF79-487E-B575-30C00AC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FD3B-9116-40D9-9434-62A9913B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E027-117D-4D85-B674-1ECF0F9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5596-0092-484A-BA7C-2D1757E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723F-8F0F-4BCA-B92C-02CB8BE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C80A-411B-4D50-A66D-8DFA245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D2A4-AF8B-4244-83D9-44FB2C8B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D53F-F55D-40E0-9329-73CD0263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2EB3D-E567-42C6-9D98-88955384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F5805-D7BA-4E7B-96F2-904AC76D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22E9C-4F42-4C5F-8E92-69B3C671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552-EF81-4E9D-BEBA-23CCB664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3EEE0-E088-4036-A5C5-8956EAFD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58880-4B48-432D-83A2-E4186812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2DB29-D04E-4CA1-A8B3-6D99733C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75271-04DD-48CE-BE58-66FA8AD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EB323-24C7-4D0D-84D0-3D552A04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38121-93E2-4821-A6AA-5D87735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091BC-7347-40F5-B975-12516929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F58D8-38CC-4A67-90AA-DEE2CA99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1CD54-EBA9-4F43-8998-2645EC8D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F33C8-C22F-4B1B-B012-B24E8417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A2A-457F-4F19-9845-FD050973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52909-C779-44B7-80F9-DD70F030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EDD70-A70C-45F3-9A57-689ACB27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97E8-0CE0-4055-83E0-E752ABA6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5166-2E32-486C-A0FD-8452339B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2899-25AF-442A-9998-CF242976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17BA-B99B-413E-A8F5-958B0F94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5688-E12E-4FE2-BCC1-EF60AA76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96D7-7D4D-4BEC-92F2-2035C04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2C68-D66B-4580-A538-B396CF8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7063-5530-4969-AF79-4E1D106F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B4D-4FE6-4B49-886B-8B9E295A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6568B-2858-4E80-8771-98B394A7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78A-07A6-4C91-8873-EA271CF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898-C364-4324-8C7C-0F07447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0CF-3754-4235-9454-D230141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9AAF-D20C-4298-86A6-A0619AA7F7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5831-B95B-4229-8939-257E03159A9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EEE2-7C6D-475A-B16A-EA6FB809BE8F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79BE-4AE2-44E1-B763-79A83328791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AE9E-291E-49C9-AD51-675D0DC6C6B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audio" Target="../media/333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MYYPT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1523880" y="1066680"/>
            <a:ext cx="2971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Unit 2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00200" y="3124080"/>
            <a:ext cx="58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News Media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79280" y="260280"/>
          <a:ext cx="8785440" cy="6440400"/>
        </p:xfrm>
        <a:graphic>
          <a:graphicData uri="http://schemas.openxmlformats.org/drawingml/2006/table">
            <a:tbl>
              <a:tblPr/>
              <a:tblGrid>
                <a:gridCol w="2016360"/>
                <a:gridCol w="2447640"/>
                <a:gridCol w="2283120"/>
                <a:gridCol w="20383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without checking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som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believ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rog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523880"/>
            <a:ext cx="4267080" cy="642600"/>
          </a:xfrm>
          <a:prstGeom prst="rect">
            <a:avLst/>
          </a:prstGeom>
          <a:gradFill rotWithShape="0">
            <a:gsLst>
              <a:gs pos="0">
                <a:srgbClr val="2d9f2d"/>
              </a:gs>
              <a:gs pos="100000">
                <a:srgbClr val="164f16"/>
              </a:gs>
            </a:gsLst>
            <a:lin ang="5400000"/>
          </a:gradFill>
          <a:ln cap="sq"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d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1616040" cy="1640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952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ad-i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907920"/>
            <a:ext cx="8136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 what way do you know what is happening arou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What newspaper do you usually read in your spa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How much do you spend on newspaper per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Which column of a newspaper do you spend mo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Do you believe every single news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How do you think newspapers report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 rot="10800000">
          <a:off x="380880" y="5943600"/>
          <a:ext cx="8458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880" y="5943600"/>
                    <a:ext cx="8458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71320" y="968400"/>
            <a:ext cx="57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ad for main ide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9680" y="1844640"/>
            <a:ext cx="15339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175248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s and other media do mote than simply record wha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274320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: How do you decide what you are going to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373392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ch of the articles that you have written do you lik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72428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could write any article you want, what would you write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4000" y="5661000"/>
            <a:ext cx="678204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do newspapers help us understa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92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3827"/>
                </a:solidFill>
                <a:latin typeface="Comic Sans MS"/>
                <a:ea typeface="方正姚体"/>
              </a:rPr>
              <a:t>Which of the following questions the tex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5909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es a reporter decide what to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much does a newspaper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y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report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ere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help us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067040" cy="237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10666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333360"/>
            <a:ext cx="9144000" cy="6237360"/>
            <a:chOff x="0" y="333360"/>
            <a:chExt cx="9144000" cy="6237360"/>
          </a:xfrm>
        </p:grpSpPr>
        <p:sp>
          <p:nvSpPr>
            <p:cNvPr id="569" name=""/>
            <p:cNvSpPr/>
            <p:nvPr/>
          </p:nvSpPr>
          <p:spPr>
            <a:xfrm>
              <a:off x="304560" y="3538440"/>
              <a:ext cx="6683400" cy="303228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1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333360"/>
              <a:ext cx="9067680" cy="3449880"/>
              <a:chOff x="0" y="333360"/>
              <a:chExt cx="9067680" cy="3449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222280" y="333360"/>
                <a:ext cx="6845400" cy="3449880"/>
              </a:xfrm>
              <a:custGeom>
                <a:avLst/>
                <a:gdLst/>
                <a:ahLst/>
                <a:rect l="l" t="t" r="r" b="b"/>
                <a:pathLst>
                  <a:path w="4312" h="2173">
                    <a:moveTo>
                      <a:pt x="120" y="1158"/>
                    </a:moveTo>
                    <a:cubicBezTo>
                      <a:pt x="123" y="1002"/>
                      <a:pt x="107" y="844"/>
                      <a:pt x="130" y="689"/>
                    </a:cubicBezTo>
                    <a:cubicBezTo>
                      <a:pt x="133" y="665"/>
                      <a:pt x="174" y="670"/>
                      <a:pt x="194" y="657"/>
                    </a:cubicBezTo>
                    <a:cubicBezTo>
                      <a:pt x="259" y="616"/>
                      <a:pt x="318" y="598"/>
                      <a:pt x="397" y="593"/>
                    </a:cubicBezTo>
                    <a:cubicBezTo>
                      <a:pt x="536" y="584"/>
                      <a:pt x="674" y="578"/>
                      <a:pt x="813" y="571"/>
                    </a:cubicBezTo>
                    <a:cubicBezTo>
                      <a:pt x="918" y="187"/>
                      <a:pt x="849" y="308"/>
                      <a:pt x="941" y="689"/>
                    </a:cubicBezTo>
                    <a:cubicBezTo>
                      <a:pt x="944" y="703"/>
                      <a:pt x="944" y="658"/>
                      <a:pt x="952" y="646"/>
                    </a:cubicBezTo>
                    <a:cubicBezTo>
                      <a:pt x="984" y="597"/>
                      <a:pt x="1010" y="540"/>
                      <a:pt x="1058" y="507"/>
                    </a:cubicBezTo>
                    <a:cubicBezTo>
                      <a:pt x="1094" y="483"/>
                      <a:pt x="1143" y="493"/>
                      <a:pt x="1186" y="486"/>
                    </a:cubicBezTo>
                    <a:cubicBezTo>
                      <a:pt x="1371" y="417"/>
                      <a:pt x="1539" y="352"/>
                      <a:pt x="1720" y="273"/>
                    </a:cubicBezTo>
                    <a:cubicBezTo>
                      <a:pt x="1775" y="249"/>
                      <a:pt x="1836" y="236"/>
                      <a:pt x="1890" y="209"/>
                    </a:cubicBezTo>
                    <a:cubicBezTo>
                      <a:pt x="2011" y="148"/>
                      <a:pt x="2072" y="65"/>
                      <a:pt x="2210" y="49"/>
                    </a:cubicBezTo>
                    <a:cubicBezTo>
                      <a:pt x="2231" y="42"/>
                      <a:pt x="2254" y="37"/>
                      <a:pt x="2274" y="27"/>
                    </a:cubicBezTo>
                    <a:cubicBezTo>
                      <a:pt x="2283" y="22"/>
                      <a:pt x="2288" y="0"/>
                      <a:pt x="2296" y="6"/>
                    </a:cubicBezTo>
                    <a:cubicBezTo>
                      <a:pt x="2308" y="14"/>
                      <a:pt x="2303" y="35"/>
                      <a:pt x="2306" y="49"/>
                    </a:cubicBezTo>
                    <a:cubicBezTo>
                      <a:pt x="2313" y="308"/>
                      <a:pt x="2317" y="568"/>
                      <a:pt x="2328" y="827"/>
                    </a:cubicBezTo>
                    <a:cubicBezTo>
                      <a:pt x="2328" y="838"/>
                      <a:pt x="2333" y="805"/>
                      <a:pt x="2338" y="795"/>
                    </a:cubicBezTo>
                    <a:cubicBezTo>
                      <a:pt x="2344" y="783"/>
                      <a:pt x="2353" y="774"/>
                      <a:pt x="2360" y="763"/>
                    </a:cubicBezTo>
                    <a:cubicBezTo>
                      <a:pt x="2391" y="896"/>
                      <a:pt x="2356" y="812"/>
                      <a:pt x="2626" y="699"/>
                    </a:cubicBezTo>
                    <a:cubicBezTo>
                      <a:pt x="2712" y="663"/>
                      <a:pt x="2811" y="692"/>
                      <a:pt x="2904" y="689"/>
                    </a:cubicBezTo>
                    <a:cubicBezTo>
                      <a:pt x="3053" y="710"/>
                      <a:pt x="3240" y="652"/>
                      <a:pt x="3352" y="753"/>
                    </a:cubicBezTo>
                    <a:cubicBezTo>
                      <a:pt x="3457" y="848"/>
                      <a:pt x="3320" y="1090"/>
                      <a:pt x="3437" y="1169"/>
                    </a:cubicBezTo>
                    <a:cubicBezTo>
                      <a:pt x="3520" y="1225"/>
                      <a:pt x="3579" y="1026"/>
                      <a:pt x="3650" y="955"/>
                    </a:cubicBezTo>
                    <a:cubicBezTo>
                      <a:pt x="3679" y="926"/>
                      <a:pt x="3736" y="870"/>
                      <a:pt x="3736" y="870"/>
                    </a:cubicBezTo>
                    <a:cubicBezTo>
                      <a:pt x="3770" y="970"/>
                      <a:pt x="3755" y="1254"/>
                      <a:pt x="3928" y="1169"/>
                    </a:cubicBezTo>
                    <a:cubicBezTo>
                      <a:pt x="3955" y="1156"/>
                      <a:pt x="3971" y="1126"/>
                      <a:pt x="3992" y="1105"/>
                    </a:cubicBezTo>
                    <a:cubicBezTo>
                      <a:pt x="4043" y="1531"/>
                      <a:pt x="3918" y="1654"/>
                      <a:pt x="4269" y="1745"/>
                    </a:cubicBezTo>
                    <a:cubicBezTo>
                      <a:pt x="4280" y="1777"/>
                      <a:pt x="4290" y="1809"/>
                      <a:pt x="4301" y="1841"/>
                    </a:cubicBezTo>
                    <a:cubicBezTo>
                      <a:pt x="4312" y="1874"/>
                      <a:pt x="4284" y="2029"/>
                      <a:pt x="4205" y="2033"/>
                    </a:cubicBezTo>
                    <a:cubicBezTo>
                      <a:pt x="3999" y="2043"/>
                      <a:pt x="3792" y="2044"/>
                      <a:pt x="3586" y="2054"/>
                    </a:cubicBezTo>
                    <a:cubicBezTo>
                      <a:pt x="3142" y="2076"/>
                      <a:pt x="2253" y="2129"/>
                      <a:pt x="2253" y="2129"/>
                    </a:cubicBezTo>
                    <a:cubicBezTo>
                      <a:pt x="2217" y="2125"/>
                      <a:pt x="2182" y="2118"/>
                      <a:pt x="2146" y="2118"/>
                    </a:cubicBezTo>
                    <a:cubicBezTo>
                      <a:pt x="2117" y="2118"/>
                      <a:pt x="2089" y="2135"/>
                      <a:pt x="2061" y="2129"/>
                    </a:cubicBezTo>
                    <a:cubicBezTo>
                      <a:pt x="1968" y="2110"/>
                      <a:pt x="1848" y="2044"/>
                      <a:pt x="1762" y="2001"/>
                    </a:cubicBezTo>
                    <a:cubicBezTo>
                      <a:pt x="1759" y="2012"/>
                      <a:pt x="1762" y="2027"/>
                      <a:pt x="1752" y="2033"/>
                    </a:cubicBezTo>
                    <a:cubicBezTo>
                      <a:pt x="1733" y="2044"/>
                      <a:pt x="1709" y="2040"/>
                      <a:pt x="1688" y="2043"/>
                    </a:cubicBezTo>
                    <a:cubicBezTo>
                      <a:pt x="1652" y="2047"/>
                      <a:pt x="1617" y="2050"/>
                      <a:pt x="1581" y="2054"/>
                    </a:cubicBezTo>
                    <a:cubicBezTo>
                      <a:pt x="1560" y="2047"/>
                      <a:pt x="1524" y="2054"/>
                      <a:pt x="1517" y="2033"/>
                    </a:cubicBezTo>
                    <a:cubicBezTo>
                      <a:pt x="1448" y="1807"/>
                      <a:pt x="1595" y="1770"/>
                      <a:pt x="1432" y="1841"/>
                    </a:cubicBezTo>
                    <a:cubicBezTo>
                      <a:pt x="1228" y="2045"/>
                      <a:pt x="1489" y="1803"/>
                      <a:pt x="1304" y="1926"/>
                    </a:cubicBezTo>
                    <a:cubicBezTo>
                      <a:pt x="1150" y="2028"/>
                      <a:pt x="1347" y="1969"/>
                      <a:pt x="1133" y="2011"/>
                    </a:cubicBezTo>
                    <a:cubicBezTo>
                      <a:pt x="809" y="2173"/>
                      <a:pt x="533" y="2087"/>
                      <a:pt x="141" y="2075"/>
                    </a:cubicBezTo>
                    <a:cubicBezTo>
                      <a:pt x="137" y="2050"/>
                      <a:pt x="133" y="2026"/>
                      <a:pt x="130" y="2001"/>
                    </a:cubicBezTo>
                    <a:cubicBezTo>
                      <a:pt x="126" y="1972"/>
                      <a:pt x="144" y="1931"/>
                      <a:pt x="120" y="1915"/>
                    </a:cubicBezTo>
                    <a:cubicBezTo>
                      <a:pt x="101" y="1902"/>
                      <a:pt x="105" y="1958"/>
                      <a:pt x="98" y="1979"/>
                    </a:cubicBezTo>
                    <a:cubicBezTo>
                      <a:pt x="0" y="1830"/>
                      <a:pt x="42" y="1665"/>
                      <a:pt x="141" y="1531"/>
                    </a:cubicBezTo>
                    <a:cubicBezTo>
                      <a:pt x="145" y="1510"/>
                      <a:pt x="145" y="1488"/>
                      <a:pt x="152" y="1467"/>
                    </a:cubicBezTo>
                    <a:cubicBezTo>
                      <a:pt x="156" y="1455"/>
                      <a:pt x="164" y="1426"/>
                      <a:pt x="173" y="1435"/>
                    </a:cubicBezTo>
                    <a:cubicBezTo>
                      <a:pt x="188" y="1450"/>
                      <a:pt x="180" y="1478"/>
                      <a:pt x="184" y="1499"/>
                    </a:cubicBezTo>
                    <a:cubicBezTo>
                      <a:pt x="121" y="1744"/>
                      <a:pt x="195" y="1474"/>
                      <a:pt x="152" y="934"/>
                    </a:cubicBezTo>
                    <a:cubicBezTo>
                      <a:pt x="149" y="896"/>
                      <a:pt x="109" y="1041"/>
                      <a:pt x="109" y="1041"/>
                    </a:cubicBezTo>
                  </a:path>
                </a:pathLst>
              </a:custGeom>
              <a:solidFill>
                <a:srgbClr val="ffffff">
                  <a:alpha val="75000"/>
                </a:srgbClr>
              </a:solidFill>
              <a:ln cap="sq"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32040"/>
                <a:ext cx="1676160" cy="20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228600" y="29131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Zhu L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7238880" y="3979800"/>
              <a:ext cx="1676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62560" y="5732640"/>
              <a:ext cx="1981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14600" y="1557360"/>
            <a:ext cx="6629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228600"/>
            <a:ext cx="8153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f8587"/>
                  </a:outerShdw>
                </a:effectLst>
                <a:latin typeface="Comic Sans MS"/>
              </a:rPr>
              <a:t>Q: How do you decide what you are going to write?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53753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066680" y="41911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is done before sta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s by contacting people, then prepares ques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ing is difficult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interview, … present … 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40000" y="170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writing…discuss with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long &amp; important ones, the editor wil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itor’s job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ich of the articles do you like best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197000"/>
            <a:ext cx="9144000" cy="5661000"/>
            <a:chOff x="0" y="1197000"/>
            <a:chExt cx="9144000" cy="566100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228600" y="4495680"/>
              <a:ext cx="12952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95280" y="1197000"/>
              <a:ext cx="8748720" cy="2665440"/>
              <a:chOff x="395280" y="1197000"/>
              <a:chExt cx="8748720" cy="2665440"/>
            </a:xfrm>
          </p:grpSpPr>
          <p:pic>
            <p:nvPicPr>
              <p:cNvPr id="5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1219320"/>
                <a:ext cx="12956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7162920" y="2362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Chen Y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5280" y="1197000"/>
                <a:ext cx="6121440" cy="2665440"/>
              </a:xfrm>
              <a:prstGeom prst="flowChartPunchedTap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11280" y="4149720"/>
              <a:ext cx="6048360" cy="2708280"/>
            </a:xfrm>
            <a:prstGeom prst="flowChartPunchedTape">
              <a:avLst/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771640" y="4508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…, …about an ordinary  young woman who… adapt to…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with real passion; realize…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148428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effo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…museum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ne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9280" y="3860640"/>
            <a:ext cx="1008000" cy="100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3645000"/>
            <a:ext cx="7762320" cy="2621880"/>
            <a:chOff x="611280" y="3645000"/>
            <a:chExt cx="7762320" cy="2621880"/>
          </a:xfrm>
        </p:grpSpPr>
        <p:sp>
          <p:nvSpPr>
            <p:cNvPr id="593" name=""/>
            <p:cNvSpPr/>
            <p:nvPr/>
          </p:nvSpPr>
          <p:spPr>
            <a:xfrm>
              <a:off x="611280" y="5807160"/>
              <a:ext cx="1371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1006200" y="4064040"/>
              <a:ext cx="12949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693960" y="3645000"/>
              <a:ext cx="4679640" cy="245592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116000" y="404640"/>
            <a:ext cx="8028000" cy="3313440"/>
            <a:chOff x="1116000" y="404640"/>
            <a:chExt cx="8028000" cy="3313440"/>
          </a:xfrm>
        </p:grpSpPr>
        <p:sp>
          <p:nvSpPr>
            <p:cNvPr id="597" name=""/>
            <p:cNvSpPr/>
            <p:nvPr/>
          </p:nvSpPr>
          <p:spPr>
            <a:xfrm>
              <a:off x="7162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7238880" y="1219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116000" y="404640"/>
              <a:ext cx="5040360" cy="3313440"/>
            </a:xfrm>
            <a:custGeom>
              <a:avLst/>
              <a:gdLst/>
              <a:ahLst/>
              <a:rect l="l" t="t" r="r" b="b"/>
              <a:pathLst>
                <a:path w="4312" h="2173">
                  <a:moveTo>
                    <a:pt x="120" y="1158"/>
                  </a:moveTo>
                  <a:cubicBezTo>
                    <a:pt x="123" y="1002"/>
                    <a:pt x="107" y="844"/>
                    <a:pt x="130" y="689"/>
                  </a:cubicBezTo>
                  <a:cubicBezTo>
                    <a:pt x="133" y="665"/>
                    <a:pt x="174" y="670"/>
                    <a:pt x="194" y="657"/>
                  </a:cubicBezTo>
                  <a:cubicBezTo>
                    <a:pt x="259" y="616"/>
                    <a:pt x="318" y="598"/>
                    <a:pt x="397" y="593"/>
                  </a:cubicBezTo>
                  <a:cubicBezTo>
                    <a:pt x="536" y="584"/>
                    <a:pt x="674" y="578"/>
                    <a:pt x="813" y="571"/>
                  </a:cubicBezTo>
                  <a:cubicBezTo>
                    <a:pt x="918" y="187"/>
                    <a:pt x="849" y="308"/>
                    <a:pt x="941" y="689"/>
                  </a:cubicBezTo>
                  <a:cubicBezTo>
                    <a:pt x="944" y="703"/>
                    <a:pt x="944" y="658"/>
                    <a:pt x="952" y="646"/>
                  </a:cubicBezTo>
                  <a:cubicBezTo>
                    <a:pt x="984" y="597"/>
                    <a:pt x="1010" y="540"/>
                    <a:pt x="1058" y="507"/>
                  </a:cubicBezTo>
                  <a:cubicBezTo>
                    <a:pt x="1094" y="483"/>
                    <a:pt x="1143" y="493"/>
                    <a:pt x="1186" y="486"/>
                  </a:cubicBezTo>
                  <a:cubicBezTo>
                    <a:pt x="1371" y="417"/>
                    <a:pt x="1539" y="352"/>
                    <a:pt x="1720" y="273"/>
                  </a:cubicBezTo>
                  <a:cubicBezTo>
                    <a:pt x="1775" y="249"/>
                    <a:pt x="1836" y="236"/>
                    <a:pt x="1890" y="209"/>
                  </a:cubicBezTo>
                  <a:cubicBezTo>
                    <a:pt x="2011" y="148"/>
                    <a:pt x="2072" y="65"/>
                    <a:pt x="2210" y="49"/>
                  </a:cubicBezTo>
                  <a:cubicBezTo>
                    <a:pt x="2231" y="42"/>
                    <a:pt x="2254" y="37"/>
                    <a:pt x="2274" y="27"/>
                  </a:cubicBezTo>
                  <a:cubicBezTo>
                    <a:pt x="2283" y="22"/>
                    <a:pt x="2288" y="0"/>
                    <a:pt x="2296" y="6"/>
                  </a:cubicBezTo>
                  <a:cubicBezTo>
                    <a:pt x="2308" y="14"/>
                    <a:pt x="2303" y="35"/>
                    <a:pt x="2306" y="49"/>
                  </a:cubicBezTo>
                  <a:cubicBezTo>
                    <a:pt x="2313" y="308"/>
                    <a:pt x="2317" y="568"/>
                    <a:pt x="2328" y="827"/>
                  </a:cubicBezTo>
                  <a:cubicBezTo>
                    <a:pt x="2328" y="838"/>
                    <a:pt x="2333" y="805"/>
                    <a:pt x="2338" y="795"/>
                  </a:cubicBezTo>
                  <a:cubicBezTo>
                    <a:pt x="2344" y="783"/>
                    <a:pt x="2353" y="774"/>
                    <a:pt x="2360" y="763"/>
                  </a:cubicBezTo>
                  <a:cubicBezTo>
                    <a:pt x="2391" y="896"/>
                    <a:pt x="2356" y="812"/>
                    <a:pt x="2626" y="699"/>
                  </a:cubicBezTo>
                  <a:cubicBezTo>
                    <a:pt x="2712" y="663"/>
                    <a:pt x="2811" y="692"/>
                    <a:pt x="2904" y="689"/>
                  </a:cubicBezTo>
                  <a:cubicBezTo>
                    <a:pt x="3053" y="710"/>
                    <a:pt x="3240" y="652"/>
                    <a:pt x="3352" y="753"/>
                  </a:cubicBezTo>
                  <a:cubicBezTo>
                    <a:pt x="3457" y="848"/>
                    <a:pt x="3320" y="1090"/>
                    <a:pt x="3437" y="1169"/>
                  </a:cubicBezTo>
                  <a:cubicBezTo>
                    <a:pt x="3520" y="1225"/>
                    <a:pt x="3579" y="1026"/>
                    <a:pt x="3650" y="955"/>
                  </a:cubicBezTo>
                  <a:cubicBezTo>
                    <a:pt x="3679" y="926"/>
                    <a:pt x="3736" y="870"/>
                    <a:pt x="3736" y="870"/>
                  </a:cubicBezTo>
                  <a:cubicBezTo>
                    <a:pt x="3770" y="970"/>
                    <a:pt x="3755" y="1254"/>
                    <a:pt x="3928" y="1169"/>
                  </a:cubicBezTo>
                  <a:cubicBezTo>
                    <a:pt x="3955" y="1156"/>
                    <a:pt x="3971" y="1126"/>
                    <a:pt x="3992" y="1105"/>
                  </a:cubicBezTo>
                  <a:cubicBezTo>
                    <a:pt x="4043" y="1531"/>
                    <a:pt x="3918" y="1654"/>
                    <a:pt x="4269" y="1745"/>
                  </a:cubicBezTo>
                  <a:cubicBezTo>
                    <a:pt x="4280" y="1777"/>
                    <a:pt x="4290" y="1809"/>
                    <a:pt x="4301" y="1841"/>
                  </a:cubicBezTo>
                  <a:cubicBezTo>
                    <a:pt x="4312" y="1874"/>
                    <a:pt x="4284" y="2029"/>
                    <a:pt x="4205" y="2033"/>
                  </a:cubicBezTo>
                  <a:cubicBezTo>
                    <a:pt x="3999" y="2043"/>
                    <a:pt x="3792" y="2044"/>
                    <a:pt x="3586" y="2054"/>
                  </a:cubicBezTo>
                  <a:cubicBezTo>
                    <a:pt x="3142" y="2076"/>
                    <a:pt x="2253" y="2129"/>
                    <a:pt x="2253" y="2129"/>
                  </a:cubicBezTo>
                  <a:cubicBezTo>
                    <a:pt x="2217" y="2125"/>
                    <a:pt x="2182" y="2118"/>
                    <a:pt x="2146" y="2118"/>
                  </a:cubicBezTo>
                  <a:cubicBezTo>
                    <a:pt x="2117" y="2118"/>
                    <a:pt x="2089" y="2135"/>
                    <a:pt x="2061" y="2129"/>
                  </a:cubicBezTo>
                  <a:cubicBezTo>
                    <a:pt x="1968" y="2110"/>
                    <a:pt x="1848" y="2044"/>
                    <a:pt x="1762" y="2001"/>
                  </a:cubicBezTo>
                  <a:cubicBezTo>
                    <a:pt x="1759" y="2012"/>
                    <a:pt x="1762" y="2027"/>
                    <a:pt x="1752" y="2033"/>
                  </a:cubicBezTo>
                  <a:cubicBezTo>
                    <a:pt x="1733" y="2044"/>
                    <a:pt x="1709" y="2040"/>
                    <a:pt x="1688" y="2043"/>
                  </a:cubicBezTo>
                  <a:cubicBezTo>
                    <a:pt x="1652" y="2047"/>
                    <a:pt x="1617" y="2050"/>
                    <a:pt x="1581" y="2054"/>
                  </a:cubicBezTo>
                  <a:cubicBezTo>
                    <a:pt x="1560" y="2047"/>
                    <a:pt x="1524" y="2054"/>
                    <a:pt x="1517" y="2033"/>
                  </a:cubicBezTo>
                  <a:cubicBezTo>
                    <a:pt x="1448" y="1807"/>
                    <a:pt x="1595" y="1770"/>
                    <a:pt x="1432" y="1841"/>
                  </a:cubicBezTo>
                  <a:cubicBezTo>
                    <a:pt x="1228" y="2045"/>
                    <a:pt x="1489" y="1803"/>
                    <a:pt x="1304" y="1926"/>
                  </a:cubicBezTo>
                  <a:cubicBezTo>
                    <a:pt x="1150" y="2028"/>
                    <a:pt x="1347" y="1969"/>
                    <a:pt x="1133" y="2011"/>
                  </a:cubicBezTo>
                  <a:cubicBezTo>
                    <a:pt x="809" y="2173"/>
                    <a:pt x="533" y="2087"/>
                    <a:pt x="141" y="2075"/>
                  </a:cubicBezTo>
                  <a:cubicBezTo>
                    <a:pt x="137" y="2050"/>
                    <a:pt x="133" y="2026"/>
                    <a:pt x="130" y="2001"/>
                  </a:cubicBezTo>
                  <a:cubicBezTo>
                    <a:pt x="126" y="1972"/>
                    <a:pt x="144" y="1931"/>
                    <a:pt x="120" y="1915"/>
                  </a:cubicBezTo>
                  <a:cubicBezTo>
                    <a:pt x="101" y="1902"/>
                    <a:pt x="105" y="1958"/>
                    <a:pt x="98" y="1979"/>
                  </a:cubicBezTo>
                  <a:cubicBezTo>
                    <a:pt x="0" y="1830"/>
                    <a:pt x="42" y="1665"/>
                    <a:pt x="141" y="1531"/>
                  </a:cubicBezTo>
                  <a:cubicBezTo>
                    <a:pt x="145" y="1510"/>
                    <a:pt x="145" y="1488"/>
                    <a:pt x="152" y="1467"/>
                  </a:cubicBezTo>
                  <a:cubicBezTo>
                    <a:pt x="156" y="1455"/>
                    <a:pt x="164" y="1426"/>
                    <a:pt x="173" y="1435"/>
                  </a:cubicBezTo>
                  <a:cubicBezTo>
                    <a:pt x="188" y="1450"/>
                    <a:pt x="180" y="1478"/>
                    <a:pt x="184" y="1499"/>
                  </a:cubicBezTo>
                  <a:cubicBezTo>
                    <a:pt x="121" y="1744"/>
                    <a:pt x="195" y="1474"/>
                    <a:pt x="152" y="934"/>
                  </a:cubicBezTo>
                  <a:cubicBezTo>
                    <a:pt x="149" y="896"/>
                    <a:pt x="109" y="1041"/>
                    <a:pt x="109" y="1041"/>
                  </a:cubicBezTo>
                </a:path>
              </a:pathLst>
            </a:custGeom>
            <a:solidFill>
              <a:srgbClr val="ffffff">
                <a:alpha val="75000"/>
              </a:srgbClr>
            </a:solidFill>
            <a:ln cap="sq" w="0">
              <a:solidFill>
                <a:srgbClr val="ffffff"/>
              </a:solidFill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at would you write about and wh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4365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people you seldom read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1916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, art, nature and the importance of spiritual fulfill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380880" y="2133720"/>
            <a:ext cx="8763120" cy="4724280"/>
            <a:chOff x="380880" y="2133720"/>
            <a:chExt cx="8763120" cy="4724280"/>
          </a:xfrm>
        </p:grpSpPr>
        <p:sp>
          <p:nvSpPr>
            <p:cNvPr id="604" name=""/>
            <p:cNvSpPr/>
            <p:nvPr/>
          </p:nvSpPr>
          <p:spPr>
            <a:xfrm>
              <a:off x="3352680" y="2666880"/>
              <a:ext cx="2743200" cy="1981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255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bout Iraq, I think…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80880" y="2133720"/>
              <a:ext cx="8763120" cy="4724280"/>
              <a:chOff x="380880" y="2133720"/>
              <a:chExt cx="8763120" cy="4724280"/>
            </a:xfrm>
          </p:grpSpPr>
          <p:pic>
            <p:nvPicPr>
              <p:cNvPr id="6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209680"/>
                <a:ext cx="2714760" cy="407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13600" y="2133720"/>
                <a:ext cx="29304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352680" y="2666880"/>
                <a:ext cx="2743200" cy="1981440"/>
              </a:xfrm>
              <a:prstGeom prst="wedgeRoundRectCallout">
                <a:avLst>
                  <a:gd name="adj1" fmla="val 50925"/>
                  <a:gd name="adj2" fmla="val 72194"/>
                  <a:gd name="adj3" fmla="val 16667"/>
                </a:avLst>
              </a:prstGeom>
              <a:noFill/>
              <a:ln w="2556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About Iraq, I think…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619280" y="981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film or sports star is asked to comment on a “hot topic”, do their opinions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79280" y="0"/>
            <a:ext cx="353880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65640" cy="40384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826920" y="404640"/>
            <a:ext cx="6858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ntegrating skil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14600" y="2286000"/>
            <a:ext cx="380988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10552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V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620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t/host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49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35640" y="1700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iewer/interview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6292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29000" y="3147840"/>
            <a:ext cx="228600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news &amp; med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419640" y="32846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52280" y="1012680"/>
            <a:ext cx="8839440" cy="44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Read the two reports carefully and discuss these ques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are the repor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o do you think wrote each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do you think are facts and what are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would be a good headline for each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pictures would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69840" y="533520"/>
          <a:ext cx="9074160" cy="5200560"/>
        </p:xfrm>
        <a:graphic>
          <a:graphicData uri="http://schemas.openxmlformats.org/drawingml/2006/table">
            <a:tbl>
              <a:tblPr/>
              <a:tblGrid>
                <a:gridCol w="6939000"/>
                <a:gridCol w="213516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mall group of fewer than a hundre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d problem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uccessful company”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ude and noisy group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it difficult for workers” “troublemakers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peacefully … but a few of them fou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685800"/>
          <a:ext cx="8964720" cy="5200560"/>
        </p:xfrm>
        <a:graphic>
          <a:graphicData uri="http://schemas.openxmlformats.org/drawingml/2006/table">
            <a:tbl>
              <a:tblPr/>
              <a:tblGrid>
                <a:gridCol w="2111400"/>
                <a:gridCol w="68533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ninet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ng citizen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their voices hear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y’s worst pollut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izens … love nature and our planet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ed to workers …a positive messa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st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 men armed with stick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89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(to)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09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 faced with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临；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up to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对；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the music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受（不愉快的后果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96200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44766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faced with a ne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uldn’t face up to the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was caught cheating in the examination and had to face th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89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面对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09480" y="386712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5228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anguage point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Injure Vt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使）受伤，损害，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1905120"/>
            <a:ext cx="7467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quake killed 2000 people and injured 3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badly injured in the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jured were taken t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I didn’t injure 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refusal injured his p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720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re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仅仅；不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常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imply, ju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起用加强语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7086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brary is more than just a place where books ar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more than 100 people at the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more than willing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n jump no more tha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more like a writer than an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1" dur="5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304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nform Vt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知，告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40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form sb of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1430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162864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informed her mother of her safe arr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eturned and informed us of their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informed that a big fire had broken out in the next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etter informed us how and when he was expected to arrive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e been informed of his father’s de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0" dur="20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ithou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Arial"/>
              </a:rPr>
              <a:t>毫不劲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143000" y="8380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it without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16765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523880"/>
            <a:ext cx="4038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213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3733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rea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3733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关于……的文章；获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43434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45720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bout the accident in the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s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（内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765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 good article in today’s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57200" y="152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suffer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76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苦于……； 患……的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7621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ften suffer from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1371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aw atten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1219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对……加以注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把注意力吸引到……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/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3623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919240"/>
            <a:ext cx="8686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rew attention to the rising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uld pay attention to the experi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evoted much attention to training new teac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must call your attention to the air pol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turned her attention to improve her Engli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fix your attention on / upon what the teacher is say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6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ad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30492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be / become / get addi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1970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dr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came addicted to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look u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尊敬，钦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4800600"/>
            <a:ext cx="71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boys usually look up to great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a fine chap. I’ve always looked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look up to him as an example of devotion to d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4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4" dur="2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8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371600" y="1143000"/>
            <a:ext cx="5486400" cy="4495680"/>
            <a:chOff x="1371600" y="1143000"/>
            <a:chExt cx="5486400" cy="449568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371600" y="11430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320040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371600" y="380880"/>
            <a:ext cx="594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ffair, business, matter &amp; event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371600"/>
            <a:ext cx="85341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affai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常事务或国家事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affairs of state/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busines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商务或正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vel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matte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麻烦事；常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’s the matter with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even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所长指国内外的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cover events in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1752480"/>
            <a:ext cx="3429000" cy="3657600"/>
          </a:xfrm>
          <a:prstGeom prst="horizontalScroll">
            <a:avLst>
              <a:gd name="adj" fmla="val 12500"/>
            </a:avLst>
          </a:prstGeom>
          <a:solidFill>
            <a:srgbClr val="8fc7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t’s none of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Mind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6" dur="2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1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04920" y="152280"/>
            <a:ext cx="8762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jure, wound, hurt, harm, destroy &amp; damage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838080"/>
            <a:ext cx="899172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injur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意外事故造成的伤害，可能危及功能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wound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刀、枪、剑伤或战场上受伤。也指对感情的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urt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精神上或肉体上的“创伤”“伤害”，作不及物动词，意为“疼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arm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指伤害有生命的东西，常指伤及一个人的健康、权利、事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amage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指对价值和功能的破坏，多用于无生命的东西，一般还可以修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estroy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通过某种有力的或粗暴的手段使之毁灭或无用。一般不能或很难修复。有时可用作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6095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inj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6095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77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6" dur="77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8" dur="77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0" dur="77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06" dur="2000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1" dur="200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28600" y="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3352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Experienc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ors and reporters mak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infor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cisions about what events to repor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asked two of China’s many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ale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urnalists to tell us more about news and newspap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the interview, the reporter must present the material in an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organis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n wrote about the efforts to bring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stolen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al relics back to ch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want to write about peopl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addi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ru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V programmes an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pri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ticles help people in other countries learn about China and the Chines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edia can often help solve problems and draw attentions to situations where help is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 nee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lead to a future world where people from all countries are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resp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different views and opinions ar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olera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0880" y="13986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brought som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pain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ch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rybody attended the meeting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held last week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’s one of those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 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365760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osition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79728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st participle, before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after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past participle after “something”, “anything”, “those”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228600"/>
            <a:ext cx="7696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Attribut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77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0" dur="77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4" dur="77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7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228600"/>
            <a:ext cx="1676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9144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reporter begins by contacting the peopl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to be interview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then prepares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ost of the artist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to the party were from South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d you see the boy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eing question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he pol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114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分词作定语表示一个完成的被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分词被动式作定语表示一个正在进行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式的被动式作定语表示一个将来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2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77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8" dur="77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2" dur="77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2286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Predicativ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looks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orri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our article is well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ritt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y hav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engaged five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2280" y="29718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310680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i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wa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om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58964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作表语的过去分词，被动意味很弱，主要表示动作的完成和状态，此时相当于一个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动语态的过去分词，动作意味很强，句子主语为动作的承受者，后常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28600" y="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io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09480"/>
            <a:ext cx="9144000" cy="61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the sentences using the right form of the given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had nothing to do. I was __________ (bore) and lon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Jack looked even more _______ (amaze) than he f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results were very _____________ (disappoi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was thanked by the _____________ (satisfy)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irl ___________ (dress) in red is my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st Monday our class went on an ____________ (organise)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1600200"/>
            <a:ext cx="182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2529000"/>
            <a:ext cx="19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ama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243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isappo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038480"/>
            <a:ext cx="213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2210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5638680"/>
            <a:ext cx="2362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6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676520" y="2514600"/>
            <a:ext cx="57909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cap="sq"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End</a:t>
            </a:r>
            <a:endParaRPr b="1" lang="en-US" sz="6600" spc="1" strike="noStrike">
              <a:ln cap="sq"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Y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519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191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42670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24000" y="333360"/>
            <a:ext cx="38098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mparison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9280" y="189000"/>
          <a:ext cx="8785440" cy="633708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3130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1403280" y="2421000"/>
            <a:ext cx="64008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What is the most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reliable?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32:30Z</dcterms:created>
  <dc:creator> </dc:creator>
  <dc:description/>
  <dc:language>en-US</dc:language>
  <cp:lastModifiedBy>tianghong</cp:lastModifiedBy>
  <dcterms:modified xsi:type="dcterms:W3CDTF">2004-09-23T00:08:56Z</dcterms:modified>
  <cp:revision>14</cp:revision>
  <dc:subject/>
  <dc:title>幻灯片 1</dc:title>
</cp:coreProperties>
</file>