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B07-EC5A-4D17-8C7D-B4AA12FB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535-B05A-438C-AAED-5AD315A7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FC2-5F73-4067-961F-B1A2021E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3D0-21BA-4B38-B73E-1321345F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D02D-7008-4532-A133-8D96FD5A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D27D-F9C2-498C-B4DE-44699B97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B6D3-96F0-4175-B13E-63D9129F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02F6-4C8F-4AF7-9E4C-38CE47B5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EE09-9ADE-4822-A615-3ED36464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40E0-A7B8-490C-AD09-C3C07939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C47C-0C30-476B-827C-EC0BEED7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B11-FC46-4EA2-A572-2F7036AC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382A-76D4-4973-8251-40B96F23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F629-3116-48ED-B9D6-6FF77549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0396-43E7-4CEA-B8A0-5969E6F4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1819-45A6-49B3-981A-16A018D4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72C5-EB89-47C1-8D95-10BE7AAD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C4F-14A0-4E9F-AD16-A4F0B16A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EC3-6AA7-42F4-A3EC-CAFB33FE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FD9-2BE1-450B-9AF8-056A2B15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598-C41A-4FCF-B543-8BDDA362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1A5-13C8-49F0-A349-782D3CBE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08E-E35B-4614-ADA4-5F02D7D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FA0-B14A-4C21-80DA-54285791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0622-E9B0-4CCB-89CB-89D55DDE5A5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2959-CE49-4CF6-BA6D-B79F03597A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Monotype Corsiva"/>
              </a:rPr>
              <a:t>UNIT 9  REVI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Book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8280" y="1447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played basketball the day before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going to play basketball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playing basketball n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cnimg_net_001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05740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1523880"/>
            <a:ext cx="5410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day before 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1760" y="297180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mor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3962520"/>
            <a:ext cx="974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3200" y="20570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danced yesterday ev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often da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95480" y="1904760"/>
            <a:ext cx="3810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terday ev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cnimg_net_03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8288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22680" y="311292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19520" y="1676160"/>
            <a:ext cx="5867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drew a picture 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cnimg_net_03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1600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86200" y="1676160"/>
            <a:ext cx="4952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years ago, 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g,Work,  in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cle Wang worked in China two years a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nimg_net_09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89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66ff"/>
                </a:solidFill>
                <a:latin typeface="Times New Roman"/>
              </a:rPr>
              <a:t>Let’s do exercises togeth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写出下列单词的过去式形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e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d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g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948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n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cam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a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lp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a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kne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ar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di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nt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answ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work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go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mov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按要求改变句子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 September 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 Ch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变为否定句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———————————————————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 Fang went to school on fo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st Mond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d in Chin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r about ten yea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0520" y="1447560"/>
            <a:ext cx="9068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ere you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n’t do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id Wei Fang go to school on fo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did they live in Chi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用所给动词的正确形式填空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64124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______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)your sister bor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you enjoy _______(live) with 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(watch) TV just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___(watch) TV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cy ________(play) games with Tom sometim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 you ______ (live) in China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08760" y="2085840"/>
            <a:ext cx="12502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3680" y="1447920"/>
            <a:ext cx="10551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8280" y="2743200"/>
            <a:ext cx="17074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tc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429000"/>
            <a:ext cx="22791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s watc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53960" y="4143240"/>
            <a:ext cx="1149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7720" y="5486400"/>
            <a:ext cx="870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560" y="5410080"/>
            <a:ext cx="869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66"/>
                </a:solidFill>
                <a:latin typeface="Comic Sans MS"/>
              </a:rPr>
              <a:t>THE END</a:t>
            </a:r>
            <a:r>
              <a:rPr b="0" lang="en-US" sz="66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9900"/>
                </a:solidFill>
                <a:latin typeface="Monotype Corsiva"/>
              </a:rPr>
              <a:t>Thanks very much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76720" y="304920"/>
            <a:ext cx="5410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n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/o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re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2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was he born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as born on May 18, 199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4648320" cy="1905120"/>
          </a:xfrm>
          <a:prstGeom prst="wedgeEllipseCallout">
            <a:avLst>
              <a:gd name="adj1" fmla="val 44601"/>
              <a:gd name="adj2" fmla="val 59749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ame: T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Birthday:  1999,5,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4266720"/>
            <a:ext cx="7543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was born in Beijing .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45716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en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e was born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ptember 10,199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0"/>
            <a:ext cx="4343400" cy="2057400"/>
          </a:xfrm>
          <a:prstGeom prst="wedgeEllipseCallout">
            <a:avLst>
              <a:gd name="adj1" fmla="val 57199"/>
              <a:gd name="adj2" fmla="val 49074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     Lu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thday: 1999,9,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here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he was born in New York. (America/ the US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4038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When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She was born on October 29, 2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33520"/>
            <a:ext cx="4495680" cy="2209680"/>
          </a:xfrm>
          <a:prstGeom prst="wedgeEllipseCallout">
            <a:avLst>
              <a:gd name="adj1" fmla="val -46750"/>
              <a:gd name="adj2" fmla="val 29384"/>
            </a:avLst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rthd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, 10,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94920" y="3809880"/>
            <a:ext cx="617220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e was born in Japa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066680" y="0"/>
            <a:ext cx="7239240" cy="4952880"/>
            <a:chOff x="1066680" y="0"/>
            <a:chExt cx="7239240" cy="4952880"/>
          </a:xfrm>
        </p:grpSpPr>
        <p:sp>
          <p:nvSpPr>
            <p:cNvPr id="107" name=""/>
            <p:cNvSpPr/>
            <p:nvPr/>
          </p:nvSpPr>
          <p:spPr>
            <a:xfrm>
              <a:off x="1066680" y="0"/>
              <a:ext cx="7239240" cy="4952880"/>
            </a:xfrm>
            <a:custGeom>
              <a:avLst/>
              <a:gdLst>
                <a:gd name="textAreaLeft" fmla="*/ 1652400 w 7239240"/>
                <a:gd name="textAreaRight" fmla="*/ 5586840 w 7239240"/>
                <a:gd name="textAreaTop" fmla="*/ 1130760 h 4952880"/>
                <a:gd name="textAreaBottom" fmla="*/ 3822120 h 495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4568"/>
                  </a:solidFill>
                  <a:latin typeface="Times New Roman"/>
                </a:rPr>
                <a:t>No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" name="cnimg_net_004" descr=""/>
            <p:cNvPicPr/>
            <p:nvPr/>
          </p:nvPicPr>
          <p:blipFill>
            <a:blip r:embed="rId1"/>
            <a:stretch/>
          </p:blipFill>
          <p:spPr>
            <a:xfrm>
              <a:off x="2971800" y="990720"/>
              <a:ext cx="36576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392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  didn’t sing yesterday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d he sing yesterday?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 ,he di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419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is singing 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 sang  yester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often sing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2209320"/>
            <a:ext cx="1295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160" y="33526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840" y="472428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11480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3:05:56Z</dcterms:created>
  <dc:creator>zlm</dc:creator>
  <dc:description/>
  <dc:language>en-US</dc:language>
  <cp:lastModifiedBy>dtyl</cp:lastModifiedBy>
  <dcterms:modified xsi:type="dcterms:W3CDTF">2004-05-12T12:21:46Z</dcterms:modified>
  <cp:revision>30</cp:revision>
  <dc:subject/>
  <dc:title>REVICE  UNIT 9</dc:title>
</cp:coreProperties>
</file>