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click.wav" ContentType="audio/x-wav"/>
  <Override PartName="/ppt/media/MTO_008.WAV" ContentType="audio/x-wav"/>
  <Override PartName="/ppt/media/image23.gif" ContentType="image/gif"/>
  <Override PartName="/ppt/media/image16.png" ContentType="image/png"/>
  <Override PartName="/ppt/media/image22.png" ContentType="image/png"/>
  <Override PartName="/ppt/media/image24.png" ContentType="image/png"/>
  <Override PartName="/ppt/media/image21.gif" ContentType="image/gif"/>
  <Override PartName="/ppt/media/image10.jpeg" ContentType="image/jpeg"/>
  <Override PartName="/ppt/media/image19.gif" ContentType="image/gif"/>
  <Override PartName="/ppt/media/image17.png" ContentType="image/png"/>
  <Override PartName="/ppt/media/image14.gif" ContentType="image/gif"/>
  <Override PartName="/ppt/media/image13.png" ContentType="image/png"/>
  <Override PartName="/ppt/media/image20.gif" ContentType="image/gif"/>
  <Override PartName="/ppt/media/image18.gif" ContentType="image/gif"/>
  <Override PartName="/ppt/media/arrow.wav" ContentType="audio/x-wav"/>
  <Override PartName="/ppt/media/image27.wmf" ContentType="image/x-wmf"/>
  <Override PartName="/ppt/media/image9.png" ContentType="image/png"/>
  <Override PartName="/ppt/media/image29.gif" ContentType="image/gif"/>
  <Override PartName="/ppt/media/image34.png" ContentType="image/png"/>
  <Override PartName="/ppt/media/image26.png" ContentType="image/png"/>
  <Override PartName="/ppt/media/MTO_014.WAV" ContentType="audio/x-wav"/>
  <Override PartName="/ppt/media/MTC_032.WAV" ContentType="audio/x-wav"/>
  <Override PartName="/ppt/media/breeze.wav" ContentType="audio/x-wav"/>
  <Override PartName="/ppt/media/image30.jpeg" ContentType="image/jpeg"/>
  <Override PartName="/ppt/media/image28.wmf" ContentType="image/x-wmf"/>
  <Override PartName="/ppt/media/image3.jpeg" ContentType="image/jpeg"/>
  <Override PartName="/ppt/media/image12.gif" ContentType="image/gif"/>
  <Override PartName="/ppt/media/image32.png" ContentType="image/png"/>
  <Override PartName="/ppt/media/image1.jpeg" ContentType="image/jpeg"/>
  <Override PartName="/ppt/media/image11.png" ContentType="image/png"/>
  <Override PartName="/ppt/media/coin.wav" ContentType="audio/x-wav"/>
  <Override PartName="/ppt/media/image33.png" ContentType="image/png"/>
  <Override PartName="/ppt/media/image8.png" ContentType="image/png"/>
  <Override PartName="/ppt/media/MTP_040.WAV" ContentType="audio/x-wav"/>
  <Override PartName="/ppt/media/chimes.wav" ContentType="audio/x-wav"/>
  <Override PartName="/ppt/media/image31.wmf" ContentType="image/x-wmf"/>
  <Override PartName="/ppt/media/image7.jpeg" ContentType="image/jpeg"/>
  <Override PartName="/ppt/media/image6.jpeg" ContentType="image/jpeg"/>
  <Override PartName="/ppt/media/type.wav" ContentType="audio/x-wav"/>
  <Override PartName="/ppt/media/image25.gif" ContentType="image/gif"/>
  <Override PartName="/ppt/media/image15.gif" ContentType="image/gif"/>
  <Override PartName="/ppt/media/image5.jpeg" ContentType="image/jpeg"/>
  <Override PartName="/ppt/media/image4.jpeg" ContentType="image/jpeg"/>
  <Override PartName="/ppt/media/image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4709-1B9F-4636-BDE4-C2D8B8A27A2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ice to meet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esson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FEAD-C9E1-4A42-9DB0-88467256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945-1A24-48F0-BB56-A8A4C960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4A581-7791-48D8-8C04-63C9F518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18AC4-52CA-49E3-81F6-D97C9F89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1CD65-4A7C-4A0D-B1B7-5C097954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26B58-603F-47C4-BE1F-90B42406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10318-60A2-477D-9FD3-70F67A4D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8FBBC-8DB3-4C1B-8F13-F5798213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0A4D4-F68B-4075-A8FE-9695B853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BE88D-8231-4F2B-A40B-7390334B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C93D7-603A-4292-B0E4-836DABC8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AA113-F1EB-41E4-A32D-69588A84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F3D1-E5B8-4023-AA20-983A388D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E48E3-C53F-4772-8709-7B63F2B7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E6998-88AA-459D-973A-EEA6CFFE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F739D-269C-4AD9-87DE-53E821D0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D11F2-D87D-4C31-85D5-69012893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07E41-D99B-492F-841B-839ED650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B8C73-7BA7-4D2E-BA71-C75FFE67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91711-7A6D-49C3-8EC4-B09E9387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88913-B017-4F17-BBA5-5C5D2B07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9FF49-C3F7-4C1E-966D-4E6E2573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7D75A-8827-481C-9E6E-CB3D0DA9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8F6-9553-4930-83B6-F7794330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BE14B-31EB-47EF-8CBC-5FD0632A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13C3A-C9E3-4445-8967-48C2199B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93718-F8F8-47D4-AEDE-57EE7DBD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D2870-0491-4099-A606-B49DAE3E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B6ADD-8702-42A7-9B53-29C6D1BD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66C74-844A-46DD-AC18-AF52A3DB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F12A5-D0D5-4ABE-94CF-4471F61E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9778A-F824-4B6C-BC23-E4EAB283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682D9-D0D6-4D83-8E6F-9833D3F4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CE458-46CC-480A-A293-B6D94456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8F19-3CA5-43BF-92D6-B421F538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C14AA-E3F9-4F52-8522-22F9CFE7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202ED-E693-47D1-8D5C-0734825E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DE397-DA83-4039-B5F2-D104CFCA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1DD8-7A89-4295-9D63-070615E7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FB1C-24EF-4AA3-A0F8-CADCED28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0ACB-1A5B-459B-B481-C7B33ECF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16CB-C9F6-4935-A5F1-3A8A2B52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3E65-3EB5-4753-8B33-CF056AFA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AF4A-D6DE-450E-B73A-03170457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3626-B634-452E-A2CD-ABCB9C9B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264F-90F7-491D-891E-762ADB8B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EF71-3192-4213-BD98-D65F4FB6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8208-FB27-4007-9A13-4A8D73D5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3048-B452-4620-A995-5EBEB232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CA82-731E-4C82-9879-F0AF4EB6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277B2-6D3E-4DB4-B2F1-4C1698E9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C817D-088E-4AB7-8B56-14EB5A87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A1EE8-4999-45AB-82D1-BB3C6AD9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41B1C-9C5E-41CF-8C37-15B381CC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914A-52D3-49EA-AC34-B5E5D29D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9A03-60D9-45DD-A8D7-8CF76808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DEC40-70DB-4345-8C1E-1630CBB4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4C4BA-AF93-4CE4-B0D5-BB9ADDE9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24332-C2FE-4936-8BD9-91CBC348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72FFE-1BA6-47C6-A462-FD1869FD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EB0FE-C8C0-48FB-BAF8-4B6BD134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FF9DE-1D6B-45FA-8F02-526208D4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39062-8065-45D7-B4C5-656D1125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FBA50-A5B5-4E3F-A667-FDD03DC3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8355B-E2FC-4141-B026-AA261F26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54060-23EF-4696-BC2E-3AF65704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4408-8769-4070-B87A-E1B58C25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657DA-8105-4854-81C3-6DA70308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605A8-E020-4FCE-9127-BDA72420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DB292-DD6D-4CD5-B165-518F9522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8EB2A-ED94-4FB3-8065-B52CE7B0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DC98B-02C0-4F3B-AC38-213DD613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335E0-B4DE-4A95-96B1-B2F67622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0505B-7394-4BE3-AC07-3923946E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84421-A4EB-43BF-8B0B-3E75C050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999E4-8561-45B9-97BA-AFDF1198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E6C63-41D9-4279-A737-E64E229F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ACF-5B2F-4143-A2E4-049B2E11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82AC6-6D05-453E-870C-BC543BD3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BFD26-CCA6-408F-A2DF-EB5D0372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090CF-CD29-4662-91D7-89A1F562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8AB4C-5E36-4ADD-8363-8734BF32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FDF97-1CFE-46B2-99F4-46EBA374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46C00-57A0-45F1-9412-C72806E5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C04D6-DDD8-482A-B1F5-47FF8FBE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7CDFE-136D-4EC5-AA8C-37889F3E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46DCB-5891-417E-A1EC-CE526545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D2442-CFE9-461E-A03F-B9197856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E008-0B8B-4CBB-AC45-8D94CDBB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18502-13FE-475C-8F21-DA887659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3A8BC-C393-45D1-88E5-D89C8E4A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42514-4BA0-4B5E-A60B-5F5AB159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D4D84-F6BF-4ADC-92E5-879FC7DA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A57F3-A4D2-457E-BB8F-CE989946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3DF8C-EDAF-49CE-B437-8E1DE52C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81278-99EF-468C-9F02-707F1B6D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B96D9-A1E7-4E1E-A3E3-3602AD6D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4C3BC-F726-43D2-BD78-8C6EBACD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C1DDD-84E6-4910-99CA-0CB80111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15C2-7E1B-4A00-8CD8-7351CFAE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25E5B-AD81-42DA-9401-E9965987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5291F-A2A5-4B77-87C3-9010F9B8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B3741-69BE-43CB-82E2-4CB75491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1ED3A-B11E-4F11-83A1-1B65CEE6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E380B-2939-4F17-972E-1B2EBD77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9849C-311C-478D-BEA6-A10A04AC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73178-FD34-43D5-95D3-810A5EEA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FD774-8533-43E1-A762-0ED8EBF7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78E5F-895E-4346-BFD8-5BC65790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4F20D-14DB-4B47-A5FB-40E611FD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2A2-8AA6-427C-9513-DCCD3553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0DA38-6A57-440C-893E-DCD2C47E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A5715-3521-4183-8F41-FEF257B3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B14E8-7BC6-45FD-91E5-CB4834F7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478A4-AD49-48C3-B332-D4428316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43A5A-100D-41D9-859D-38106A8B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F9B06-E26F-4FE9-AC5D-9BF053D9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650ED-3980-456D-8FD0-287B797A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C112E-CABE-4B32-A7DF-FB5AC21F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FAEAF-60ED-489E-8FCB-A949C0F1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7B262-D0F1-4560-9E61-FE7291DC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DDC0-C854-479D-8B38-7D20B2CD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06709-E5F0-4DDE-BC86-EE410D60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2005B-7B44-46BD-AD41-1BE0530C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EF1E4-7352-4058-86DE-7E69E839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96C13-022E-41FE-B2EE-41531B12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25866-164E-48D3-98FA-10BE0A7A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EA43C-A063-4A6D-98AC-A5A1AB93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3E633-91BC-4BD0-B93A-174DE895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442D6-1469-4BDD-A445-4474F790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1032C-F334-4BE4-B90A-70090E66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A30FD-9302-4016-9611-A6DEA794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EC1A-F69B-4B6B-B74D-1052222E48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BDF1-48EF-40CD-BB59-4F8B6DF8362E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929D-25FD-49BF-B84E-547ED23F02B3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60E3-609E-4C64-A681-19B3BA9BA2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7FAF-E2CF-40B7-8AD7-E567B4E8F8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2334-8D9C-4A23-B6E3-92E7AF511A62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537E-61F8-43D3-8D3A-74D0F246E15A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C11F-4E35-4B5A-88E0-7B08201DC1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9EA2-61B7-4805-A943-8BF5F58F88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577F-B8B8-4C90-99A0-08C033B482B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3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3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3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E872-3E0F-4636-B42B-4C1EA697F2E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audio" Target="../media/MTO_014.WAV"/><Relationship Id="rId5" Type="http://schemas.openxmlformats.org/officeDocument/2006/relationships/slideLayout" Target="../slideLayouts/slideLayout6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audio" Target="../media/click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6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TC_032.WAV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gif"/><Relationship Id="rId3" Type="http://schemas.openxmlformats.org/officeDocument/2006/relationships/audio" Target="../media/MTP_040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coin.wav"/><Relationship Id="rId10" Type="http://schemas.openxmlformats.org/officeDocument/2006/relationships/audio" Target="../media/coin.wav"/><Relationship Id="rId11" Type="http://schemas.openxmlformats.org/officeDocument/2006/relationships/audio" Target="../media/coin.wav"/><Relationship Id="rId12" Type="http://schemas.openxmlformats.org/officeDocument/2006/relationships/audio" Target="../media/coin.wav"/><Relationship Id="rId1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2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" Target="slide7.xml"/><Relationship Id="rId9" Type="http://schemas.openxmlformats.org/officeDocument/2006/relationships/image" Target="../media/image18.gif"/><Relationship Id="rId10" Type="http://schemas.openxmlformats.org/officeDocument/2006/relationships/slide" Target="slide8.xml"/><Relationship Id="rId11" Type="http://schemas.openxmlformats.org/officeDocument/2006/relationships/image" Target="../media/image19.gif"/><Relationship Id="rId12" Type="http://schemas.openxmlformats.org/officeDocument/2006/relationships/slide" Target="slide9.xml"/><Relationship Id="rId13" Type="http://schemas.openxmlformats.org/officeDocument/2006/relationships/image" Target="../media/image20.gif"/><Relationship Id="rId14" Type="http://schemas.openxmlformats.org/officeDocument/2006/relationships/slide" Target="slide10.xml"/><Relationship Id="rId15" Type="http://schemas.openxmlformats.org/officeDocument/2006/relationships/image" Target="../media/image21.gif"/><Relationship Id="rId1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6.xml"/><Relationship Id="rId3" Type="http://schemas.openxmlformats.org/officeDocument/2006/relationships/image" Target="../media/image23.gi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" Target="slide6.xml"/><Relationship Id="rId4" Type="http://schemas.openxmlformats.org/officeDocument/2006/relationships/image" Target="../media/image23.gif"/><Relationship Id="rId5" Type="http://schemas.openxmlformats.org/officeDocument/2006/relationships/audio" Target="../media/MTO_008.WAV"/><Relationship Id="rId6" Type="http://schemas.openxmlformats.org/officeDocument/2006/relationships/audio" Target="../media/MTO_008.WAV"/><Relationship Id="rId7" Type="http://schemas.openxmlformats.org/officeDocument/2006/relationships/audio" Target="../media/MTO_008.WAV"/><Relationship Id="rId8" Type="http://schemas.openxmlformats.org/officeDocument/2006/relationships/audio" Target="../media/MTO_008.WAV"/><Relationship Id="rId9" Type="http://schemas.openxmlformats.org/officeDocument/2006/relationships/audio" Target="../media/MTO_008.WAV"/><Relationship Id="rId10" Type="http://schemas.openxmlformats.org/officeDocument/2006/relationships/audio" Target="../media/MTO_008.WAV"/><Relationship Id="rId11" Type="http://schemas.openxmlformats.org/officeDocument/2006/relationships/audio" Target="../media/MTO_008.WAV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6.xml"/><Relationship Id="rId3" Type="http://schemas.openxmlformats.org/officeDocument/2006/relationships/image" Target="../media/image23.gif"/><Relationship Id="rId4" Type="http://schemas.openxmlformats.org/officeDocument/2006/relationships/audio" Target="../media/MTO_008.WAV"/><Relationship Id="rId5" Type="http://schemas.openxmlformats.org/officeDocument/2006/relationships/audio" Target="../media/MTO_008.WAV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 rot="21240000">
            <a:off x="761760" y="2274840"/>
            <a:ext cx="7272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ranti Solid LET"/>
              </a:rPr>
              <a:t>Nice to meet you!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ranti Solid LET"/>
              <a:ea typeface="Tiranti Solid LE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301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3527640" cy="446544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292360" y="1628280"/>
            <a:ext cx="222084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220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1974.2.4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25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500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11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300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70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4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332000" y="476280"/>
            <a:ext cx="576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cap="rnd" w="1260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 LET"/>
              </a:rPr>
              <a:t> </a:t>
            </a:r>
            <a:r>
              <a:rPr b="1" i="1" lang="en-US" sz="4000" spc="1" strike="noStrike">
                <a:ln cap="rnd" w="1260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 LET"/>
              </a:rPr>
              <a:t>Listen and think</a:t>
            </a:r>
            <a:endParaRPr b="1" i="1" lang="en-US" sz="4000" spc="1" strike="noStrike">
              <a:ln cap="rnd" w="1260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 LET"/>
              <a:ea typeface="Jokerman LET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7380360" y="3284640"/>
            <a:ext cx="119700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6" dur="1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Highlight LET"/>
                <a:ea typeface="GungsuhChe"/>
              </a:rPr>
              <a:t>What </a:t>
            </a:r>
            <a:r>
              <a:rPr b="1" lang="en-US" sz="6000" spc="-1" strike="noStrike">
                <a:solidFill>
                  <a:srgbClr val="cc3300"/>
                </a:solidFill>
                <a:latin typeface="Highlight LET"/>
              </a:rPr>
              <a:t>happened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419400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20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974.2.4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5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500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1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00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70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874800" cy="10814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959120" y="1503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392200" y="14940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935000" y="1125360"/>
            <a:ext cx="40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to the Capital Building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169760" y="438120"/>
            <a:ext cx="71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Highlight LET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758600" y="1628640"/>
            <a:ext cx="64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re than 220 people were killed in the f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35640" y="242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211640" y="25653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25480" y="2133720"/>
            <a:ext cx="54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fire happened on Feb. 4th, 1974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6040" y="27082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Capital Building had 25 flo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651640" y="37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86600" y="3213000"/>
            <a:ext cx="68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 500 people were working in the buil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88400" y="37162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fire broke out on the 11th fl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89840" y="4221000"/>
            <a:ext cx="69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re than 300 people were trapped by the f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16760" y="47242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out 70 people escaped  in the  helicop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545480" y="53006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fire lasted about four 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3"/>
          <a:stretch/>
        </p:blipFill>
        <p:spPr>
          <a:xfrm>
            <a:off x="7524720" y="5373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6732720" y="5373720"/>
            <a:ext cx="730080" cy="7207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8244000" y="5373720"/>
            <a:ext cx="73008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86760" y="333360"/>
            <a:ext cx="8977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 February 4th, 1974, the Capital Building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west building in Sao Paulo, was destroyed in a big f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haps the fire was started by an electrical fire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_______ of one office on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loor. Soon the whol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ire. There wer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loors in the building. As it had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escapes, the 300 people who were trapp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re could not escape. Many of them climbed to the f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f the building. The helicopters came, but there wa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avy smoke that the helicopters were no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o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ose enough. Finally, about 70 people were_______ . 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 the streets, the firemen could not get close t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because crowds of people wer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he f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en they reached the building they found their lad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re not lon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o reach the peopl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were trapp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terrible fire last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our hours, and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st of the building an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ver 220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717080" y="57340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781440" y="53726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57080" y="5012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197080" y="501228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28360" y="429156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w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0200" y="42915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519600" y="357336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resc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805800" y="3211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461800" y="28515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80000" y="28515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ro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309440" y="213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in/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5080" y="213264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94160" y="1772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2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84360" y="177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86520" y="14119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11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51280" y="13402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ce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C_03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500"/>
                            </p:stCondLst>
                            <p:childTnLst>
                              <p:par>
                                <p:cTn id="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1332000" y="333360"/>
            <a:ext cx="540072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cap="rnd" w="9360">
                  <a:solidFill>
                    <a:srgbClr val="3333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Orange LET"/>
              </a:rPr>
              <a:t> </a:t>
            </a:r>
            <a:r>
              <a:rPr b="1" i="1" lang="en-US" sz="5400" spc="1" strike="noStrike">
                <a:ln cap="rnd" w="9360">
                  <a:solidFill>
                    <a:srgbClr val="3333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Orange LET"/>
              </a:rPr>
              <a:t>Let's talk</a:t>
            </a:r>
            <a:endParaRPr b="1" i="1" lang="en-US" sz="5400" spc="1" strike="noStrike">
              <a:ln cap="rnd" w="9360">
                <a:solidFill>
                  <a:srgbClr val="3333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Orange LET"/>
              <a:ea typeface="Orange LET"/>
            </a:endParaRPr>
          </a:p>
        </p:txBody>
      </p:sp>
      <p:sp>
        <p:nvSpPr>
          <p:cNvPr id="590" name=""/>
          <p:cNvSpPr/>
          <p:nvPr/>
        </p:nvSpPr>
        <p:spPr>
          <a:xfrm>
            <a:off x="574560" y="1773360"/>
            <a:ext cx="76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1. </a:t>
            </a:r>
            <a:r>
              <a:rPr b="1" i="1" lang="en-US" sz="3200" spc="-1" strike="noStrike">
                <a:solidFill>
                  <a:srgbClr val="800000"/>
                </a:solidFill>
                <a:latin typeface="Trebuchet MS"/>
              </a:rPr>
              <a:t>What do you think of Sao Paulo F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07320" y="2565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2. Would you like to be in such a fi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f not, what should we do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4320" y="3933720"/>
            <a:ext cx="76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3. If a fire broke out in your h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what should you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324000" y="4797360"/>
            <a:ext cx="3887640" cy="153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P_04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1" dur="1" fill="hold"/>
                                  <p:tgtEl>
                                    <p:spTgt spid="5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541080" y="620640"/>
            <a:ext cx="8279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Knowing what to do in case of fire is v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important. If a fire broke out in your home,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what would you do? First, you should warn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everyone in the house about the danger. Don’t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be too afraid and start crying. Be calm and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act fast. Second, you and all the others shoul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get out of the house. Don’t stop to take belong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ings  with you. Once you are out of the house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stay out. Do not go back for any reason. Finall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when you are out of the house, call the fire-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fighters. Don’t try to put out the fire yourself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That can be very dangerous.</a:t>
            </a:r>
            <a:r>
              <a:rPr b="1" i="1" lang="zh-CN" sz="2800" spc="-1" strike="noStrike">
                <a:solidFill>
                  <a:srgbClr val="a9bda9"/>
                </a:solidFill>
                <a:latin typeface="Comic Sans MS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8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3635280" y="3429000"/>
            <a:ext cx="1565280" cy="18972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2633760" y="404640"/>
            <a:ext cx="32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cc"/>
                </a:solidFill>
                <a:latin typeface="Arial Black"/>
                <a:ea typeface="GungsuhChe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173480" y="746280"/>
            <a:ext cx="8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78600" y="1989000"/>
            <a:ext cx="797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1.Two hundred and twenty were kill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the Sao Paulo Fire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78240" y="1988280"/>
            <a:ext cx="738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2.The building was not finished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the fire broke out.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19680" y="1987920"/>
            <a:ext cx="862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3. All the offices were completely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except  those below the 11th floor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35320" y="1927080"/>
            <a:ext cx="747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4. Only the firemen knew how the f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had started.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34600" y="1988280"/>
            <a:ext cx="774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5. At first, it was possible for the off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workers to put out the fire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34960" y="1988280"/>
            <a:ext cx="801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6. Below the 11th floor people were 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to escape into the street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6600" y="2059560"/>
            <a:ext cx="88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7. The people above the 11th floor w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trapped because there were no fire escapes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1880" y="1927080"/>
            <a:ext cx="817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8. It was difficult for the firefighters to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close to the building because the sm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from the fire was too thick.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63680" y="2059560"/>
            <a:ext cx="788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10. Four hours after the fire started,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firemen still couldn’t control it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90600" y="1987920"/>
            <a:ext cx="810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9. The  ladders the firefighters had ta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with  them were not long enough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9" dur="1" fill="hold"/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352880" y="765000"/>
            <a:ext cx="312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Comic Sans MS"/>
              </a:rPr>
              <a:t>Prac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403280" y="213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26920" y="1773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Arial"/>
              </a:rPr>
              <a:t>Match the words and meanings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84720" y="31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-674640" y="2637000"/>
            <a:ext cx="407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1. ce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2. resc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3. roof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4. firefi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5. esca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6. lose one’s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7. belong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8.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124800" y="4075560"/>
            <a:ext cx="63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E. a person whose work is to put out fire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098520" y="3715200"/>
            <a:ext cx="58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D. die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119400" y="3356640"/>
            <a:ext cx="56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C. the inside top of a house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130920" y="2996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B. to get away from a dangerous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125520" y="2635920"/>
            <a:ext cx="55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A. the top of the outside of a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31280" y="4508640"/>
            <a:ext cx="47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F. to make sb. safe from d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135960" y="5229360"/>
            <a:ext cx="46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H. the things that belong to s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050920" y="2924280"/>
            <a:ext cx="1152720" cy="6490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050920" y="3284640"/>
            <a:ext cx="1152720" cy="14396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692360" y="2852280"/>
            <a:ext cx="1511280" cy="792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340000" y="4005360"/>
            <a:ext cx="936720" cy="360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2124000" y="3284640"/>
            <a:ext cx="1079640" cy="1009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2987640" y="4005000"/>
            <a:ext cx="216000" cy="7189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556000" y="5084640"/>
            <a:ext cx="647640" cy="360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130920" y="48690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G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268360" y="5084280"/>
            <a:ext cx="935280" cy="360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352880" y="765000"/>
            <a:ext cx="312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Comic Sans MS"/>
              </a:rPr>
              <a:t>Prac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27640" y="198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11280" y="1125360"/>
            <a:ext cx="6480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                            </a:t>
            </a:r>
            <a:r>
              <a:rPr b="1" i="1" lang="en-US" sz="2800" spc="-1" strike="noStrike">
                <a:solidFill>
                  <a:srgbClr val="6600cc"/>
                </a:solidFill>
                <a:latin typeface="Arial"/>
              </a:rPr>
              <a:t>Transl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Arial"/>
              </a:rPr>
              <a:t>the following phrases into English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130760" y="28526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着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517200" y="2852640"/>
            <a:ext cx="33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关煤气           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当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571760" y="3519360"/>
            <a:ext cx="56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4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不要紧      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5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要是那样的话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6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扑灭</a:t>
            </a:r>
            <a:r>
              <a:rPr b="1" i="1" lang="zh-CN" sz="2400" spc="-1" strike="noStrike">
                <a:solidFill>
                  <a:srgbClr val="6600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399320" y="4221000"/>
            <a:ext cx="63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7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属于          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8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牺牲              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9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靠近火</a:t>
            </a:r>
            <a:r>
              <a:rPr b="1" i="1" lang="zh-CN" sz="2400" spc="-1" strike="noStrike">
                <a:solidFill>
                  <a:srgbClr val="001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988200" y="48690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10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火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657440" y="6397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11280" y="0"/>
            <a:ext cx="511308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cap="rnd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Writing</a:t>
            </a:r>
            <a:endParaRPr b="1" i="1" lang="en-US" sz="4400" spc="1" strike="noStrike">
              <a:ln cap="rnd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39" name=""/>
          <p:cNvSpPr/>
          <p:nvPr/>
        </p:nvSpPr>
        <p:spPr>
          <a:xfrm>
            <a:off x="868320" y="1457280"/>
            <a:ext cx="706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Write a few sentences about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big fire in Sao Paulo with th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words given to you:</a:t>
            </a:r>
            <a:r>
              <a:rPr b="1" lang="en-US" sz="3200" spc="-1" strike="noStrike">
                <a:solidFill>
                  <a:srgbClr val="320032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429560" y="3102120"/>
            <a:ext cx="39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catch fire;   destr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698800" y="3094200"/>
            <a:ext cx="11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tra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963360" y="3741840"/>
            <a:ext cx="27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heavy smo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902040" y="374184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l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10360" y="3741840"/>
            <a:ext cx="155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resc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062360" y="438948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firefight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55680" y="436572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put out</a:t>
            </a:r>
            <a:r>
              <a:rPr b="1" i="1" lang="en-US" sz="2800" spc="-1" strike="noStrike">
                <a:solidFill>
                  <a:srgbClr val="320032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 rot="20820000">
            <a:off x="3354120" y="4707000"/>
            <a:ext cx="47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6600cc"/>
                </a:solidFill>
                <a:latin typeface="Tiranti Solid LET"/>
                <a:ea typeface="方正舒体"/>
              </a:rPr>
              <a:t>Homewor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392200" y="69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-150840" y="476280"/>
            <a:ext cx="93488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根据下面资料完成</a:t>
            </a: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80</a:t>
            </a: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字左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火灾报告</a:t>
            </a: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5856"/>
                </a:solidFill>
                <a:latin typeface="Arial"/>
              </a:rPr>
              <a:t>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856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时间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1995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日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856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地点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华北某市一大礼堂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(hall)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事故经过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一千名师生在礼堂开会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因礼堂电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起火造成火灾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人多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难以控制火情。大火持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约两个小时，整个礼堂遭焚毁。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伤亡情况：</a:t>
            </a:r>
            <a:r>
              <a:rPr b="1" lang="zh-CN" sz="3200" spc="-1" strike="noStrike">
                <a:solidFill>
                  <a:srgbClr val="005856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六十多人在火灾中丧生，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一百多人受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5651640" y="1557360"/>
            <a:ext cx="1152360" cy="144360"/>
          </a:xfrm>
          <a:custGeom>
            <a:avLst/>
            <a:gdLst>
              <a:gd name="textAreaLeft" fmla="*/ 384120 w 1152360"/>
              <a:gd name="textAreaRight" fmla="*/ 987120 w 1152360"/>
              <a:gd name="textAreaTop" fmla="*/ 83160 h 144360"/>
              <a:gd name="textAreaBottom" fmla="*/ 12384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907920"/>
            <a:ext cx="976320" cy="144720"/>
          </a:xfrm>
          <a:custGeom>
            <a:avLst/>
            <a:gdLst>
              <a:gd name="textAreaLeft" fmla="*/ 0 w 976320"/>
              <a:gd name="textAreaRight" fmla="*/ 976680 w 9763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25520" y="620640"/>
            <a:ext cx="8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taneo BT"/>
                <a:ea typeface="바탕"/>
              </a:rPr>
              <a:t>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29080" y="148428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taneo BT"/>
              </a:rPr>
              <a:t>ce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8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1947960" y="1916280"/>
            <a:ext cx="466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6600cc"/>
                </a:solidFill>
                <a:latin typeface="Milano LET"/>
              </a:rPr>
              <a:t>Goodby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56720" y="3216240"/>
            <a:ext cx="57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Milano LET"/>
              </a:rPr>
              <a:t>Thanks  f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Milano LET"/>
              </a:rPr>
              <a:t>your attending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8" repeatCount="indefinite">
                                  <p:stCondLst>
                                    <p:cond delay="6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7" dur="232019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1258920" y="404640"/>
            <a:ext cx="323856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icrosoft Sans Serif"/>
              </a:rPr>
              <a:t>Lesson 62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icrosoft Sans Serif"/>
              <a:ea typeface="Microsoft Sans Serif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1332000" y="2492280"/>
            <a:ext cx="6048360" cy="13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icrosoft Sans Serif"/>
              </a:rPr>
              <a:t>Sao Paulo Fire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icrosoft Sans Serif"/>
              <a:ea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a4e00"/>
                </a:solidFill>
                <a:latin typeface="Arial"/>
              </a:rPr>
              <a:t>Aims and dema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1. To know harm of fire to peopl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are able to describe it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2. To know the importance of preve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f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3. Vocabul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4 skills: completely, belong, belong to,       ceiling, put out, control, flat, roof, firefigh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close, get close to ,lose one’s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3 skills: escape, fire esc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755640" y="620640"/>
            <a:ext cx="7848720" cy="69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i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 of the buil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loors of the buil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re start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re lasted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son for the fi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sul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_________________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ere destroy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______________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ere k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________________________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ere also destro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4932360" y="260280"/>
            <a:ext cx="3743280" cy="9367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4859280" y="18900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903"/>
                </a:solidFill>
                <a:latin typeface="Verdana"/>
              </a:rPr>
              <a:t>Sao Paulo 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94880" y="6922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February 4th,19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03480" y="1289160"/>
            <a:ext cx="23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the Capital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977280" y="1865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040920" y="25131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the 11th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772720" y="31417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for 4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80360" y="36450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No one kn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105200" y="479736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All 25 floors of the building                                     comple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60000" y="5445000"/>
            <a:ext cx="25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More than 220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68400" y="6021360"/>
            <a:ext cx="47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Cars belonging to the people working i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4968720" cy="65246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 rot="21275400">
            <a:off x="4788000" y="0"/>
            <a:ext cx="2327040" cy="18446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5"/>
          <a:stretch/>
        </p:blipFill>
        <p:spPr>
          <a:xfrm>
            <a:off x="6659640" y="0"/>
            <a:ext cx="2303280" cy="13413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2347200" y="404640"/>
            <a:ext cx="52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Resc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38200" y="441360"/>
            <a:ext cx="719280" cy="71928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71640" y="4437000"/>
            <a:ext cx="3457440" cy="43200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        11th          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971640" y="2421000"/>
            <a:ext cx="3456000" cy="43164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        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6"/>
          <a:stretch/>
        </p:blipFill>
        <p:spPr>
          <a:xfrm>
            <a:off x="1403280" y="4869000"/>
            <a:ext cx="2592360" cy="16556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7"/>
          <a:stretch/>
        </p:blipFill>
        <p:spPr>
          <a:xfrm>
            <a:off x="1403280" y="2852640"/>
            <a:ext cx="2592360" cy="158436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5221080" y="4292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8360" y="2349360"/>
            <a:ext cx="718920" cy="935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125280 h 935280"/>
              <a:gd name="textAreaBottom" fmla="*/ 81000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156360" y="2276640"/>
            <a:ext cx="23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227640" y="1773360"/>
            <a:ext cx="2160720" cy="57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40360" y="2060640"/>
            <a:ext cx="2592360" cy="720720"/>
          </a:xfrm>
          <a:prstGeom prst="ellipse">
            <a:avLst/>
          </a:prstGeom>
          <a:solidFill>
            <a:srgbClr val="e1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Helico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588000" y="2276640"/>
            <a:ext cx="1584360" cy="86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940360" y="3141720"/>
            <a:ext cx="2592360" cy="720720"/>
          </a:xfrm>
          <a:prstGeom prst="ellipse">
            <a:avLst/>
          </a:prstGeom>
          <a:solidFill>
            <a:srgbClr val="e1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012000" y="4437000"/>
            <a:ext cx="2520720" cy="720720"/>
          </a:xfrm>
          <a:prstGeom prst="ellipse">
            <a:avLst/>
          </a:prstGeom>
          <a:solidFill>
            <a:srgbClr val="e1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Firefigh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084720" y="3357720"/>
            <a:ext cx="209880" cy="2095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6230520" y="321300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084720" y="234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156360" y="472428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740720" y="5734080"/>
            <a:ext cx="86364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e6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6732720" y="4437000"/>
            <a:ext cx="2190600" cy="21909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826920" y="549360"/>
            <a:ext cx="6266160" cy="4678200"/>
          </a:xfrm>
          <a:prstGeom prst="wedgeRoundRectCallout">
            <a:avLst>
              <a:gd name="adj1" fmla="val 49569"/>
              <a:gd name="adj2" fmla="val 61467"/>
              <a:gd name="adj3" fmla="val 16667"/>
            </a:avLst>
          </a:prstGeom>
          <a:solidFill>
            <a:srgbClr val="ffcc99"/>
          </a:solidFill>
          <a:ln cap="rnd" w="63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763640" y="1197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900000" y="836640"/>
            <a:ext cx="6224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low the 11th floor people   were able t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h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eet. However, more than 300 people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bove the fire. The building had no a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t all! They h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climb up to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f the building.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87640" y="126828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escape  int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342520" y="2276640"/>
            <a:ext cx="26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were   trappe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187640" y="32130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fire  esc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2000" y="6237360"/>
            <a:ext cx="216000" cy="172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4789080" y="378936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flat     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971640" y="1773360"/>
            <a:ext cx="7704000" cy="4248000"/>
          </a:xfrm>
          <a:prstGeom prst="wedgeRectCallout">
            <a:avLst>
              <a:gd name="adj1" fmla="val -42458"/>
              <a:gd name="adj2" fmla="val -62143"/>
            </a:avLst>
          </a:prstGeom>
          <a:solidFill>
            <a:srgbClr val="ffcc99"/>
          </a:solidFill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49960" cy="40482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527120" y="1720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042920" y="2205000"/>
            <a:ext cx="7554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 were sent t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he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, but the smoke  was to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eavy for us to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, we couldn’t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enough to the building unt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hours later. At last, we hel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70 peopl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he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934880" y="227664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resc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702880" y="270828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14160" y="314172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550640" y="318132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78880" y="37162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93800" y="422100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854520" y="4581360"/>
            <a:ext cx="22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escap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5734080"/>
            <a:ext cx="21564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24000" y="836640"/>
            <a:ext cx="7200720" cy="3887640"/>
          </a:xfrm>
          <a:prstGeom prst="wedgeEllipseCallout">
            <a:avLst>
              <a:gd name="adj1" fmla="val 35495"/>
              <a:gd name="adj2" fmla="val 70662"/>
            </a:avLst>
          </a:prstGeom>
          <a:solidFill>
            <a:srgbClr val="ffcc99"/>
          </a:solidFill>
          <a:ln cap="rnd" w="63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4800" y="1341360"/>
            <a:ext cx="7314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ny people were watc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fire in the street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 couldn’t get close to the buil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so, our ladders were not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ough to _____ the people 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re tra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911840" y="1432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05800" y="184464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so  tha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774160" y="33577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56360" y="5157720"/>
            <a:ext cx="216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8T14:35:23Z</dcterms:created>
  <dc:creator>young</dc:creator>
  <dc:description/>
  <dc:language>en-US</dc:language>
  <cp:lastModifiedBy>young</cp:lastModifiedBy>
  <dcterms:modified xsi:type="dcterms:W3CDTF">2002-03-06T12:45:21Z</dcterms:modified>
  <cp:revision>23</cp:revision>
  <dc:subject/>
  <dc:title>幻灯片 1</dc:title>
</cp:coreProperties>
</file>