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26.gif" ContentType="image/gif"/>
  <Override PartName="/ppt/media/image18.jpeg" ContentType="image/jpeg"/>
  <Override PartName="/ppt/media/image22.gif" ContentType="image/gif"/>
  <Override PartName="/ppt/media/image15.jpeg" ContentType="image/jpeg"/>
  <Override PartName="/ppt/media/image29.gif" ContentType="image/gif"/>
  <Override PartName="/ppt/media/image13.jpeg" ContentType="image/jpeg"/>
  <Override PartName="/ppt/media/image19.jpeg" ContentType="image/jpeg"/>
  <Override PartName="/ppt/media/image32.gif" ContentType="image/gif"/>
  <Override PartName="/ppt/media/image11.png" ContentType="image/png"/>
  <Override PartName="/ppt/media/image9.jpeg" ContentType="image/jpeg"/>
  <Override PartName="/ppt/media/image12.gif" ContentType="image/gif"/>
  <Override PartName="/ppt/media/carbrake.wav" ContentType="audio/x-wav"/>
  <Override PartName="/ppt/media/image17.png" ContentType="image/png"/>
  <Override PartName="/ppt/media/type.wav" ContentType="audio/x-wav"/>
  <Override PartName="/ppt/media/image25.gif" ContentType="image/gif"/>
  <Override PartName="/ppt/media/image10.jpeg" ContentType="image/jpeg"/>
  <Override PartName="/ppt/media/image8.jpeg" ContentType="image/jpeg"/>
  <Override PartName="/ppt/media/whoosh.wav" ContentType="audio/x-wav"/>
  <Override PartName="/ppt/media/image27.gif" ContentType="image/gif"/>
  <Override PartName="/ppt/media/image7.png" ContentType="image/png"/>
  <Override PartName="/ppt/media/image1.png" ContentType="image/png"/>
  <Override PartName="/ppt/media/image28.gif" ContentType="image/gif"/>
  <Override PartName="/ppt/media/image5.gif" ContentType="image/gif"/>
  <Override PartName="/ppt/media/image14.jpeg" ContentType="image/jpeg"/>
  <Override PartName="/ppt/media/applause.wav" ContentType="audio/x-wav"/>
  <Override PartName="/ppt/media/image35.png" ContentType="image/png"/>
  <Override PartName="/ppt/media/image24.png" ContentType="image/png"/>
  <Override PartName="/ppt/media/image31.gif" ContentType="image/gif"/>
  <Override PartName="/ppt/media/explode.wav" ContentType="audio/x-wav"/>
  <Override PartName="/ppt/media/drumroll.wav" ContentType="audio/x-wav"/>
  <Override PartName="/ppt/media/image30.wmf" ContentType="image/x-wmf"/>
  <Override PartName="/ppt/media/image33.jpeg" ContentType="image/jpeg"/>
  <Override PartName="/ppt/media/image34.gif" ContentType="image/gif"/>
  <Override PartName="/ppt/media/image16.jpeg" ContentType="image/jpeg"/>
  <Override PartName="/ppt/media/projctor.wav" ContentType="audio/x-wav"/>
  <Override PartName="/ppt/media/camera.wav" ContentType="audio/x-wav"/>
  <Override PartName="/ppt/media/image6.gif" ContentType="image/gif"/>
  <Override PartName="/ppt/media/chimes.wav" ContentType="audio/x-wav"/>
  <Override PartName="/ppt/media/image21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2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2AE-42B7-47EC-BA49-C7430E28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8FB-8BFE-4A06-AFC4-6EB4545B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C48B-DC9E-4ADD-8EEE-102A26E5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89B9-B497-4B24-A734-275538C0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774-1154-401B-AD82-324D6818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B7D-E3C1-40CD-A131-D27CFE60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280-8595-4067-9AB9-B61011A1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D0B-376A-4474-8FEB-E5B84416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C65-CE93-4AC6-A8AE-1B5298D3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751-B950-4139-A69E-3D910F34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EE28-4082-4C3D-AF13-5871871C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E2F-5D9B-43CC-8AF5-3F27CBDF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C26C-C35A-47D6-9EDD-91C69E8CC8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audio" Target="../media/chimes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audio" Target="../media/carbrake.wav"/><Relationship Id="rId7" Type="http://schemas.openxmlformats.org/officeDocument/2006/relationships/audio" Target="../media/whoosh.wav"/><Relationship Id="rId8" Type="http://schemas.openxmlformats.org/officeDocument/2006/relationships/audio" Target="../media/carbrake.wav"/><Relationship Id="rId9" Type="http://schemas.openxmlformats.org/officeDocument/2006/relationships/audio" Target="../media/explode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5.gif"/><Relationship Id="rId5" Type="http://schemas.openxmlformats.org/officeDocument/2006/relationships/image" Target="../media/image12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image" Target="../media/image34.gif"/><Relationship Id="rId8" Type="http://schemas.openxmlformats.org/officeDocument/2006/relationships/image" Target="../media/image34.gif"/><Relationship Id="rId9" Type="http://schemas.openxmlformats.org/officeDocument/2006/relationships/image" Target="../media/image34.gif"/><Relationship Id="rId10" Type="http://schemas.openxmlformats.org/officeDocument/2006/relationships/image" Target="../media/image34.gif"/><Relationship Id="rId11" Type="http://schemas.openxmlformats.org/officeDocument/2006/relationships/audio" Target="file:///tmp/home/.config/libreoffice/4/user/gallery/type.wav" TargetMode="External"/><Relationship Id="rId12" Type="http://schemas.microsoft.com/office/2007/relationships/media" Target="file:///tmp/home/.config/libreoffice/4/user/gallery/type.wav" TargetMode="External"/><Relationship Id="rId13" Type="http://schemas.openxmlformats.org/officeDocument/2006/relationships/image" Target="../media/image35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8280" y="3352680"/>
            <a:ext cx="3657600" cy="18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说课教案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1371600"/>
            <a:ext cx="5276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JEFC   Book3    Unit4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838080"/>
            <a:ext cx="89154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三）学习策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认真做好预习，自觉归纳宾语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上课专心听讲，积极思考，勤于动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通过电话记录、采访、辩论、统计等多种形式，确立在用中、做中交流中学习英语的思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四、教学总体设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（一） 创设情景，营造氛围，激发兴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如：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，带两只电话机用于课堂表演，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4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带几只麦克风用于采访，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适当地移动课桌使教室像一个辩论现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914400"/>
            <a:ext cx="81536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二）采用“任务型”教学方法，培养学生综合运用能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每堂课任务由：课前、课中、课后三部分组成，多样化的任务由课内延伸到课外，这样不仅扩展了知识面，更培养了学生的学习兴趣，努力提高学生综合运用语言的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447920"/>
            <a:ext cx="82296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三）面向全体学生，关注学生的全面发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经常性的开展二人、四人小组活动，互帮互学，合作共处，共同进步，培养团队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179712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30160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2670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3341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3808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分课教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486400" cy="3828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3733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you ever made telephone ca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4540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o you usually ca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5410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 do you usually ca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04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695520" cy="1219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71800" y="9907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V 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52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ions of making telephone ca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1981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llo! May I speak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27432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ld on, please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3429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/She isn’t here right now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4191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I take a message for you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4876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’m calling to tell/ask you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5638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’s that? This is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给情景，编一段打电话的对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295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 lei telephoned Jim to borrow the book “Who Moved My Cheese”. But Jim isn’t in.Jim’s mother answered the teleph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3429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52480" y="55627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在使用中巩固打电话用语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7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990720"/>
            <a:ext cx="7848360" cy="495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13716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EPHONE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133720"/>
            <a:ext cx="655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E:                           TIME: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SS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21636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r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2849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e headm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3581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ct.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3611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9:00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34340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’d like to meet you between 8:00 and 9:00 on Wedne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2)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听电话录音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获取信息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3):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两人小组获取信息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信息沟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3520"/>
            <a:ext cx="91440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持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B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通过提问向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获取信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样回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The notice say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at our class will go to the Red Star Farm tomorrow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The notice say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at we will help the farmers with their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彼此用英语交流信息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同时练习了宾语从句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36440"/>
            <a:ext cx="716256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一、教材分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二、教学原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三、教学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四、教学总体设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五、分步教学步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9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9320" y="455616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o answers the telephon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53182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Mr Green sa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600408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the teacher sa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8098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 headmaster 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9718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课文处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57600" y="1371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headmaster isn’t there right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2004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will leave a message on the headmaster’s des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9436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4080" y="137160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teach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960" y="320040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teach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8120" y="193356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ants to speak to the headmas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307656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ants to see him as soon as pos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444816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on’t be free until tomorr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6674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can come between 8:00 and 9:00 on Wednes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3581280" cy="2019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20" y="19051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0" y="30481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20" y="4419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840" y="563868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914640" cy="5334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419720" y="11430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4191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headmast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4) :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深入话题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进行猜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609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44816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翻译某洗衣粉广告，由濮存晰与一小孩合作做的广告。“妈妈说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---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200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56144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44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793800"/>
            <a:ext cx="5965920" cy="57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4479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should we do before we get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0384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an do i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76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1): 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76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15238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t a wonderful train ri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2004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they do before getting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906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they do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Rea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15238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kimm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160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668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0246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6530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35780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3062160" y="2514600"/>
            <a:ext cx="1357560" cy="1600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7621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任务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(2): Intervie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876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生借助自己的生活阅历和已有的语篇结构，对信息做各种合理的处理与加工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0"/>
            <a:ext cx="85341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Which do you like best, travelling by train,by air or by bus? Why? Write the reas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Collect some information of Mount Em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5120" y="2057400"/>
            <a:ext cx="7238880" cy="33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本单元围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Jim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及其家人去峨眉山旅游这一话题，先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Jim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父亲打电话约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e headmaste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由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e headmaste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在，引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elephone messag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sson1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然后坐火车旅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lesson14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回校与同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in Tao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交流信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lesson15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对交通工具的优劣比较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sson1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508040"/>
            <a:ext cx="1981080" cy="5349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37240" y="1828800"/>
            <a:ext cx="28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（一） 教学内容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2687760" cy="1828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72200" y="304812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172200" y="50292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352680" y="5045040"/>
            <a:ext cx="2743200" cy="1736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3352680" y="785880"/>
            <a:ext cx="5562720" cy="2109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581280" y="763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95080" y="990720"/>
            <a:ext cx="7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rip to Mount Em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5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1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700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中心任务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介绍峨眉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415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前任务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过因特网等途径收集有关峨眉山的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5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1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8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230560"/>
            <a:ext cx="9144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中任务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享资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自告奋勇用英语向全班介绍峨眉山的一些情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师引导其他同学用宾语从句重复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她的介绍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 A: There are a lot of monkeys in the mou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acher: He/She said that there were a lot of monkeys in the mou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 B: The clouds in the mountain are very beauti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acher: He/She said that the clouds in the mountain were very beauti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后任务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位学生把所收集到的资料编成墙报，展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504960" cy="2944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3429000" cy="2957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181480" y="3984480"/>
            <a:ext cx="3353040" cy="2873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33520" y="4094280"/>
            <a:ext cx="3504960" cy="2763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" y="2286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otball matc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任务（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Memory challenge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144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(Have a competition between boys and gir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85904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’s teacher tell them about Ji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468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when he met Ji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30780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Mount Eme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368784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about the score of the mat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429732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about his own football te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98312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his trip to Mount Eme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5668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the phot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6248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Winner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474040" y="6130800"/>
            <a:ext cx="365040" cy="650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061480" y="6164280"/>
            <a:ext cx="3204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838080"/>
            <a:ext cx="8001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se you are Jim or Lin Tao ,write a diary about the trip or the football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2666880" cy="2241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0" y="7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6360" y="66600"/>
            <a:ext cx="8532720" cy="6638760"/>
            <a:chOff x="306360" y="66600"/>
            <a:chExt cx="8532720" cy="6638760"/>
          </a:xfrm>
        </p:grpSpPr>
        <p:grpSp>
          <p:nvGrpSpPr>
            <p:cNvPr id="181" name=""/>
            <p:cNvGrpSpPr/>
            <p:nvPr/>
          </p:nvGrpSpPr>
          <p:grpSpPr>
            <a:xfrm>
              <a:off x="311040" y="71280"/>
              <a:ext cx="8523360" cy="6629400"/>
              <a:chOff x="311040" y="71280"/>
              <a:chExt cx="8523360" cy="6629400"/>
            </a:xfrm>
          </p:grpSpPr>
          <p:sp>
            <p:nvSpPr>
              <p:cNvPr id="182" name=""/>
              <p:cNvSpPr/>
              <p:nvPr/>
            </p:nvSpPr>
            <p:spPr>
              <a:xfrm>
                <a:off x="311040" y="71280"/>
                <a:ext cx="8523360" cy="66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42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1040" y="71280"/>
                <a:ext cx="8523360" cy="662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06360" y="66600"/>
              <a:ext cx="8532720" cy="66387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84440" y="228600"/>
            <a:ext cx="578304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04920" y="838080"/>
          <a:ext cx="8686800" cy="5743800"/>
        </p:xfrm>
        <a:graphic>
          <a:graphicData uri="http://schemas.openxmlformats.org/drawingml/2006/table">
            <a:tbl>
              <a:tblPr/>
              <a:tblGrid>
                <a:gridCol w="3879720"/>
                <a:gridCol w="849240"/>
                <a:gridCol w="901800"/>
                <a:gridCol w="703080"/>
                <a:gridCol w="755640"/>
                <a:gridCol w="849600"/>
                <a:gridCol w="7477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an’anmen, Wangfuj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home,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home, the railway s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ijing, Shang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du, Nan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ngzhou, Hong K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anjin, Dal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ingdao, San Francisco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city, Tok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2297160" cy="879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1644480" cy="1714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867280" y="457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505320" y="990720"/>
            <a:ext cx="1676160" cy="1295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400800" y="3962520"/>
            <a:ext cx="1589040" cy="1234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38080" y="2743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b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2819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b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895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943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pl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5867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95280" y="9907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faste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ay to trave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228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Discus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1447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low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1873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243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least 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28954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af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3352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danger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3809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comfor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43434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least comfor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334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said the____ way to  travel was ___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1023840" cy="1066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2297160" cy="879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895480" y="6618240"/>
            <a:ext cx="5965920" cy="239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371600" y="5969160"/>
            <a:ext cx="11430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457200" y="6094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）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:  surv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57200"/>
            <a:ext cx="914400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</a:t>
            </a: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二）教学重点、难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、教学重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宾语从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有用的词语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s soon as possible                that would be fine    keep doing    Hurry up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！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fall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fas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sleep    wake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304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）：制定旅行方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52388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①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地图上指出学校所在地的位置与峨眉山的位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②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组讨论去峨眉山的方案，从学校到车站的交通方式，从学校所在城市到成都的交通方式（可否直达），从成都到峨眉山等等，并说明理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③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评价：以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cheap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as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safe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comfortable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机结合为标准，评出最佳方案若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任务（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）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Argument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：</a:t>
            </a:r>
            <a:br>
              <a:rPr sz="4400"/>
            </a:br>
            <a:r>
              <a:rPr b="0" i="1" lang="zh-CN" sz="4400" spc="-1" strike="noStrike">
                <a:solidFill>
                  <a:srgbClr val="ff00ff"/>
                </a:solidFill>
                <a:latin typeface="Times New Roman"/>
              </a:rPr>
              <a:t>Is travelling good or bad?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9810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把全班同学分成两半，确定正方与反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②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分别讨论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GOOD POINTS &amp; BAD POINTS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③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展开辩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00400" y="609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vell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1397160"/>
          <a:ext cx="7543800" cy="4622760"/>
        </p:xfrm>
        <a:graphic>
          <a:graphicData uri="http://schemas.openxmlformats.org/drawingml/2006/table">
            <a:tbl>
              <a:tblPr/>
              <a:tblGrid>
                <a:gridCol w="3809880"/>
                <a:gridCol w="37339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 different and interesting pl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nd too much mo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143000" y="2819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2819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-76320" y="3049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ask: argument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辩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010280" y="609480"/>
            <a:ext cx="1417680" cy="1425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1096920" cy="1371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886200" y="457200"/>
            <a:ext cx="1452600" cy="21430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80880" y="2743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2920" y="2711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B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743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hair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3854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think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8862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e/she said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86600" y="3886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think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6095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winn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3808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1337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a short passage about travelling, “It’s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good/ba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 us to travel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343080"/>
            <a:ext cx="8610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六、评价手段和操作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形成性评价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一）非测试性评价：教学评价既要关注结果，又要关注过程，应是两者有机结合。为此本单元通过对学生的书面作业、对话表演、回答问题、讨论利弊、小组活动等，对学生的学习能力、学习态度、合作精神、创新意识等作出过程性评价。这种评价有助于教师发现每位同学的闪光点，也可以让多数学生体验成功的喜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83808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表一：对话表演评比（优秀、良好、一般、需努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981080"/>
          <a:ext cx="8534520" cy="302256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676160"/>
                <a:gridCol w="1752840"/>
                <a:gridCol w="175248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课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音语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言表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动作表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整体效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我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组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教师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2280" y="6858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表二：小组活动记录表（积极、尚积极、一般、不参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23880" y="2235240"/>
          <a:ext cx="7010640" cy="248904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1143000"/>
                <a:gridCol w="373392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等第               评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等第               评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191120" y="5105520"/>
            <a:ext cx="909360" cy="1752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523880" y="2514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57913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106668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6705720" y="457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5791320" y="18288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419112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27432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3581280" y="434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2880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金华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6095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俞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133720" y="2590920"/>
            <a:ext cx="5029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 you</a:t>
            </a: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！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4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52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828800"/>
            <a:ext cx="83818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、教学难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创设使用宾语从句的情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任务的真实性与教育性的统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209680"/>
            <a:ext cx="84582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三） 任务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信息的分析与整合、分享感受和经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3000"/>
            <a:ext cx="91440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二、教学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运用“任务型”教学途径，培养学生综合运用语言的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突出交际性，注重启发性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在用中学，创建信息沟，实现信息传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838080"/>
            <a:ext cx="84582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一）知识技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学习、掌握宾语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学习、掌握一些重点词汇、短语和句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提高学生听、说、读、写及综合运用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1523880"/>
            <a:ext cx="71629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二）情感态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对事物做到一分为二的分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开展小组活，积极与人合作，互帮互学，学会共处，具有团队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12:29:47Z</dcterms:created>
  <dc:creator>jk</dc:creator>
  <dc:description/>
  <dc:language>en-US</dc:language>
  <cp:lastModifiedBy>金泳奇</cp:lastModifiedBy>
  <dcterms:modified xsi:type="dcterms:W3CDTF">2004-09-15T09:26:11Z</dcterms:modified>
  <cp:revision>23</cp:revision>
  <dc:subject/>
  <dc:title>PowerPoint 演示文稿</dc:title>
</cp:coreProperties>
</file>