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4DB-4B0C-47F4-B41B-AA116478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F0E-99E1-4259-B235-7AB0AEB8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29D-B8B7-4B42-90F6-37793203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C60-E5EA-49AB-A9E5-1F502051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521-9836-4A02-A0B9-89F3EA11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3E2-A81C-46AC-91AE-15760022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390-AB5E-40F8-B7B8-281DCE8D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290-6032-4641-9DD9-4130B9CC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070-3A64-46E9-A2EB-ED84B028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92A-7254-4E35-8CD3-96BC970B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06D-ACD0-4A86-81AD-0495CE0A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BB2-840B-4E85-B0EA-0DC27B00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2C59-EFCB-4CA1-8E19-A9219DDBE4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280" y="476280"/>
            <a:ext cx="72723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形容词的原级、比较级和最高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形容词的原级：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…a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t so/as… as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引导的同级比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car is as expensive a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’s almost as tall as her mother now but not so tall as her younger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 spoken English is nearly as good as , if not better than, Miss Green’s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ike sings as beautifully as his brothe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, much, many, a lot, rath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                                        + more than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tle, a bi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read many more books than h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s a little taller than I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novel is far less interesting than 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by f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is taller than Mike by f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 is by far the most expen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620640"/>
            <a:ext cx="142920" cy="1368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sun is by far the bigger of the tw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形容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副词的最高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most +adj/(the) most ad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f all the stars, the sun is the closes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1.) a most adj 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ery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) most  ad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is a most humorous novel that I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ver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35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328464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284720" y="3860280"/>
            <a:ext cx="64764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38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itanic” is most instru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ths is a least interesting subject tha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as adj …+( a ) + n. +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ucy is as lovely a girl as Linda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is as hot a day today as it was that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is as useful a dictionary as your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have as many good books as 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数的表示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 big as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ce/twice           bigger than 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three … times      the siz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414972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 expensive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is bike is twice   more expensive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pric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 long as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rope is six times   longer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length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620640"/>
            <a:ext cx="144720" cy="136836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88000" y="2997360"/>
            <a:ext cx="217440" cy="1295280"/>
          </a:xfrm>
          <a:custGeom>
            <a:avLst/>
            <a:gdLst>
              <a:gd name="textAreaLeft" fmla="*/ 138960 w 217440"/>
              <a:gd name="textAreaRight" fmla="*/ 217800 w 2174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    big                   short               heav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          ,  length          , weight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               long               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/tall                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ight             ,   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                   n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5440" y="620640"/>
            <a:ext cx="142560" cy="1368360"/>
          </a:xfrm>
          <a:custGeom>
            <a:avLst/>
            <a:gdLst>
              <a:gd name="textAreaLeft" fmla="*/ 91080 w 142560"/>
              <a:gd name="textAreaRight" fmla="*/ 142920 w 1425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692280"/>
            <a:ext cx="216000" cy="129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620640"/>
            <a:ext cx="144720" cy="1440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2349360"/>
            <a:ext cx="71640" cy="1366920"/>
          </a:xfrm>
          <a:custGeom>
            <a:avLst/>
            <a:gdLst>
              <a:gd name="textAreaLeft" fmla="*/ 45720 w 71640"/>
              <a:gd name="textAreaRight" fmla="*/ 72000 w 7164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2349360"/>
            <a:ext cx="144360" cy="144144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4076640"/>
            <a:ext cx="73080" cy="1368360"/>
          </a:xfrm>
          <a:custGeom>
            <a:avLst/>
            <a:gdLst>
              <a:gd name="textAreaLeft" fmla="*/ 46800 w 73080"/>
              <a:gd name="textAreaRight" fmla="*/ 73440 w 730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形容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副词的比较级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语中，形容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副词的比较级是非常严谨的， 既人和人比，物和物比，比较级的结构必须是一致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y other 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m is taller than   any boy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y of the other boy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his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our handwriting is better than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2492280"/>
            <a:ext cx="216000" cy="14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andwriting of yours is better  than that /the handwriting of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country i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 is larger than  any other country 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of China is bigger than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the population of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 more beautiful kite than ___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1916280"/>
            <a:ext cx="71280" cy="1657080"/>
          </a:xfrm>
          <a:custGeom>
            <a:avLst/>
            <a:gdLst>
              <a:gd name="textAreaLeft" fmla="*/ 45720 w 71280"/>
              <a:gd name="textAreaRight" fmla="*/ 71640 w 71280"/>
              <a:gd name="textAreaTop" fmla="*/ 43200 h 1657080"/>
              <a:gd name="textAreaBottom" fmla="*/ 161388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nyone                  B. anyone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nyone’s                D. anyone els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kite is more beautiful than _______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taller than any boy in the class, let alone the girl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moon is nearer to the earth than _____ to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any star               B. any 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any other star      D. any other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形容词的比较级前不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;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是以下两点要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 the more… , the m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more, the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harder you work, the greater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 m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wer mistakes , the gr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he more of the tw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Lucy and Lily are twin sisters. They’r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alike that I can’t tell which is whi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Lucy is the taller and  fatter of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hile Lily is the shorter and th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Which is the further to us, the sun 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 Of the two, the sun is much the fur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5:56:22Z</dcterms:created>
  <dc:creator>wang xing zhong</dc:creator>
  <dc:description/>
  <dc:language>en-US</dc:language>
  <cp:lastModifiedBy>wang xing zhong</cp:lastModifiedBy>
  <dcterms:modified xsi:type="dcterms:W3CDTF">2004-01-28T07:03:11Z</dcterms:modified>
  <cp:revision>35</cp:revision>
  <dc:subject/>
  <dc:title>幻灯片 1</dc:title>
</cp:coreProperties>
</file>