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E331-D604-4BD7-BC0D-533F73D1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9D3A-B8A4-42EA-9192-EC0441DF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34DF-7A87-4EE4-B806-BBDAF765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970C-BEC0-4461-AEA2-E4A41878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4469-1229-4D17-A11E-2ECB8AD2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F66D-B740-4566-8D4E-B54BEE42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F325-769B-4B21-B287-32640A93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48B2-6615-48F3-BDAD-7EDEEE02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12E7-F003-454F-ACFA-CFBB131D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9F33-EBC7-4E10-9D65-8E90461C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17D7-F956-47E2-B572-714D2F10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558C-7B97-49DB-AA6F-6F6B4AA5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E48F-56B4-4033-AB85-A69827A903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考训练题非谓语动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1412640"/>
            <a:ext cx="6400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Mr. Smith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ch, started to read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tired; boring             B. tiring; b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tired; bored              D. tiring; b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Friendship is like money: easier made tha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kept                          B. to be k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keeping                     D. being k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8.—Why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to the museum with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at’s a good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not go           B. don’g t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going            D. not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. English teacher encourages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 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us doing       B. us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our reading  D. we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.—Mr. Wilson is expected back at n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have hi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then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alling   B. call  C. to call  D.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.—Is the radio disturbing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ertainly is, I’d lik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urning  B. to turn C. turned D. 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. Sorry! I’ve forgott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letter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posting          B. to have po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to post           D. that I p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. She is not wor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to get angr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getting ang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getting angry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to get angry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. The woman lay on the bed, her fac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aving covered  B. cov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cover             D. co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pace, the earth looks like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 planet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eeing              B. To se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Seen                 D. Having s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6.Do you mi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ugg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me to make       B. my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for me to make  D. I 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is apple juice-perhap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ll lik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rying               B. Tr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try               D. Have t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.Lots of empty bottles were foun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man’s bed. He must hav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hing b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drink B. to drink  C. drinking D. dru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9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m busy in his garage, I said 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call again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find               B. When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Finding              D. As f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. I bitterly regre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m the stor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tell            B. to have t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ld               D. having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1. Gun-powder is generally consi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in Ch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nventing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aving invented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be inv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o have been inv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. I’m considerin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off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accept       B. accep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ccept           D. accep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.The cloth won’t st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wash          B. w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washed          D. for w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4.It’s pay-day, and they’re waiting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for paying       B. to be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to be paying   D. to have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5. —Will John come her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, he finally decided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not to be         B. not to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not to              D. not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640" y="106488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There are three waiting-rooms in the new station,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bout 1000 passen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seating        B. s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seated        D. s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her finest skirt, the girl tri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hersel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Dressing; notic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Dressed; not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Dressing; being not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Dressed; noti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Wit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nee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she left th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mar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mething; to bu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nything; having b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everything; bu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everything; b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—Where should I send my 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nel office is the plac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for sending it     B. to  send i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send              D. to send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He should at least answer wh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peaking           B. spoke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spoken to          D. speak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—What do you think made Mary 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s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—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 new motorb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s she lost       B.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Losing              D. Because of l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The wonderful time they have bee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forwar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arri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ad   B. have   C. has   D. h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Is this the TV set which you wis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have it repa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o repair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have repai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will be repa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1.She came in,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by a group of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following         B. fol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to follow          D.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2. If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o a high temperature, water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e turned into vap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heat  B. to heat  C. heating D. h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3. The girl was sitting there,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 dee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lose  B. to lose  C. losing  D.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his father had come, his face lit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Having heard   B. When he he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Hearing            D. When h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5. Do you know the boy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at the back of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sat   B. sit         C. seating D. s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 We’ve us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country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living               B. l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be living          D. have l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. His remarks left m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his real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onder           B. wonde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wondered       D. to wo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0:13:46Z</dcterms:created>
  <dc:creator>guest</dc:creator>
  <dc:description/>
  <dc:language>en-US</dc:language>
  <cp:lastModifiedBy>wang xing zhong</cp:lastModifiedBy>
  <dcterms:modified xsi:type="dcterms:W3CDTF">2003-12-23T02:00:44Z</dcterms:modified>
  <cp:revision>25</cp:revision>
  <dc:subject/>
  <dc:title>高考训练题非谓语动词</dc:title>
</cp:coreProperties>
</file>