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17C-F96D-4AC0-9EDF-09E3D6E2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DBC-F7BB-4E20-B00E-D405492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E9B-818A-424D-8A86-067E8F52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9B0-FD7B-448B-A598-7D5DDC4E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B529-60A2-4DB5-88EF-5565C0CC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6826-023D-4DBF-9203-09A7F9CF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C83A-5B8C-4ED7-BC1B-9AEC02F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9D53-0DE0-459A-B55A-DD0A61F6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6D86-EDD3-48FE-AA31-A521A89A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6B8E-60D6-4350-AC0D-F0A97218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D5B-DC35-484B-8EFF-167D1F9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B98-09E9-4AAE-84C2-4C25AE2B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4803-2E5F-4435-8AC4-29BEDA1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7468-EFE0-4C45-9FAA-BC91FC88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03A9-62AC-443C-BB5F-F8E9A9E1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C13-3C7A-4119-B9FB-E7361992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6F0-2B36-4C27-A339-96820A92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CBE-3B13-4457-90B0-09742712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16A-15A2-4DBC-9B81-2E163176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8AD-8E12-4495-9C0A-B058EED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D76-D4A4-43B8-8670-45D8E6D0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91A-85B6-4DBA-B92C-0F9630F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AF5-AB12-42B9-8B2E-0FE429A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C5B-6F20-4D85-BBF6-CE7CD6C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62D0-C3B7-4284-B7E3-804509D714B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81EB-0446-4EE4-8173-769C9407A96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onotype Corsiva"/>
              </a:rPr>
              <a:t>UNIT 9  REVI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ook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layed basketball the day before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going to play basketball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playing basketball n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cnimg_net_00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05740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1523880"/>
            <a:ext cx="5410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ay before 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760" y="2971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97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danced yesterday ev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often da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95480" y="1904760"/>
            <a:ext cx="3810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terday ev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nimg_net_03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22680" y="311292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drew a picture 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nimg_net_03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00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86200" y="167616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years ago, 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g,Work, 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cle Wang worked in China two years a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nimg_net_09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ff"/>
                </a:solidFill>
                <a:latin typeface="Times New Roman"/>
              </a:rPr>
              <a:t>Let’s do exercises togeth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写出下列单词的过去式形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e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d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g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am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l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ne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a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di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nt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answ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work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go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mov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按要求改变句子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September 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Ch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变为否定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————————————————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 Fang went to school on fo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st Mond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d in Chi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bout ten ye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0520" y="1447560"/>
            <a:ext cx="906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n’t do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id Wei Fang go to school on fo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did they live in Chi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用所给动词的正确形式填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______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)your sister bor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enjoy _______(live) with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(watch) TV just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___(watch) TV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________(play) games with Tom sometim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you ______ (live) in China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8760" y="2085840"/>
            <a:ext cx="1250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3680" y="1447920"/>
            <a:ext cx="10551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8280" y="2743200"/>
            <a:ext cx="17074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429000"/>
            <a:ext cx="227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wa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3960" y="4143240"/>
            <a:ext cx="1149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7720" y="5486400"/>
            <a:ext cx="870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5410080"/>
            <a:ext cx="869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66"/>
                </a:solidFill>
                <a:latin typeface="Comic Sans MS"/>
              </a:rPr>
              <a:t>THE END</a:t>
            </a:r>
            <a:r>
              <a:rPr b="0" lang="en-US" sz="66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00"/>
                </a:solidFill>
                <a:latin typeface="Monotype Corsiva"/>
              </a:rPr>
              <a:t>Thanks very much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n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/o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re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2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was he bor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as born on May 18, 19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4648320" cy="1905120"/>
          </a:xfrm>
          <a:prstGeom prst="wedgeEllipseCallout">
            <a:avLst>
              <a:gd name="adj1" fmla="val 44601"/>
              <a:gd name="adj2" fmla="val 59749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ame: T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irthday:  1999,5,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54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born in Beijing .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n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was born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ptember 10,199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4343400" cy="2057400"/>
          </a:xfrm>
          <a:prstGeom prst="wedgeEllipseCallout">
            <a:avLst>
              <a:gd name="adj1" fmla="val 57199"/>
              <a:gd name="adj2" fmla="val 49074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     Lu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thday: 1999,9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ere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e was born in New York. (America/ the US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When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She was born on October 29,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33520"/>
            <a:ext cx="4495680" cy="2209680"/>
          </a:xfrm>
          <a:prstGeom prst="wedgeEllipseCallout">
            <a:avLst>
              <a:gd name="adj1" fmla="val -46750"/>
              <a:gd name="adj2" fmla="val 29384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th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, 10,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61722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 was born in Jap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66680" y="0"/>
            <a:ext cx="7239240" cy="4952880"/>
            <a:chOff x="1066680" y="0"/>
            <a:chExt cx="7239240" cy="4952880"/>
          </a:xfrm>
        </p:grpSpPr>
        <p:sp>
          <p:nvSpPr>
            <p:cNvPr id="107" name=""/>
            <p:cNvSpPr/>
            <p:nvPr/>
          </p:nvSpPr>
          <p:spPr>
            <a:xfrm>
              <a:off x="1066680" y="0"/>
              <a:ext cx="7239240" cy="4952880"/>
            </a:xfrm>
            <a:custGeom>
              <a:avLst/>
              <a:gdLst>
                <a:gd name="textAreaLeft" fmla="*/ 1652400 w 7239240"/>
                <a:gd name="textAreaRight" fmla="*/ 5586840 w 7239240"/>
                <a:gd name="textAreaTop" fmla="*/ 1130760 h 4952880"/>
                <a:gd name="textAreaBottom" fmla="*/ 382212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4568"/>
                  </a:solidFill>
                  <a:latin typeface="Times New Roman"/>
                </a:rPr>
                <a:t>N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cnimg_net_004" descr=""/>
            <p:cNvPicPr/>
            <p:nvPr/>
          </p:nvPicPr>
          <p:blipFill>
            <a:blip r:embed="rId1"/>
            <a:stretch/>
          </p:blipFill>
          <p:spPr>
            <a:xfrm>
              <a:off x="2971800" y="990720"/>
              <a:ext cx="36576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392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  didn’t sing yesterday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d he sing yesterday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,he d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is singing 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 sang  yester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often s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2209320"/>
            <a:ext cx="1295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160" y="33526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840" y="47242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05:56Z</dcterms:created>
  <dc:creator>zlm</dc:creator>
  <dc:description/>
  <dc:language>en-US</dc:language>
  <cp:lastModifiedBy>dtyl</cp:lastModifiedBy>
  <dcterms:modified xsi:type="dcterms:W3CDTF">2004-05-12T12:21:46Z</dcterms:modified>
  <cp:revision>30</cp:revision>
  <dc:subject/>
  <dc:title>REVICE  UNIT 9</dc:title>
</cp:coreProperties>
</file>