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7.gif" ContentType="image/gif"/>
  <Override PartName="/ppt/media/image26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6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8.gif" ContentType="image/gif"/>
  <Override PartName="/ppt/media/image27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9.png" ContentType="image/png"/>
  <Override PartName="/ppt/media/image33.jpeg" ContentType="image/jpeg"/>
  <Override PartName="/ppt/media/image34.gif" ContentType="image/gif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403-CC87-4B61-AB94-EDC364A1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342-4FEE-4FD7-8F67-BD47B029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C5D-7FC5-4F74-B761-77CAF0D6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A1B-8BC7-4F12-8483-6B731BEB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A545-6B02-4897-99D3-8373CC3B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C9C1-E210-4348-8033-A971885A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6BF3-6354-4A64-AC95-3B6CA15A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E0B2-3441-440E-B5A6-E3365EF0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019F-0A41-46CB-AC44-2E90411B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716E-8726-4E50-B5A4-9132454E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55D1-8427-4370-B613-2032235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10C-3BAB-4248-884C-A9E82030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AB9E-ACD1-45F3-8655-46ACEFA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F676-BA14-44EF-9B9E-4FC6C6F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F2B9-1B6F-468C-97B8-C8DEA3AF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0248-DB38-4E00-BF97-145B2666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E469-B32C-483F-9F9E-45377842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F2F-CECB-47AD-B32B-3298ABE3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564-C0BC-41DA-96B8-7B8E9AF1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003-9965-4689-9BFF-C43205FD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960-7DF3-4315-9F1F-169973FB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91B-022D-47BE-AFAD-0922C6F0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FE9-4D47-45BA-A309-41E3A29A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B58-85AA-4A3D-AFE2-984CA9E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73F1-E2B9-42D5-ADF7-F8684FC8F05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8077-04F2-48B9-85B4-E280DD5E8C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629400" cy="556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as206_01b_pic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4952880"/>
          </a:xfrm>
          <a:prstGeom prst="rect">
            <a:avLst/>
          </a:prstGeom>
          <a:ln w="0">
            <a:noFill/>
          </a:ln>
        </p:spPr>
      </p:pic>
      <p:pic>
        <p:nvPicPr>
          <p:cNvPr id="143" name="44" descr=""/>
          <p:cNvPicPr/>
          <p:nvPr/>
        </p:nvPicPr>
        <p:blipFill>
          <a:blip r:embed="rId2"/>
          <a:stretch/>
        </p:blipFill>
        <p:spPr>
          <a:xfrm>
            <a:off x="1752480" y="5257800"/>
            <a:ext cx="548640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54200" y="114300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Something about 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terranean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2133720"/>
          <a:ext cx="6095880" cy="3504960"/>
        </p:xfrm>
        <a:graphic>
          <a:graphicData uri="http://schemas.openxmlformats.org/drawingml/2006/table">
            <a:tbl>
              <a:tblPr/>
              <a:tblGrid>
                <a:gridCol w="3504960"/>
                <a:gridCol w="259092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Leng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 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Wid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Temperatu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Sal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662800" y="23623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3,700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62800" y="320040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1,800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7840" y="49528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3.7-3.9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7960" y="4114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25℃-29 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13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tu42-1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01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3733560" cy="281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07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3733920" cy="2667240"/>
          </a:xfrm>
          <a:prstGeom prst="rect">
            <a:avLst/>
          </a:prstGeom>
          <a:ln w="0">
            <a:noFill/>
          </a:ln>
        </p:spPr>
      </p:pic>
      <p:pic>
        <p:nvPicPr>
          <p:cNvPr id="157" name="0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19160" y="11476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Conditions for co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68560"/>
          <a:ext cx="8229240" cy="388620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347840" y="2209680"/>
            <a:ext cx="60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water temperature above 20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4080" y="312408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plenty of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2200" y="50292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clear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4114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water depth of less than 60 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ap_holyland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449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91120" y="4724280"/>
            <a:ext cx="1676160" cy="762120"/>
          </a:xfrm>
          <a:custGeom>
            <a:avLst/>
            <a:gdLst>
              <a:gd name="textAreaLeft" fmla="*/ 785520 w 1676160"/>
              <a:gd name="textAreaRight" fmla="*/ 1436760 w 1676160"/>
              <a:gd name="textAreaTop" fmla="*/ 592560 h 762120"/>
              <a:gd name="textAreaBottom" fmla="*/ 6534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883"/>
                </a:moveTo>
                <a:lnTo>
                  <a:pt x="16794" y="19883"/>
                </a:lnTo>
                <a:lnTo>
                  <a:pt x="16794" y="10125"/>
                </a:lnTo>
                <a:lnTo>
                  <a:pt x="13705" y="10125"/>
                </a:lnTo>
                <a:lnTo>
                  <a:pt x="17653" y="0"/>
                </a:lnTo>
                <a:lnTo>
                  <a:pt x="21600" y="10125"/>
                </a:lnTo>
                <a:lnTo>
                  <a:pt x="18511" y="10125"/>
                </a:lnTo>
                <a:lnTo>
                  <a:pt x="185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aa" descr=""/>
          <p:cNvPicPr/>
          <p:nvPr/>
        </p:nvPicPr>
        <p:blipFill>
          <a:blip r:embed="rId2"/>
          <a:stretch/>
        </p:blipFill>
        <p:spPr>
          <a:xfrm>
            <a:off x="2438280" y="5638680"/>
            <a:ext cx="3962520" cy="7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ihai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58128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sihai4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581640" cy="4343400"/>
          </a:xfrm>
          <a:prstGeom prst="rect">
            <a:avLst/>
          </a:prstGeom>
          <a:ln w="0">
            <a:noFill/>
          </a:ln>
        </p:spPr>
      </p:pic>
      <p:pic>
        <p:nvPicPr>
          <p:cNvPr id="170" name="aa" descr=""/>
          <p:cNvPicPr/>
          <p:nvPr/>
        </p:nvPicPr>
        <p:blipFill>
          <a:blip r:embed="rId3"/>
          <a:stretch/>
        </p:blipFill>
        <p:spPr>
          <a:xfrm>
            <a:off x="2819520" y="5715000"/>
            <a:ext cx="3733560" cy="63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0320" y="12952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2209680"/>
          <a:ext cx="7619760" cy="350532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4479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minerals from thousands of natural springs and the River Jor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31280" y="388620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little rain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480060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no river flowing out of the 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121932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alt to every thousand parts of water,or 25%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000" y="114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320" y="167652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   thi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2040" y="21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920" y="2514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6160" y="297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7120" y="33526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9640" y="38098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267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53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8640" y="51055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  b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510552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 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aa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12408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762120"/>
            <a:ext cx="8229600" cy="5867280"/>
          </a:xfrm>
          <a:prstGeom prst="horizontalScroll">
            <a:avLst>
              <a:gd name="adj" fmla="val 93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90512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en from sp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=When/ If it is seen from  space,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276720"/>
            <a:ext cx="754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e.g.    Folded up along the lines, the paper w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e a little  bo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When/If it is folded up along the lines,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457200"/>
            <a:ext cx="8305560" cy="6400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905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make up /be made up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038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book is made up of these three sto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2971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.g.  These three stories make up the whole 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wa" descr=""/>
          <p:cNvPicPr/>
          <p:nvPr/>
        </p:nvPicPr>
        <p:blipFill>
          <a:blip r:embed="rId1"/>
          <a:stretch/>
        </p:blipFill>
        <p:spPr>
          <a:xfrm>
            <a:off x="17524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54100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Taught b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Arial Black"/>
              </a:rPr>
              <a:t>Roger C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80880"/>
            <a:ext cx="8305920" cy="6477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17524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That is 3.5% by we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2743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se workers are paid by the 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5812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gar is sold by the pound,eggs by the dozen,and cloth by the y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10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2819160"/>
          </a:xfrm>
          <a:prstGeom prst="rect">
            <a:avLst/>
          </a:prstGeom>
          <a:ln w="0">
            <a:noFill/>
          </a:ln>
        </p:spPr>
      </p:pic>
      <p:pic>
        <p:nvPicPr>
          <p:cNvPr id="206" name="ANIMAL3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581640" cy="2666880"/>
          </a:xfrm>
          <a:prstGeom prst="rect">
            <a:avLst/>
          </a:prstGeom>
          <a:ln w="0">
            <a:noFill/>
          </a:ln>
        </p:spPr>
      </p:pic>
      <p:pic>
        <p:nvPicPr>
          <p:cNvPr id="207" name="74962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733920" cy="2628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BLUEKING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338292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JELLIES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na_05m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15" name="WALL-97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WALL-390" descr=""/>
          <p:cNvPicPr/>
          <p:nvPr/>
        </p:nvPicPr>
        <p:blipFill>
          <a:blip r:embed="rId4"/>
          <a:stretch/>
        </p:blipFill>
        <p:spPr>
          <a:xfrm>
            <a:off x="5410080" y="3886200"/>
            <a:ext cx="3124440" cy="2362320"/>
          </a:xfrm>
          <a:prstGeom prst="rect">
            <a:avLst/>
          </a:prstGeom>
          <a:ln w="0">
            <a:noFill/>
          </a:ln>
        </p:spPr>
      </p:pic>
      <p:pic>
        <p:nvPicPr>
          <p:cNvPr id="217" name="SUB0001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968760" y="2133720"/>
            <a:ext cx="1111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How can we protect our se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054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133720" cy="1730160"/>
          </a:xfrm>
          <a:prstGeom prst="rect">
            <a:avLst/>
          </a:prstGeom>
          <a:ln w="0">
            <a:noFill/>
          </a:ln>
        </p:spPr>
      </p:pic>
      <p:pic>
        <p:nvPicPr>
          <p:cNvPr id="221" name="44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3526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a011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23" name="44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2-1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572000" cy="4267440"/>
          </a:xfrm>
          <a:prstGeom prst="rect">
            <a:avLst/>
          </a:prstGeom>
          <a:ln w="0">
            <a:noFill/>
          </a:ln>
        </p:spPr>
      </p:pic>
      <p:pic>
        <p:nvPicPr>
          <p:cNvPr id="91" name="44" descr=""/>
          <p:cNvPicPr/>
          <p:nvPr/>
        </p:nvPicPr>
        <p:blipFill>
          <a:blip r:embed="rId2"/>
          <a:stretch/>
        </p:blipFill>
        <p:spPr>
          <a:xfrm>
            <a:off x="4572000" y="4952880"/>
            <a:ext cx="5181480" cy="147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GLOBE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3071400">
            <a:off x="175320" y="435960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The Pacific 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7520" y="685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The Arctic 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 rot="3200400">
            <a:off x="2500560" y="2909160"/>
            <a:ext cx="223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3411600">
            <a:off x="6325920" y="3541680"/>
            <a:ext cx="1411200" cy="7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6953040" y="16002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9240" y="13716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Nor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89880" y="26668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f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0480" y="121932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86920" y="4038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Sou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29480" y="60199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ntarc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2480" y="464832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Oce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13716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.How salty is the water in the ocea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.  3.5%     B.  11%     C.   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273800">
            <a:off x="1157400" y="220932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3000" y="350532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.Where is  the saltiest lake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9920" y="457200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he Great Salt La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56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1981080" cy="1287360"/>
          </a:xfrm>
          <a:prstGeom prst="rect">
            <a:avLst/>
          </a:prstGeom>
          <a:ln w="0">
            <a:noFill/>
          </a:ln>
        </p:spPr>
      </p:pic>
      <p:pic>
        <p:nvPicPr>
          <p:cNvPr id="109" name="44" descr=""/>
          <p:cNvPicPr/>
          <p:nvPr/>
        </p:nvPicPr>
        <p:blipFill>
          <a:blip r:embed="rId2"/>
          <a:stretch/>
        </p:blipFill>
        <p:spPr>
          <a:xfrm>
            <a:off x="-380880" y="0"/>
            <a:ext cx="43894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.Where is the longest coral bed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8480" y="259092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_023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1589040" cy="108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33526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.How does sea water stay cle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2670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eaweeds produce various chemicals that keep the sea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44" descr=""/>
          <p:cNvPicPr/>
          <p:nvPr/>
        </p:nvPicPr>
        <p:blipFill>
          <a:blip r:embed="rId2"/>
          <a:stretch/>
        </p:blipFill>
        <p:spPr>
          <a:xfrm>
            <a:off x="-380880" y="228600"/>
            <a:ext cx="43894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371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he earth looks blue from the space  because  it is so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3048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4191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5146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. Only a few people have seen much of the earth’s solid  surface bef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65760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.  Altogether there are eleven minerals that make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he salt water of the oc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4.  Chemicals produced by seaweeds help keep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seawater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4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81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105520" y="1981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42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 F   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 F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63868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447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5.The surface water of the Mediterranean in   summer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can reach up to 25°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4382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6.According to the passage, if the sea loses a lot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ater to the air, there might be parts of salt 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housand of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886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7.Coral beds can be seen everywhere in the sea a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over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5105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8.Corals must live in clean water and dirty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ll kill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4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81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83520" y="11430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e9ad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2057400"/>
          <a:ext cx="7238880" cy="3886200"/>
        </p:xfrm>
        <a:graphic>
          <a:graphicData uri="http://schemas.openxmlformats.org/drawingml/2006/table">
            <a:tbl>
              <a:tblPr/>
              <a:tblGrid>
                <a:gridCol w="3962520"/>
                <a:gridCol w="32763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M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cea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diterranea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ead Se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reat Salt Lak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800600" y="2209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289548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9000" y="3733920"/>
            <a:ext cx="20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640" y="4495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640" y="52578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yz106</cp:lastModifiedBy>
  <dcterms:modified xsi:type="dcterms:W3CDTF">2002-04-02T02:42:16Z</dcterms:modified>
  <cp:revision>182</cp:revision>
  <dc:subject/>
  <dc:title>PowerPoint 演示文稿</dc:title>
</cp:coreProperties>
</file>