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F463-DFA9-45EC-8305-1D034810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AEA-70D1-4391-862D-EF464A24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2BD1-2AF1-403F-BC75-902D075E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AF12-554D-42F2-AA4A-1ECE45E9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1FED-6C68-4046-BD73-BE13E5DA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2FFA-218C-449C-AE89-7908F6C1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E48D-367C-475B-82A6-CE7D2E62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3BF0-3C0E-4A5F-9F0B-CD501CD5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E9F5-235D-49B4-9987-7DACF4FC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7ADC-F49E-434F-B41F-7D0E299C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8FB3-BD45-4D1B-BB30-AF827C98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F4F-0995-43C1-B3BF-2E43C9DB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DD09-8D4A-4B6C-8311-6DC92028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8D53-65BB-44F1-8DD1-A760C898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054C-EA4B-4329-A28A-9D2A18CA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E69C-6CC2-4AC7-9FF9-ABEECB48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FF7F-1250-4B3D-B127-4A550DED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B57-D409-46E8-B1A7-18E52381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402-8913-4399-A7D8-9E404033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0FE-BF33-41FD-97DE-222800C3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5F51-EAFD-4446-886C-A4A83CBC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6CA4-4EA6-4E9B-B2DE-6AFB03A6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198-E05F-4A82-A425-8D1DBF68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67F-25F3-4DB7-8B61-DB751EC0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848A-CCE8-476D-8B5E-8EA84D7893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" y="2438280"/>
            <a:ext cx="9147240" cy="1063800"/>
            <a:chOff x="-36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" y="2479680"/>
              <a:ext cx="9147240" cy="1012320"/>
              <a:chOff x="-36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9140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5304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340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364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884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5128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9300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640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640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808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328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50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672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8156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215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660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72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8244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488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72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72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6631-624C-46D4-B715-44D76C1ACA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14400" y="304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2004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年高考模拟单选题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976320"/>
            <a:ext cx="8458200" cy="58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-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’m sorry to keep you waiting.I’ll make short work of th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________.I am in no hur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ake your time              B.Take it ea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Don’t be nervous           D.Why did you do it ear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What he told us about the affairs simply doesn’t make any____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value   B.sense   C.idea     D.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----Where is that old m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That old man with a pair of glasses? Oh,---his daughter o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seeing     B.having seen      C.being seen    D.s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If I have to choose  between Alice and Rose.I would say Rose is _____ to be my secret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Suit    B.good   C.the fit  D.the b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4320" y="2895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100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5029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14400" y="372960"/>
            <a:ext cx="70102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5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you like me to call a taxi for yo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I’d like to    B.Would you please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Please. Thank you just the same  D.No,it will be trouble to yo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6.---Where_________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-I got caught in the traffic,or I_____here soon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did you go,had arrived       B.have you been, 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have you been, would have been   D.were you, would  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7.--Have you ever been to Lond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,_____shall I forget ____it for the  first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however,visiting      B.never,vis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ever,to visit               D.forever, to have vis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76520" y="762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43434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14400" y="533520"/>
            <a:ext cx="792468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8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. Alcott,headmaster of the school,refused to accept____ of the three suggestions  made by the Students’ Un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ny     B.neither    C.none     D.ei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9.That evening ____Smiths sat before a bright fire and had___nice sup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X,a      B.the ,a     C.X,X     D.the,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.______most students, he was always well prepared and never came late to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For     B,As       C.Like     D.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.One more week,_______we’ll complete the ta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or      B.so that        C.if         D.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.--I’m going to the bookst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you are there,can you get some story boo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During       B.While     C.Because     D.A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457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25909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3733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5181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90720" y="228600"/>
            <a:ext cx="792468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entleman _______you told me yesterday proved to be  a thie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ho     B.whom     C.with whom    D.about wh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4.--I stayed at a hotel while in New Y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h,did you? You ______with Barba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could stay      B.could have st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would stay      D.must have st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5.--Do you think Norman would have lent me his c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,if you _____him 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sk    B.had asked     C.will ask     D.as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6.some of the passengers told the reporter their _______ in the burning tr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details   B.events     C.experiences     D.tr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7.--Alice,why didn’t you come yesterda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 ____,but I had an unexpected  visi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as going to  B.had    C.did     D.w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8120" y="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1600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5880" y="4114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5867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90720" y="380880"/>
            <a:ext cx="77724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8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five pairs ___,but I’m not sure which to bu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o be chosen       B.to choose from   C.for choosing   D.to cho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9.--You are smoking too mu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nly at home. Nobody ___ me but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sees    B.saw   C.is seeing    D.has s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.--Look at this! I____ some old pictures and ____this baby pi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t’s a picture of you?  It’s so love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am going through,find      B.was going through,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went through,had found      D.had gone through,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1.--You forget to feed the cat ag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I can’t remember       B.I don’t mind feeding her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I’ll do it now               D.Yes,I did.What about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304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2666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49528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4400" y="457200"/>
            <a:ext cx="82296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52.--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um,I’ve cut my finger.It’s blee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--_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.Let me see       B.Don’t worry      C.Be careful   D.Let me have a l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53.--Who’s Jerry Copp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--________? I saw you shaking hands with him at the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.Haven’t you met him yet    B.hadn’t you met him 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.Didn’t you meet him yet     D.Don’t you meet you 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54.The cupboard filled with shoes fell over and it took me half an hour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________ them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.pair    B.match    C.pick     D.cou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55.It was about 600 years ago ______the first clock with a face and an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as m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.until B.that   C.when   D.s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9144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22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4114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4876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90720" y="372960"/>
            <a:ext cx="76960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6.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haven’t lost your ticket,have yo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 hope 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not to have    B.to have not   C.not   D.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.Professor Li has written some short  stories,but he is ____known for his pl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more    B.the most   C.better   D.the b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8.  --Mum,can I watch the live broadcast on the football match of World Cup tonigh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rry,dear!Twelve o’clock is ______of your age to stay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 too late hour for a boy      B.very much late an hour for the b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too late an hour for a boy     D.a so late hour for a b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9.I  must leave,too. I _____having tea with you,Bi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as enjoying  B.am enjoying   C.enjoyed    D.enj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685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1752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3657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5029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66680" y="304920"/>
            <a:ext cx="80773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0.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ought to have given them some adv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_,but who cared what I sa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So ought you    B.So I ought  C.So I did   D.So  I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1“___I live there are plenty of sheep.”said he,with pr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hat   B.Whether     C.Where    D.W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2.Nowhere  else ____such perfect silence _____in these mounta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here is,as B.there is,like  C.is thee,like  D.is there,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3.Now the machine runs at double 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a speed     B.speed    C.the speed   D.for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.--If that is not yours,_______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Probably Jim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ho else can it be     B.who else’s it can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whose else can it be     D.whose else’s can it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762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1676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38680" y="2514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3505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44197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90720" y="380880"/>
            <a:ext cx="7391160" cy="64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5.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I come and talk with you when ti is ____yo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,please.Let’s make ______ Sunday eve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convenient to,it      B.fit for ,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comfortable to,them     D.suitable for,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He left his native village twenty years ago and has _____returned                only o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since  B.ever    C.just   D.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7.--How much do you like your c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____.I would have paid _____for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Wonderful,twice as much       B.Very much, as twice m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very much ,twice as much         D.wonderful,as much time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8.The club did more harm than good to Robert,whose bad habits were ____ t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mostly picked up    B.most developed C.mostly held up D.most made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38480" y="838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2133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886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56386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90720" y="304920"/>
            <a:ext cx="7848360" cy="64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9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was a teapot shaped liked a China duck,out of ____mouth the tea was suppose to co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hile   B.that   C.its    D.wh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.Hillen used to be very shy but she has grown ____it n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ithout      B.over      C.away       D.out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1.--Such a sudden turn in the road is too difficult for the new driver,isn’t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_____.He’s dealt with all kinds of troublesome situations bef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No,it isn’t   B.Yes,it is   C.No,not yet    D.Ye4s,I think 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.--______the visitors come in or wait outsi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how them in,pl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Have     B.Will    C.Shall      D.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3.The court hears about 120 cases a year,visitors are welcome to see a case 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rgued      B.to be argued    C.be arguing     D.being argu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81680" y="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1295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4114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5791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066680" y="304920"/>
            <a:ext cx="731520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4._______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eneral state of this health,it may take him a while to recover from the 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Given    B.To given     C.Giving     D.Having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5.Do speak loudly while _____yourself understood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listening to make     B.listened to m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listened to make         D.listening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6.--It is ____ that he has been to Lond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s,he doesn’t travel abroad a l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the second time  B.many times  C.twice   D.for only three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7.--Have  you had any letters from hi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o,I haven’t,but my wife _____ him regular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has heard from     B.has been hearing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had heard from    D.had been hearing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228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6200" y="1447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2895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4648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14400" y="0"/>
            <a:ext cx="822960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nouncement was made,job hunters began crow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 th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After than less a day     B.Less than a day 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For less than a day        D.Less than after a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After several tests,we decided to take on Jenny,_____we believed was the best choice ever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ho  B.whom   C.which     D.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It was about 600 years ____ the first clock with a face and an hour hand was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that     B.until    C.before    D.s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-----You must have been driving at 100 miles an h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No,I didn’t need______ that,I  wasn’t in a  Hur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doing   B.having  does   C.to do  D. to hav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2209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19320" y="2286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0"/>
            <a:ext cx="815328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.---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____ the editor at the airp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No,he______ away before my arri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Have… met; has driven   B.Had…met:was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Did…. Meet:had been driven   D.Have…met:had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She liked the dictionary so much that she would like to take it______it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hat  B.how much   C.whatever  D.no matter how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He is believed ______in at his office on his way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dropping   B.to have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having dropped   D.to be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The artist tried his best to paint what he saw with his___as well as with his 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brain   B.mind   C.head   D.so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3657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010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2286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16002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2120" y="304920"/>
            <a:ext cx="83818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.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I do for you,s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,thanks.I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just look around  B.have just looked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am just looking around   D.just looked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I ____each of the students immediately work out a practical plan for stu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expect   B.wish  C.hope  D.sugg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As is known to all,Taiwan is _______is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the China’s first largest    B.China’s first lar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the first China’s largest    D.the Chinese first lar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.You may go out___your homework i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except B.unless  C.until   D.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8380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25146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4038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5562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14400" y="380880"/>
            <a:ext cx="78487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_____you think is right _____difficulties you may ha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hat;however B.that,whatever C.whatever,however D.what,what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.---she didn’t take her medicine last night,did sh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No,but I wish she couldn’t  B.Yes,I wish 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No,but I wish she had     D.No, but I wish she dr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.----Has  the train arriv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No,it will be late_____half an h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t          B.for      C.in       D.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304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486400" y="3962520"/>
            <a:ext cx="28195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90720" y="457200"/>
            <a:ext cx="754380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.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get me wrong.I’m just jo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No,I won’t  B Oh, you are quit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That’s nothing   D.Of course,I do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.-- You could have asked Mr.Richerels for help.He is kind-hea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Yes,a whole day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ould be wasted     B.will waste      C.had been wasted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was  wa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--Shall we go swimm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K,I’ll just go and get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to change    B.to be changed     C.,changed    D.cha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8380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943600" y="4800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380880"/>
            <a:ext cx="85345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3.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young man work h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t in the least._____could be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Nobody:lazier    B.Nobody else:laz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Nobody:less hard working   D.Nobody else: laz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.Don’t get that ink on your shirt,for it______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on’t wash out     B.wasn’t wash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won’t be washing out       D.hasn’t wash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.---_____you got to know my telephone numb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Through  a friend of y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How was it    B.Was it how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How was it that    D.How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990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38862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14400" y="533520"/>
            <a:ext cx="82296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6.--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does Mr Brown come fro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I’m not sure,But her English______Austral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sounds  B.listens   C.feels    D.sugg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---I think I’ll just have coffee for a chan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_______.The coffee and sugar are in the cupbo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Change it,please     B.Coffee would be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Help yourself          D.So do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.---How much vinegar did you put in the sal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I’m sorry to say,_______.I for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no  B.nothing   C.no one  D.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9.-----I suggest going to the cinema toni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-Great! Please stay at home then.I’ll____ you at 6:3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call for    B.wait for    C.search for   D. Look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1905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3733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48006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943600" y="17524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14400" y="228600"/>
            <a:ext cx="822960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0.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you tell me how you usually go to schoo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.If it is fine,I _____ to my scho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ill walk   B.walk    C.will go on foot   D.would go on f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.Jim,_____the window quickly.______ the wind blo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will shut: What    B.is shutting: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shuts:What            D.shut: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.Dick,it’s_____bad manners to blow your nose at ____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X,the B.the,a   C.X,X   D.the,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3.He thought this painting of little ______and let me have3 it for only 15 doll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price  B.cost  C.expense    D.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4.I’m not sure what time I’ll arrive,maybe half past six or a quarter to seven._____,I’ll be there as early as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Anyhow   B.However   C.Thus    D.Ther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533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1371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2590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410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9T12:36:39Z</dcterms:created>
  <dc:creator>0002</dc:creator>
  <dc:description/>
  <dc:language>en-US</dc:language>
  <cp:lastModifiedBy>LONG</cp:lastModifiedBy>
  <dcterms:modified xsi:type="dcterms:W3CDTF">2004-06-24T11:45:51Z</dcterms:modified>
  <cp:revision>31</cp:revision>
  <dc:subject/>
  <dc:title>没有幻灯片标题</dc:title>
</cp:coreProperties>
</file>