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5066-FDF8-46B0-9261-10058AE45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AF79-CF12-437F-ADE8-2ACEF1E6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DE44-CDFC-493D-869D-5C9BFADBA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1C03-4065-4727-9311-6D325F448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64C9-2393-4036-9C6F-6FD8B506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7191-0830-4AC6-AEED-42621FEF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090B-5106-4A7D-AFCC-3AAA9523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FB90-DF61-4920-8570-9CB99065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9F27-2284-4676-89F4-4C781926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0800-831D-40DC-96D4-6C200324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F658-F074-4AFE-A643-AB8A1FF3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BEAD-91DF-43C0-9554-866B9D73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16D4-0EA4-42C6-A622-112069A34B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45640" y="171360"/>
            <a:ext cx="42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Unit      8     first   aid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37120" y="525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94520" y="838080"/>
            <a:ext cx="58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教学目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了解在各种意外的紧急情况下的急救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30200" y="1447920"/>
            <a:ext cx="445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练习用英语知识表达应该做和不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48440" y="1981080"/>
            <a:ext cx="32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)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继续学习并运用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6560" y="24638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93320" y="252900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一篇有关顺序表达方式的短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50040" y="304812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教材分析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809880"/>
            <a:ext cx="8397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单元的中心话题是意外情况下的急救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言技能和语言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至要围绕急救这一中心话题进行设计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热身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arming  up 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过六幅图片导入新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学生针对这些图片思考一些问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会怎么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该怎么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563868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58672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267080" y="358128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76600" y="371520"/>
            <a:ext cx="5374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谈论这些问题的情况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会想到那些生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激发学生的学习兴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听力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istening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供发生在医院里的情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男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腿部受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另一个小女孩误喝了墨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教材设计了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笔记形式的问题填空和填缺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目的是训练学生通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听获取急救方面的信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33240" y="3343320"/>
            <a:ext cx="556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口语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peaking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部分继续围绕在家里如何确保家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安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训练学生听的能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说出更多的句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引发真实性的交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53920" y="485640"/>
            <a:ext cx="5955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读前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re-rea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立了三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lin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供学生讨论选择哪种提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生可以各自表达自己的看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下面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打下伏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99240" y="2711520"/>
            <a:ext cx="49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阅读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reading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救主要介绍一些常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  ABC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们记住这方面的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24200" y="3809880"/>
            <a:ext cx="529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读后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ost-rea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呈现三幅图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用 课文所学的知识说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中的人物正在如何运用急救知识救助伤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24360" y="5334120"/>
            <a:ext cx="40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问题是复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  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1011240"/>
            <a:ext cx="24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91000" y="533520"/>
            <a:ext cx="6136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语言学习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Language  study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词汇和语汇两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词汇部分设计了五个情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帮助学生加深对新词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理解和记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指导学生养成通过语境记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词语的方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题是一个故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通过上下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境内容选择所给的词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深所学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49800" y="2971800"/>
            <a:ext cx="6807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语法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掌握对将来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现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过去   这三种情况的假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还有虚拟语气在宾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句的用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ggest,recommen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里有三大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语境填上合适的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虚拟语气连接句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三题改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63680" y="609480"/>
            <a:ext cx="54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些练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利于学生从理论到实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循序渐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生比较牢固地掌握这部分的语法内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88920" y="1735200"/>
            <a:ext cx="6362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综合技能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ntegrating   skills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阅读部分谈如何处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im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t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isoning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如何进行急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进行分组活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最后写作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运用所学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出表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序的短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280" y="466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81120" y="4311720"/>
            <a:ext cx="50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学习建议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Tips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供如何做一个急救箱的内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本单元的话题服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95360" y="5454720"/>
            <a:ext cx="57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复习要点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checkpoi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复习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造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型转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625480" y="868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课时安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26800" y="1924200"/>
            <a:ext cx="1640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80520" y="1917720"/>
            <a:ext cx="5839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arming-up and list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pe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ading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ading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ord and gramm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tegrating skills 1 and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tegrating skills 2 and exerc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6:07:53Z</dcterms:modified>
  <cp:revision>12</cp:revision>
  <dc:subject/>
  <dc:title>PowerPoint Presentation</dc:title>
</cp:coreProperties>
</file>