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7880-0960-401E-B9AB-DD952465C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BA71-CB42-4E2A-B0E0-3E36A699C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73C5-4933-49B4-99EB-C6B8038B5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7202-D267-4319-9F11-0DD08812F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CEA44-E5A0-423D-8015-BC9345962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68956-C60E-41FC-8371-543C85DDE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E44D9-E9B1-43C7-8F25-33B18F358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F0C69-F3BE-44E5-88E2-05CFC8985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01F83-87B5-45B7-BFCB-2C6D248D1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3C434-A612-4F1A-882D-1861662A0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F1B0F-1D00-499E-A9DC-FD2300552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C005-02BD-456A-8FF3-CE545E1B0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A9781-E1FC-484E-9ED2-BC83BC4C2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239B2-D2F9-460C-8EC2-BABE91209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F5927-D53D-49AE-AA14-111E0446E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69FB2-64FF-438A-BA0A-B670696C0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83090-8E02-4ED9-9E92-DD972B661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6CF8-1108-46C2-94BB-F741935B7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E0B7-C265-4763-9F3E-B37B04B1E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520D-5E8A-49FE-95AA-5FC8E65E0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A89A-3E7C-48E4-82F2-70C6734AF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B804-1B37-451B-A5E0-E6F2E7CCB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8FFC-EC2D-4E35-BC6A-A5AF53738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A1D2-424C-410D-A685-6FF7D73EC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9900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100000">
                <a:srgbClr val="0000c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000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00009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99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193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D5C89-C8F1-4D56-85C3-A942AD707DF5}" type="slidenum">
              <a:rPr b="0" lang="zh-CN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0000cc"/>
                  </a:gs>
                  <a:gs pos="100000">
                    <a:srgbClr val="ffcc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99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0000cc"/>
                  </a:gs>
                  <a:gs pos="100000">
                    <a:srgbClr val="99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3399"/>
                </a:gs>
                <a:gs pos="100000">
                  <a:srgbClr val="0000c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0000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0000cc"/>
                </a:gs>
                <a:gs pos="100000">
                  <a:srgbClr val="00009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94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94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94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94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94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558E5-6CCD-4CBA-87AE-8984DF9347D5}" type="slidenum">
              <a:rPr b="0" lang="zh-CN" sz="1400" spc="-1" strike="noStrike">
                <a:solidFill>
                  <a:srgbClr val="000094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ed.ppt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057400" y="762120"/>
            <a:ext cx="5791320" cy="6426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一、过去分词短语作定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042280" y="2514600"/>
            <a:ext cx="4874760" cy="27752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1" lang="zh-CN" sz="4400" spc="-1" strike="noStrike">
                <a:solidFill>
                  <a:srgbClr val="ffffff"/>
                </a:solidFill>
                <a:latin typeface="宋体"/>
              </a:rPr>
              <a:t>过去分词及过去分词短语作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宋体"/>
              </a:rPr>
              <a:t>定语时，相当于一个</a:t>
            </a:r>
            <a:r>
              <a:rPr b="1" lang="zh-CN" sz="4400" spc="-1" strike="noStrike">
                <a:solidFill>
                  <a:srgbClr val="66ff33"/>
                </a:solidFill>
                <a:latin typeface="宋体"/>
              </a:rPr>
              <a:t>定语从句</a:t>
            </a:r>
            <a:r>
              <a:rPr b="1" lang="zh-CN" sz="4400" spc="-1" strike="noStrike">
                <a:solidFill>
                  <a:srgbClr val="ffffff"/>
                </a:solidFill>
                <a:latin typeface="宋体"/>
              </a:rPr>
              <a:t>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宋体"/>
              </a:rPr>
              <a:t>且分词所表示的动作与其所修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宋体"/>
              </a:rPr>
              <a:t>的名词构成逻辑上的</a:t>
            </a:r>
            <a:r>
              <a:rPr b="1" lang="zh-CN" sz="4400" spc="-1" strike="noStrike">
                <a:solidFill>
                  <a:srgbClr val="66ff33"/>
                </a:solidFill>
                <a:latin typeface="宋体"/>
              </a:rPr>
              <a:t>动宾关系</a:t>
            </a:r>
            <a:r>
              <a:rPr b="0" lang="zh-CN" sz="4400" spc="-1" strike="noStrike">
                <a:solidFill>
                  <a:srgbClr val="ffffff"/>
                </a:solidFill>
                <a:latin typeface="宋体"/>
              </a:rPr>
              <a:t>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55640" y="2276640"/>
            <a:ext cx="7561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Tell the children </a:t>
            </a:r>
            <a:r>
              <a:rPr b="1" lang="en-US" sz="4800" spc="-1" strike="noStrike">
                <a:solidFill>
                  <a:srgbClr val="66ff33"/>
                </a:solidFill>
                <a:latin typeface="Arial Black"/>
              </a:rPr>
              <a:t>playing there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 not to make so much noise. ( </a:t>
            </a:r>
            <a:r>
              <a:rPr b="1" lang="en-US" sz="4800" spc="-1" strike="noStrike">
                <a:solidFill>
                  <a:srgbClr val="66ff33"/>
                </a:solidFill>
                <a:latin typeface="Arial Black"/>
              </a:rPr>
              <a:t>who are playing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755640" y="1700280"/>
            <a:ext cx="68407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The house </a:t>
            </a:r>
            <a:r>
              <a:rPr b="1" lang="en-US" sz="4800" spc="-1" strike="noStrike">
                <a:solidFill>
                  <a:srgbClr val="66ff33"/>
                </a:solidFill>
                <a:latin typeface="Arial Black"/>
              </a:rPr>
              <a:t>standing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 at the corner of the street was built in 1955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( </a:t>
            </a:r>
            <a:r>
              <a:rPr b="1" lang="en-US" sz="4800" spc="-1" strike="noStrike">
                <a:solidFill>
                  <a:srgbClr val="66ff33"/>
                </a:solidFill>
                <a:latin typeface="Arial Black"/>
              </a:rPr>
              <a:t>that stands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 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>
            <a:hlinkClick r:id="rId1"/>
          </p:cNvPr>
          <p:cNvSpPr/>
          <p:nvPr/>
        </p:nvSpPr>
        <p:spPr>
          <a:xfrm>
            <a:off x="6948360" y="5300640"/>
            <a:ext cx="1081080" cy="538200"/>
          </a:xfrm>
          <a:custGeom>
            <a:avLst/>
            <a:gdLst>
              <a:gd name="textAreaLeft" fmla="*/ 34560 w 1081080"/>
              <a:gd name="textAreaRight" fmla="*/ 1046520 w 108108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43373" h="21600">
                <a:moveTo>
                  <a:pt x="0" y="0"/>
                </a:moveTo>
                <a:lnTo>
                  <a:pt x="43373" y="0"/>
                </a:lnTo>
                <a:lnTo>
                  <a:pt x="43373" y="21600"/>
                </a:lnTo>
                <a:lnTo>
                  <a:pt x="0" y="21600"/>
                </a:lnTo>
                <a:close/>
              </a:path>
              <a:path fill="lightenLess" w="43373" h="21600">
                <a:moveTo>
                  <a:pt x="0" y="0"/>
                </a:moveTo>
                <a:lnTo>
                  <a:pt x="43373" y="0"/>
                </a:lnTo>
                <a:lnTo>
                  <a:pt x="41973" y="1400"/>
                </a:lnTo>
                <a:lnTo>
                  <a:pt x="1400" y="1400"/>
                </a:lnTo>
                <a:close/>
              </a:path>
              <a:path fill="darken" w="43373" h="21600">
                <a:moveTo>
                  <a:pt x="43373" y="0"/>
                </a:moveTo>
                <a:lnTo>
                  <a:pt x="43373" y="21600"/>
                </a:lnTo>
                <a:lnTo>
                  <a:pt x="41973" y="20200"/>
                </a:lnTo>
                <a:lnTo>
                  <a:pt x="41973" y="1400"/>
                </a:lnTo>
                <a:close/>
              </a:path>
              <a:path fill="darkenLess" w="43373" h="21600">
                <a:moveTo>
                  <a:pt x="433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73" y="20200"/>
                </a:lnTo>
                <a:close/>
              </a:path>
              <a:path fill="lighten" w="433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73" h="21600">
                <a:moveTo>
                  <a:pt x="14680" y="7493"/>
                </a:moveTo>
                <a:lnTo>
                  <a:pt x="18188" y="7493"/>
                </a:lnTo>
                <a:lnTo>
                  <a:pt x="18188" y="12828"/>
                </a:lnTo>
                <a:cubicBezTo>
                  <a:pt x="18188" y="13751"/>
                  <a:pt x="18988" y="14482"/>
                  <a:pt x="20024" y="14482"/>
                </a:cubicBezTo>
                <a:lnTo>
                  <a:pt x="21687" y="14482"/>
                </a:lnTo>
                <a:cubicBezTo>
                  <a:pt x="22722" y="14482"/>
                  <a:pt x="23523" y="13751"/>
                  <a:pt x="23523" y="12828"/>
                </a:cubicBezTo>
                <a:lnTo>
                  <a:pt x="23523" y="7493"/>
                </a:lnTo>
                <a:lnTo>
                  <a:pt x="21687" y="7493"/>
                </a:lnTo>
                <a:lnTo>
                  <a:pt x="25194" y="3985"/>
                </a:lnTo>
                <a:lnTo>
                  <a:pt x="28867" y="7493"/>
                </a:lnTo>
                <a:lnTo>
                  <a:pt x="27031" y="7493"/>
                </a:lnTo>
                <a:lnTo>
                  <a:pt x="27031" y="12828"/>
                </a:lnTo>
                <a:cubicBezTo>
                  <a:pt x="27031" y="15596"/>
                  <a:pt x="24454" y="18155"/>
                  <a:pt x="21687" y="18155"/>
                </a:cubicBezTo>
                <a:lnTo>
                  <a:pt x="20024" y="18155"/>
                </a:lnTo>
                <a:cubicBezTo>
                  <a:pt x="17256" y="18155"/>
                  <a:pt x="14680" y="15596"/>
                  <a:pt x="14680" y="12828"/>
                </a:cubicBezTo>
                <a:close/>
              </a:path>
            </a:pathLst>
          </a:custGeom>
          <a:solidFill>
            <a:srgbClr val="319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755640" y="2492280"/>
            <a:ext cx="7796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There is a novel </a:t>
            </a:r>
            <a:r>
              <a:rPr b="1" lang="en-US" sz="5400" spc="-1" strike="noStrike">
                <a:solidFill>
                  <a:srgbClr val="ffcc00"/>
                </a:solidFill>
                <a:latin typeface="Times New Roman"/>
              </a:rPr>
              <a:t>written by a 19th century writer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2339640" y="980640"/>
            <a:ext cx="460836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stolen money 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a written repor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broken glas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tired drive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blocked road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239840" y="1930320"/>
            <a:ext cx="695484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the risen su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fallen leav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returned studen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escaped pris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the newly arrived visitor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" dur="8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8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8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" dur="8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8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666800" y="3505320"/>
            <a:ext cx="5118480" cy="27752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宋体"/>
              </a:rPr>
              <a:t>过去分词作定语时，常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宋体"/>
              </a:rPr>
              <a:t>位于其所修饰的</a:t>
            </a:r>
            <a:r>
              <a:rPr b="1" lang="zh-CN" sz="4400" spc="-1" strike="noStrike">
                <a:solidFill>
                  <a:srgbClr val="66ff33"/>
                </a:solidFill>
                <a:latin typeface="宋体"/>
              </a:rPr>
              <a:t>名词前</a:t>
            </a:r>
            <a:r>
              <a:rPr b="1" lang="zh-CN" sz="4400" spc="-1" strike="noStrike">
                <a:solidFill>
                  <a:srgbClr val="ffffff"/>
                </a:solidFill>
                <a:latin typeface="宋体"/>
              </a:rPr>
              <a:t>；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宋体"/>
              </a:rPr>
              <a:t>过去分词</a:t>
            </a:r>
            <a:r>
              <a:rPr b="1" lang="zh-CN" sz="4400" spc="-1" strike="noStrike">
                <a:solidFill>
                  <a:srgbClr val="66ff33"/>
                </a:solidFill>
                <a:latin typeface="宋体"/>
              </a:rPr>
              <a:t>短语</a:t>
            </a:r>
            <a:r>
              <a:rPr b="1" lang="zh-CN" sz="4400" spc="-1" strike="noStrike">
                <a:solidFill>
                  <a:srgbClr val="ffffff"/>
                </a:solidFill>
                <a:latin typeface="宋体"/>
              </a:rPr>
              <a:t>作定语时，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宋体"/>
              </a:rPr>
              <a:t>常位于其所修饰的</a:t>
            </a:r>
            <a:r>
              <a:rPr b="1" lang="zh-CN" sz="4400" spc="-1" strike="noStrike">
                <a:solidFill>
                  <a:srgbClr val="66ff33"/>
                </a:solidFill>
                <a:latin typeface="宋体"/>
              </a:rPr>
              <a:t>名词后</a:t>
            </a:r>
            <a:r>
              <a:rPr b="1" lang="zh-CN" sz="4400" spc="-1" strike="noStrike">
                <a:solidFill>
                  <a:srgbClr val="ffffff"/>
                </a:solidFill>
                <a:latin typeface="宋体"/>
              </a:rPr>
              <a:t>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0240" y="304920"/>
            <a:ext cx="69886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You should improve your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Times New Roman"/>
              </a:rPr>
              <a:t>spoken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English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．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He is a teacher </a:t>
            </a:r>
            <a:r>
              <a:rPr b="1" lang="en-US" sz="4400" spc="-1" strike="noStrike">
                <a:solidFill>
                  <a:srgbClr val="66ff33"/>
                </a:solidFill>
                <a:latin typeface="Times New Roman"/>
              </a:rPr>
              <a:t>respected by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Times New Roman"/>
              </a:rPr>
              <a:t>all his students</a:t>
            </a:r>
            <a:r>
              <a:rPr b="1" lang="zh-CN" sz="4400" spc="-1" strike="noStrike">
                <a:solidFill>
                  <a:srgbClr val="66ff33"/>
                </a:solidFill>
                <a:latin typeface="Times New Roman"/>
              </a:rPr>
              <a:t>．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1520" y="-174960"/>
            <a:ext cx="72900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ahoma"/>
              </a:rPr>
              <a:t>注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099880" y="2666880"/>
            <a:ext cx="4658040" cy="27752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0" lang="zh-CN" sz="4400" spc="-1" strike="noStrike">
                <a:solidFill>
                  <a:srgbClr val="ffffff"/>
                </a:solidFill>
                <a:latin typeface="宋体"/>
              </a:rPr>
              <a:t>．</a:t>
            </a:r>
            <a:r>
              <a:rPr b="1" lang="zh-CN" sz="4400" spc="-1" strike="noStrike">
                <a:solidFill>
                  <a:srgbClr val="ffffff"/>
                </a:solidFill>
                <a:latin typeface="宋体"/>
              </a:rPr>
              <a:t>不及物动词的过去分词作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宋体"/>
              </a:rPr>
              <a:t>定语，且与其所修饰的名词构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宋体"/>
              </a:rPr>
              <a:t>成逻辑上的动宾关系时，必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宋体"/>
              </a:rPr>
              <a:t>在该动词后使用必要的介词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293120" y="380880"/>
            <a:ext cx="6957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He is the student </a:t>
            </a:r>
            <a:r>
              <a:rPr b="1" lang="en-US" sz="4400" spc="-1" strike="noStrike">
                <a:solidFill>
                  <a:srgbClr val="66ff33"/>
                </a:solidFill>
                <a:latin typeface="Times New Roman"/>
              </a:rPr>
              <a:t>laughed at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by all people just now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．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87280" y="981000"/>
            <a:ext cx="75805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过去分词短语作定语时，表示的动作：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1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、在谓语表示的动作之前发生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(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即已完成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)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2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、或没有一定的时间性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8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8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8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71640" y="1125360"/>
            <a:ext cx="75088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A letter </a:t>
            </a:r>
            <a:r>
              <a:rPr b="1" lang="en-US" sz="4800" spc="-1" strike="noStrike">
                <a:solidFill>
                  <a:srgbClr val="66ff33"/>
                </a:solidFill>
                <a:latin typeface="Arial Black"/>
              </a:rPr>
              <a:t>posted today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 will probably reach him the day after tomorrow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I hate to see letters </a:t>
            </a:r>
            <a:r>
              <a:rPr b="1" lang="en-US" sz="4800" spc="-1" strike="noStrike">
                <a:solidFill>
                  <a:srgbClr val="66ff33"/>
                </a:solidFill>
                <a:latin typeface="Arial Black"/>
              </a:rPr>
              <a:t>written in pencil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7956720" y="260280"/>
            <a:ext cx="739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ff33"/>
                </a:solidFill>
                <a:latin typeface="Tahoma"/>
              </a:rPr>
              <a:t>比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042920" y="2060640"/>
            <a:ext cx="73645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ahoma"/>
              </a:rPr>
              <a:t>现在分词作定语时：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zh-CN" sz="4800" spc="-1" strike="noStrike">
                <a:solidFill>
                  <a:srgbClr val="ffffff"/>
                </a:solidFill>
                <a:latin typeface="Tahoma"/>
              </a:rPr>
              <a:t>、表示正在进行的动作；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zh-CN" sz="4800" spc="-1" strike="noStrike">
                <a:solidFill>
                  <a:srgbClr val="ffffff"/>
                </a:solidFill>
                <a:latin typeface="Tahoma"/>
              </a:rPr>
              <a:t>、表示经常性的动作或现在的状态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9T09:37:41Z</dcterms:created>
  <dc:creator>李徐琴</dc:creator>
  <dc:description/>
  <dc:language>en-US</dc:language>
  <cp:lastModifiedBy>赵晨盼</cp:lastModifiedBy>
  <dcterms:modified xsi:type="dcterms:W3CDTF">2002-11-03T13:18:19Z</dcterms:modified>
  <cp:revision>2</cp:revision>
  <dc:subject/>
  <dc:title>幻灯片 1</dc:title>
</cp:coreProperties>
</file>