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590-C545-4BF5-8BF1-4A81522E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FD1-A44B-43CF-AAF4-E3D095BA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EF1-081B-4E05-8907-A5D31DEF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DDB-6833-423A-8B81-D818CB06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0C39-EFE2-46A9-9780-108F862B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A6FE-E60D-4780-AE9B-CF5AFAA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C25-283A-4D27-9C88-9E1B6636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6C8A-52DE-41D1-AFBE-F4C11C09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BC98-C474-4E35-9A89-69767214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A25-A060-4323-A1F6-CD2643F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6A70-A6BC-43B0-A659-88D44CF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220-7DA9-4FA0-8ACB-A886DE6A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F4F7-65BD-4996-941D-2D2DFA86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B884-7A41-4BE5-BA5C-D4D76963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69C6-EE01-4A00-BCF4-AD2254E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C79B-809A-4B1D-ACE1-8EC0EA48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572-D26D-46AA-BD39-F2D903E2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D1C-3220-4A40-9E81-D20C5628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CAE-397E-400F-A864-5A9B66FD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56E-759A-477B-AA90-10DCC0D4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ADE-5F7E-48EB-B4D6-096589B8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BEA-F4FB-403E-AADC-589692E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54A-6E03-47D2-8436-02E2DB36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91D-6834-4D5D-B13C-75203EE6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1DB-BC75-416B-A266-64CEFDCA578F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AC1-CAE4-4F45-9106-F4DF03CA003C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920" y="620640"/>
            <a:ext cx="48927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二、过去分词作表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18160"/>
            <a:ext cx="8351640" cy="143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表语时，分词所表示的动作与句子的主语构成逻辑上的动宾关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628640"/>
            <a:ext cx="84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what he sai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 the meeting yesterday 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e said at the mee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esterday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urpris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206064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一个分词是否成为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形容词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的一个标志就是看它是否可以和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very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连用，来表示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很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、“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非常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”这样的概念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1120" y="1530360"/>
            <a:ext cx="69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过去分词作表语时，表示主语所处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状态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而被动结构表示所承受的</a:t>
            </a: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动作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2708280"/>
            <a:ext cx="80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ere surpris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This lak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is badly polluted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by a paper mi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197000"/>
            <a:ext cx="2232360" cy="792000"/>
          </a:xfrm>
          <a:prstGeom prst="wedgeRectCallout">
            <a:avLst>
              <a:gd name="adj1" fmla="val -40754"/>
              <a:gd name="adj2" fmla="val 147796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表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5229360"/>
            <a:ext cx="3097440" cy="936360"/>
          </a:xfrm>
          <a:prstGeom prst="wedgeRectCallout">
            <a:avLst>
              <a:gd name="adj1" fmla="val -24986"/>
              <a:gd name="adj2" fmla="val -159490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被动结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97480" y="2276640"/>
            <a:ext cx="7531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r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u Xun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 buri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Everything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is settl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were frighten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e </a:t>
            </a:r>
            <a:r>
              <a:rPr b="1" lang="zh-CN" sz="4800" spc="-1" strike="noStrike">
                <a:solidFill>
                  <a:srgbClr val="66ff33"/>
                </a:solidFill>
                <a:latin typeface="Arial Black"/>
              </a:rPr>
              <a:t>felt astonishe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43480" y="533520"/>
            <a:ext cx="5658120" cy="210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现在分词及其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表语时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词所表示的动作与句子的主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构成逻辑上的主谓关系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8160" y="3352680"/>
            <a:ext cx="860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ing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d we w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 excit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  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ews was exciting and 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excit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us al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77724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is a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The students are confused by the probl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fuse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tudent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7020000" y="5516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9:06Z</dcterms:created>
  <dc:creator>李徐琴</dc:creator>
  <dc:description/>
  <dc:language>en-US</dc:language>
  <cp:lastModifiedBy>赵晨盼</cp:lastModifiedBy>
  <dcterms:modified xsi:type="dcterms:W3CDTF">2002-11-03T13:18:59Z</dcterms:modified>
  <cp:revision>2</cp:revision>
  <dc:subject/>
  <dc:title>幻灯片 1</dc:title>
</cp:coreProperties>
</file>