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6C9-67F3-4AC0-ACE9-84E79811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4D1-87AD-4B18-B831-61F44726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F41-BE3C-4D87-91FF-131E8A15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C53-C0DA-4ADD-91B1-60ACDCFA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052-573C-4CE5-83EC-534951E2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F6B-EB64-4D8C-8423-DD93A15A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0A4-F581-4A55-B6BF-7172588C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E3B-61F9-4F16-A01B-BD191D41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014-487F-490D-8D4E-3089D83A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BE8-CBA5-482B-AC3E-77A291EB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0FE-B9A7-4765-ADB5-D9265BD3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BF7-B65F-461C-818E-62E53FBB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6CDB-C8DD-4A29-A6FF-11CD59DF04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introductoin.ppt#Slide 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4520" y="1197000"/>
            <a:ext cx="274104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/>
              </a:rPr>
              <a:t>过去分词概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定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表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状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过去分词作补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练习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6948360" y="530064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1468" y="7493"/>
                </a:moveTo>
                <a:lnTo>
                  <a:pt x="14976" y="7493"/>
                </a:lnTo>
                <a:lnTo>
                  <a:pt x="14976" y="12828"/>
                </a:lnTo>
                <a:cubicBezTo>
                  <a:pt x="14976" y="13751"/>
                  <a:pt x="15777" y="14482"/>
                  <a:pt x="16812" y="14482"/>
                </a:cubicBezTo>
                <a:lnTo>
                  <a:pt x="18475" y="14482"/>
                </a:lnTo>
                <a:cubicBezTo>
                  <a:pt x="19510" y="14482"/>
                  <a:pt x="20311" y="13751"/>
                  <a:pt x="20311" y="12828"/>
                </a:cubicBezTo>
                <a:lnTo>
                  <a:pt x="20311" y="7493"/>
                </a:lnTo>
                <a:lnTo>
                  <a:pt x="18475" y="7493"/>
                </a:lnTo>
                <a:lnTo>
                  <a:pt x="21982" y="3985"/>
                </a:lnTo>
                <a:lnTo>
                  <a:pt x="25655" y="7493"/>
                </a:lnTo>
                <a:lnTo>
                  <a:pt x="23819" y="7493"/>
                </a:lnTo>
                <a:lnTo>
                  <a:pt x="23819" y="12828"/>
                </a:lnTo>
                <a:cubicBezTo>
                  <a:pt x="23819" y="15596"/>
                  <a:pt x="21242" y="18155"/>
                  <a:pt x="18475" y="18155"/>
                </a:cubicBezTo>
                <a:lnTo>
                  <a:pt x="16812" y="18155"/>
                </a:lnTo>
                <a:cubicBezTo>
                  <a:pt x="14045" y="18155"/>
                  <a:pt x="11468" y="15596"/>
                  <a:pt x="11468" y="12828"/>
                </a:cubicBez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1:40:42Z</dcterms:created>
  <dc:creator>李徐琴</dc:creator>
  <dc:description/>
  <dc:language>en-US</dc:language>
  <cp:lastModifiedBy>赵晨盼</cp:lastModifiedBy>
  <dcterms:modified xsi:type="dcterms:W3CDTF">2002-11-03T13:20:24Z</dcterms:modified>
  <cp:revision>5</cp:revision>
  <dc:subject/>
  <dc:title>幻灯片 1</dc:title>
</cp:coreProperties>
</file>