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A33-0C6F-4679-9425-6980BFF0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C57-B379-436A-80AE-66E410EE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138-A0C7-440E-BA2C-B1911E25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DB2-0ED0-4328-90E4-6FE4C68A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902C-5B59-4D5B-AC21-062BD4C3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DDEF-182D-470E-B9EC-5D7D2765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7D92-07DD-45BE-9253-690E6D1D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A3C8-D996-45DB-B0B7-A2E58E27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C8BD-9243-4A74-B7C0-55FAD774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0FB9-1383-463F-8A6D-E1A855F4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7619-8389-4270-8701-2629B116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AC3-C20D-4581-9E03-EE736EEE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E12B-A694-4E73-99CD-72F0F4C9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C11D-9889-46B9-9F59-9307F56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A72-3F7D-43CE-9965-F6326D7E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6C63-2B23-4343-AF74-85C5CA4F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61A7-775F-401B-B682-74134C67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EF3-0FBF-4531-852E-96E4C042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1CA-2826-401B-8A63-600A9C74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9E5-8669-4245-9E72-6E59CB10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8D3-7C06-4078-9052-937A6C80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9CA-D841-43EB-9EFC-0FE423A7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6B8-22CF-4E4E-B6E1-DFBB1A0E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EC1-65DD-4C17-8A9C-8B2B017F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59EF-5E48-4F81-AC7B-74EAD7F903BE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1E57-E5DA-4A1C-8FFA-2736E3D973F2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3880" y="685800"/>
            <a:ext cx="611208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四、过去分词作宾语补足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1960" y="2060640"/>
            <a:ext cx="6738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常见的句式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．使役动词或感官动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(have, make, see, hear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watch,notice, fee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＋宾语＋过去分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0512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Yesterday 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my bicyc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repair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The teacher spoke so slowl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 that he could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mak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im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understoo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7400" y="2133720"/>
            <a:ext cx="8253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On my way back home, 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ear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y nam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all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.Yesterday she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r walle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tol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when she was do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opping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14720" y="380880"/>
            <a:ext cx="657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keep, leave, get, fin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＋宾语＋过去分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00" y="2666880"/>
            <a:ext cx="8547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If I get further information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ll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keep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nform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When I came into the classroom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foun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leare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914400"/>
            <a:ext cx="8169120" cy="76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介词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＋宾语＋过去分词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9360" y="2514600"/>
            <a:ext cx="7473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The child was cry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with the glass broken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With all the work finishe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y hurried back home fo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unc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"/>
          </p:cNvPr>
          <p:cNvSpPr/>
          <p:nvPr/>
        </p:nvSpPr>
        <p:spPr>
          <a:xfrm>
            <a:off x="7164360" y="558972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41:59Z</dcterms:created>
  <dc:creator>李徐琴</dc:creator>
  <dc:description/>
  <dc:language>en-US</dc:language>
  <cp:lastModifiedBy>赵晨盼</cp:lastModifiedBy>
  <dcterms:modified xsi:type="dcterms:W3CDTF">2002-11-03T13:18:39Z</dcterms:modified>
  <cp:revision>2</cp:revision>
  <dc:subject/>
  <dc:title>幻灯片 1</dc:title>
</cp:coreProperties>
</file>