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75E-301C-4CB0-8F36-482FAAC8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18E-CFE3-40C2-B750-2DCECD22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CA5-9247-491B-A7AB-454CBE1D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490-90B9-4FFC-A65F-4E5898BB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953-D668-43C6-8697-72E6DDFB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8562-CDAE-48FC-A0D1-DA9EDAB3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4175-601E-4079-B5FC-175FBB4A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8A31-6887-465C-8D88-8F3521D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4151-1C89-44FA-BDBA-4860F45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017F-B9F2-46D9-812B-D158880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D072-F2AA-4671-8FDC-A6BF72B2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BD2-531A-4DFB-A977-D0BC3696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D036-D421-4D39-B5ED-EBC681A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291-F8A0-43B4-AB6E-8C1EBA8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3EA-60FB-4F6E-9F0B-F80A8D9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8274-453E-46EA-8F01-7F0FBEE1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CC5-2D17-4367-9DD0-7DD1B5A7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8CA-5F25-4539-B462-C8BC7FDD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7CA-6EAB-40CA-88FC-32869C0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84B-1439-4E59-8BA0-45841D2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FA5-BF3C-403A-A966-AF10D18B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421-2BD9-4DB1-A695-C9E1CAC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0C9-0EEF-457B-A1EC-3316E06A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089-CEC0-426B-9ABC-E596CA0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CF6-897F-49E9-BAAD-682C8C2A198A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8C4E-B9EB-424C-9B80-10F9EC4856A3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16000" y="155736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分词有两种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现在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　　　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过去分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二者主要在意义上有</a:t>
            </a: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主动、被动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之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1700280"/>
            <a:ext cx="729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s is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xcit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hear i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someone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ing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heard the door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open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76500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含有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之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6789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ough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field is a field which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has been plough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79680" y="836640"/>
            <a:ext cx="453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现在分词表示 “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正在进行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7480" y="2060640"/>
            <a:ext cx="453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ing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oiled 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ing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allen 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2305080" cy="1000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-e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拼法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2448000" cy="3888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t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pe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op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jo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udy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gin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989000"/>
            <a:ext cx="2552760" cy="3702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a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op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studi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gu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7667640" y="587700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5:53Z</dcterms:created>
  <dc:creator>李徐琴</dc:creator>
  <dc:description/>
  <dc:language>en-US</dc:language>
  <cp:lastModifiedBy>赵晨盼</cp:lastModifiedBy>
  <dcterms:modified xsi:type="dcterms:W3CDTF">2002-11-03T13:19:37Z</dcterms:modified>
  <cp:revision>3</cp:revision>
  <dc:subject/>
  <dc:title>幻灯片 1</dc:title>
</cp:coreProperties>
</file>