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3FF-B8A1-4A74-86D2-BEA22155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E5A-757B-4488-8FAB-0C1CDF5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88A-2CFE-454A-90B5-6FD8F9E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2C3-EE22-40B0-A6E4-2C695063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0E07-D0BF-4A28-BA51-4EFD083C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EDBE-260C-459E-A89B-DC702A30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B30-54E1-4917-932D-6FD5C3AB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8F7-1EBB-477B-81EA-65517CEB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A49F-9E36-46D1-8B41-C2A3750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C3B-F1BB-4422-B815-B1483EE5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D1B5-939D-4E87-A884-88394D1E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629-3A31-4422-9A18-A57498F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B9D7-24B2-4BD8-8D23-8DF42D1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FEE-2FC8-493C-A098-96429D2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8C3-75DD-4E72-948E-24F8B63E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26A-80C4-4145-899D-573E2D4B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2B31-31DF-46E6-9FC1-BD87CDA8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E1C-5C80-438A-84B2-07788C5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FE1-1154-4243-85DC-5A1F230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1DA-7FA4-4791-8C8A-103A57D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7D1-E991-4BED-B7BA-4D1DA83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35B-E889-4C89-A83E-3B360119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E46-63D4-44C2-99FA-4FFB039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E1A-4061-4757-81D7-C0DE611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41C-5B9B-440A-BC2C-71B591B54DFC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74DE-6557-49F0-BAC0-72C4D5791F68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5329440" cy="779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ahoma"/>
              </a:rPr>
              <a:t>三、过去分词作状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844640"/>
            <a:ext cx="71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een from the mountain,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our school looks beautiful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nes and Smith came,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llowed by their wi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92080" y="2602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状语的用法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说明发生的背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20500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Built in 1192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bridge is over 700 years o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r. Cooper,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deeply mov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anked him again and aga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8120" y="907920"/>
            <a:ext cx="91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表示原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492280"/>
            <a:ext cx="79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Born into a farmer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famil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he had only two years of school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8320" y="1060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时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840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Seen from the hil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town looks beautifu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32680" y="844560"/>
            <a:ext cx="9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表示条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060640"/>
            <a:ext cx="750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Given more attention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, the cabbages could have grown bett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2492280"/>
            <a:ext cx="81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分词作状语时，它的逻辑主语必须与句子主语</a:t>
            </a:r>
            <a:r>
              <a:rPr b="1" lang="zh-CN" sz="4800" spc="-1" strike="noStrike">
                <a:solidFill>
                  <a:srgbClr val="99ff33"/>
                </a:solidFill>
                <a:latin typeface="Arial"/>
              </a:rPr>
              <a:t>一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0:40Z</dcterms:created>
  <dc:creator>李徐琴</dc:creator>
  <dc:description/>
  <dc:language>en-US</dc:language>
  <cp:lastModifiedBy>赵晨盼</cp:lastModifiedBy>
  <dcterms:modified xsi:type="dcterms:W3CDTF">2002-11-03T13:19:41Z</dcterms:modified>
  <cp:revision>5</cp:revision>
  <dc:subject/>
  <dc:title>三、过去分词作状语</dc:title>
</cp:coreProperties>
</file>