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9908-EFCB-43E7-B5D6-1EFDBF57E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053F-60C4-49C3-9947-675F14FE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4722-5F85-4BA0-9FC4-96576018B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8921-F682-4E82-A028-8C95593BA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2919-406C-4BEF-942A-4F20E9B4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C462-4210-463C-8967-53AF5B2E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FD49-B4E9-421E-8977-B60882C1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E8DA-0A69-47ED-A6EF-76E64DC1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65E6-BB5C-43EA-8A3C-1D9C34D6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0FA3-1E6D-4228-95DF-2069D14D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CF16-3864-49AC-9465-11977B69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888F-C6CA-4DE0-9C4F-CAAB23F1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BF76-7F59-4AD2-8F63-CDB5A6E69A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主谓一致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归纳与总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规律分述如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凡属下列句型，谓语动词必须与其邻近的主语在人称和数上保持一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re be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句型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re is some paper and two pens on the de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er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引导的倒装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ere is a fish, some bread and soup for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73200" y="189000"/>
            <a:ext cx="82296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re there any people over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glasses,bellows,tongs,slipper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表示工具或用具的名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ants, scissors,boots,gloves, chopsticks,parents,clothes,shoes ,socks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rouser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表示衣服的复数名词作主语时，谓语动词要用复数形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y trousers are di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若在其前加上量词（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 pair of, a suit of clothe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 pair of glasses is lying on the ch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若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sh ,deer ,mean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单复数同形的名词作主语时，谓语动词的数取决于该名词含义表示的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any sheep are looked after by the old 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六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The(blind ,brave ,dead ,old ,poor ,rich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ick ,young ,wise ,wounde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主语时，谓语动词要用复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dead are soon forgot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疑问代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at, which ,wh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定语从句中作主语时，谓语动词要与先行词在数上保持一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ose who want to go to Beijing please get on the tr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八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短语或从句作主语时，谓语动词要用单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 What I want to do is to play basket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 To finish the work needs hard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疑问句中，几个并列的名词或代词作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语时，谓语动词与最近的主语在数上保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re you or he r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主谓一致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归纳与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规律分述如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凡属下列句型，谓语动词必须与其邻近的主语在人称和数上保持一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here be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句型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here is some paper and two pens on the des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er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引导的倒装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ere is a fish, some bread and soup for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en and where to build the factory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_______ y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is not decided   B. aren’t decided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hasn’t decided  D. haven’t dec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 The fork and knife ______ on the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is                       B. are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has been          D. have been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Each soldier and each sailor ______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rif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are given           b. was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*The boys and girls each have their 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ik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. Half of the students _______ made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ame mistak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has                        B.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is                           D.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* About 70% of the surface of our planet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overed by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No teacher and no student is allowed to enter the 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any a boy and many a girl has seen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thirds of the books are written by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______ good exerc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Climbing hills is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Climbing the hill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he climbing hills 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The climbing of hill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Twenty dollars _____ enough for the co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is                            B.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has                         D.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.Which of the books do you think  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est among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s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. --- Why did you change  your maj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rom economics to law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--- Because economics  _____ a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nteresting to me as l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isn’t                      B.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doesn’t                 D. aren’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. My clothes ______ made to or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is       B. are      C. has    D.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 More than one person ______ ma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gg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was    B. has    C. were    D.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. Each of the hotel’s 3000 rooms 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ir conditioning and televi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has equipped    B. were equip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t is (was)……tha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强调句型中，若强调主语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之后的谓语动词要同主语的数保持一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t’s Tom who does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ot only ……but also, not……bu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either……nor ,either……o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连接的并列主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ot only a pen but also two books were l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is equipped          D. are equip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 Not only I but also Tom and Mary 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nd of watching telev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am       B. is        C. are    D.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 Everything, including the clothes, 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apart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was stolen         B. were sto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stole                  D. sto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 Twenty-five thousand dollars 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verage income for a four-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family living in a medium-sized community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n the United Stat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are       B. is       C. will be    D.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5.Over 90% of the world’s population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now ________ the Inter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use                    B. 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having been 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6.The number of the errors _______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are surprising    B. were surprising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surprising        D. was surpr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7.Let’s visit the art gallery first, and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having some   B. have some lu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to have some lu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. we will have some lu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8. Five pounds of sugar______ more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an I n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are   B. is    C. will be   D. would be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.After carrying out a large  number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s,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lfred Nobel finding the formula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te in 186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the formula for dynamite was found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86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it was  in 1866 that the formula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te was found by Alfred Nob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Alfred Nobel found the formula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.To be an effective teacher, one nee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know to convey the material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 it has been underst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know how to determine whether or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he needs to determine whether or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how to determine whether or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how determine whether or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.Fifteen minutes_______ all that I can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re to talk over this matter with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is        B. are      C. were    D.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. The king was loved by his friends,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ected by his subjects, and 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his enemies feared 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frightened his enem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he scared his enem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feared by his enem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. The father, rather than the brother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 for the acci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re responsibl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wer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be responsible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is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.The instrument as well as other sp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s ______ going to be air-lifted s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is     B. are      C. be     D. will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. Father and son ______ standing on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adside. Beside them ____ a ca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ors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as, were      B. was, w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ere, was      D. were, w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95280" y="764640"/>
            <a:ext cx="822960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连接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oth……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not only……but also, not……bu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连接的并列主语同谓语动词的一致关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both……and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连接的单数并列主语，谓语要用复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What he says and what he does are the sa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若并列主语两个部分指的是同一个人或事物或视为整体时，谓语动词要用单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Our maths teacher and Li ping ’s father is respected and loved by the stud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连接的并列主语若被否定修饰时，谓语动词要用单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o teacher and student is in the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定代词作主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nother, each, on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以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ome ,any ,no ,every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构成的复合不定代词作主语时，谓语动词要用单数形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enever anything happens , please stay here quie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non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主语时，谓语动词可用单数，也可用复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one of her friends help/helps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定代词等作主语时，谓语动词的单复数取决于它们所指代名词的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)Most of the earth is covered with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)Most of the poor men are laz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.both,few,many,severa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词作主语时，谓语动词要用复数形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oth are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.“more than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数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名词的复数结构”作主语时，谓语动词要用复数形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ore than five men have died in the acci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.“more than one (+n.)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结构作主语时，谓语动词要用单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ore than one man has died in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. Many a + n.   + d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any a student has shortsight glasses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表示不定数量的词组作主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Part of, a lot of ,lots of ,one of, a number of, plenty of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词作主语时，谓语动词的单复数取决于量词后面名词的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)Part of it is g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)Now a number of young men cook very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a+n.+and a half / one and a half +n(es). /the number of +n(es)./ the part of +n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作主语时，其谓语动词要用单数形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)A year and a half has already pa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)The number of the students who take part in the entrance examination is gr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些特殊名词作主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集体名词（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olice, people,cattl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等作主语时，谓语动词要用复数形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10:11:37Z</dcterms:created>
  <dc:creator>wang</dc:creator>
  <dc:description/>
  <dc:language>en-US</dc:language>
  <cp:lastModifiedBy>wang xing zhong</cp:lastModifiedBy>
  <dcterms:modified xsi:type="dcterms:W3CDTF">2004-01-29T02:40:00Z</dcterms:modified>
  <cp:revision>21</cp:revision>
  <dc:subject/>
  <dc:title>主谓一致 归纳与总结</dc:title>
</cp:coreProperties>
</file>