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1097-DC3D-47FA-8B1C-A699CFA9A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A47F-39C3-4777-BB36-F930E3A09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2FE2-BAB5-4C39-95F7-F87458409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9D48-6802-4714-9BEB-6A6FADDC4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CD6E-EDBA-4EB7-8AA3-D3BD240D3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34B2-A5FE-4735-8EB7-309A7B9C9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2B17-A056-40A7-92F9-762069038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A22D-ADA3-4503-A02F-BABB06C41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BCE6-06B9-49FD-A035-40E84E867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1B30-1410-4D1D-8B3D-0645764E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E8F8-6CE7-45D0-B9AA-9D611A45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4901-B699-4483-B2A5-855A8E65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64A99-E4B6-43F1-B393-7EC06E810F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高考训练题非谓语动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1412640"/>
            <a:ext cx="6400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Mr. Smith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ech, started to read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tired; boring             B. tiring; bo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tired; bored              D. tiring; b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: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Friendship is like money: easier made than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kept                          B. to be k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keeping                     D. being k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: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8.—Why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to the museum with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at’s a good id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not go           B. don’g to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 going            D. not g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Key: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9. English teacher encourages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 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ore re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us doing       B. us to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 our reading  D. we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Key: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.—Mr. Wilson is expected back at no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you have him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 then,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calling   B. call  C. to call  D. ca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1.—Is the radio disturbing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ertainly is, I’d like i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turning  B. to turn C. turned D. tu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. Sorry! I’ve forgotte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letter f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posting          B. to have po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to post           D. that I p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: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. She is not worth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to get angry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getting ang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getting angry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to get angry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: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11280" y="62064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4. The woman lay on the bed, her fac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b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having covered  B. cov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to cover             D. cov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space, the earth looks like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ue planet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Seeing              B. To se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Seen                 D. Having s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6.Do you mi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sugges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me to make       B. my 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for me to make  D. I m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7.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of this apple juice-perhaps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ll like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Trying               B. Try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To try               D. Have tr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8.Lots of empty bottles were found 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man’s bed. He must hav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hing bu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drink B. to drink  C. drinking D. dru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9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im busy in his garage, I said 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call again l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To find               B. When f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Finding              D. As fi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. I bitterly regre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im the story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ter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to tell            B. to have t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told               D. having t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1. Gun-powder is generally consid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in Ch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inventing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having invented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to be inv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to have been inv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2. I’m considering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off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to accept       B. accep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accept           D. accep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3.The cloth won’t st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to wash          B. was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washed          D. for was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Key: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4.It’s pay-day, and they’re waiting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for paying       B. to be p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 to be paying   D. to have p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Key: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5. —Will John come here to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No, he finally decided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not to be         B. not to g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 not to              D. not g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Key: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39640" y="106488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.There are three waiting-rooms in the new station,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bout 1000 passeng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seating        B. s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 seated        D. si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key: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her finest skirt, the girl tri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hersel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par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Dressing; noticing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Dressed; noti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Dressing; being noti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Dressed; noti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With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need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she left the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mark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something; to bu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anything; having b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everything; bu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everything; b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—Where should I send my for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rsonnel office is the plac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for sending it     B. to  send it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to send              D. to send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He should at least answer whe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speaking           B. spoke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spoken to          D. speaking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—What do you think made Mary 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s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—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 new motorbi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As she lost       B. L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Losing              D. Because of lo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 The wonderful time they have bee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ing forward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ly arri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had   B. have   C. has   D. ha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 Is this the TV set which you wish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to have it repa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to repair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to have repair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will be repa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1.She came in,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by a group of child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following         B. follo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 to follow          D.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Key: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2. If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o a high temperature, water c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e turned into vapo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heat  B. to heat  C. heating D. he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Key: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3. The girl was sitting there,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n dee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ou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lose  B. to lose  C. losing  D. l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Key: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4.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his father had come, his face lit 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Having heard   B. When he he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 Hearing            D. When he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Key: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5. Do you know the boy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at the back of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ro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sat   B. sit         C. seating D. se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Key: 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. We’ve used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 country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living               B. l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be living          D. have li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. His remarks left m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bout his real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po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wonder           B. wonde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wondered       D. to wo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7T00:13:46Z</dcterms:created>
  <dc:creator>guest</dc:creator>
  <dc:description/>
  <dc:language>en-US</dc:language>
  <cp:lastModifiedBy>wang xing zhong</cp:lastModifiedBy>
  <dcterms:modified xsi:type="dcterms:W3CDTF">2003-12-23T02:00:44Z</dcterms:modified>
  <cp:revision>25</cp:revision>
  <dc:subject/>
  <dc:title>高考训练题非谓语动词</dc:title>
</cp:coreProperties>
</file>