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71C-63D8-4E0F-B780-D0494884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C90-C4A9-45B6-8867-2A52DA59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F42-DEAF-4A9C-ADEE-3C6F9BD4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C67-F37D-4F9D-B45D-528FFF5A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0991-0F88-43C5-AAD9-DDE6E78D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8645-A3BB-43EE-95A4-847C0FD6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1064-0FAF-44E7-AC64-1A62DD5C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7681-AA48-43AA-B2B2-77448121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C139-1507-4B90-A11F-FB84865C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AC97-6721-4584-B9FA-61743818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A08B-3D50-43F7-ADE4-F45ED75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09E-DED4-40BC-9BD5-BE84DFEE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D74B-0A06-441A-90B5-42CC3E55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31F8-2A49-4D37-912D-53522C1B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D2BF-A2D5-4EDD-96FC-76432960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3195-A78B-4E88-A691-6D191CF6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AB40-D851-4C52-835B-02C2FF5C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D0E-90AA-4E1E-B3D1-B33793BB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003-9B46-4223-BC5D-D029E0BD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818-91C2-4453-87C4-ED694165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331-8C4D-420F-8DC6-F11AE0E3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2AB-1556-4905-B0EB-7FCA2CF2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849-7E2A-4705-A3CA-189AA983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4D4-83CB-4E31-946D-1BEE4CC2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0461-4F61-4F22-8DAD-A221784037C7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03D1-EE7C-46A3-8306-0F941F350B00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16000" y="155736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分词有两种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　　　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现在分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　　　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过去分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二者主要在意义上有</a:t>
            </a: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主动、被动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之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42920" y="1700280"/>
            <a:ext cx="7292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ews is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xci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were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xcite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hear i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heard someone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opening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doo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heard the door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opene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765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分词含有“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完成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”之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708280"/>
            <a:ext cx="6789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plough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field is a field which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has been ploughe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79680" y="836640"/>
            <a:ext cx="453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现在分词表示 “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正在进行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7480" y="2060640"/>
            <a:ext cx="453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oiling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oiled 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alling  lea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allen  lea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404280"/>
            <a:ext cx="2305080" cy="1000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-ed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拼法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2448000" cy="3888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t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pe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p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joy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udy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gin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1989000"/>
            <a:ext cx="2552760" cy="37026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st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stop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studi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gu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/>
          </p:cNvPr>
          <p:cNvSpPr/>
          <p:nvPr/>
        </p:nvSpPr>
        <p:spPr>
          <a:xfrm>
            <a:off x="7667640" y="587700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35:53Z</dcterms:created>
  <dc:creator>李徐琴</dc:creator>
  <dc:description/>
  <dc:language>en-US</dc:language>
  <cp:lastModifiedBy>赵晨盼</cp:lastModifiedBy>
  <dcterms:modified xsi:type="dcterms:W3CDTF">2002-11-03T13:19:37Z</dcterms:modified>
  <cp:revision>3</cp:revision>
  <dc:subject/>
  <dc:title>幻灯片 1</dc:title>
</cp:coreProperties>
</file>