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0659-D417-44E6-9522-745FF7147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F930-35AA-4A1D-83C3-BB86DAAB4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AEB2-68AA-4833-8C07-F79562EAC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A468-30D9-47B4-9C3C-C87448D12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A3C22-FBFC-484C-86A9-C5B1E2610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C8427-F9F5-4A64-8A75-E6CB11F4E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AC3A8-0D6E-463F-8BC9-5562C4293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B0748-1E0F-4753-915B-F00D3C13E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9B9D9-BBBF-4E1B-ABE7-83EE2DDB6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B33FD-D841-4B98-8E5D-220CAF0C0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E15E4-CB2C-4E6C-AA63-658F6AD83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AC5B-BCA6-43F2-9BA4-9324D0182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F56E1-5367-46FD-8E77-8A294BCAE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9B4E5-A578-4900-8976-C4D9AE89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2F0D9-5155-4573-AE7D-5AB006C75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85D36-D618-4EBC-AB38-3D744AFF9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33024-C90C-446E-8662-3479B9639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1F5E-15F6-4125-9800-4E05D80BE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0081-159A-4241-A02E-0B28D86EA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4946-6176-4692-B0A2-F6F4A0687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7D83-93EC-49F2-BD18-918296A82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921D-E9ED-437F-B5BF-C05ACE8F0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61B0-45EA-498E-BD11-C728993C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E490-A373-4D6F-838C-926BEF6D9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99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000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009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193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5EC72-2B83-4290-8E39-A3DB7872AD96}" type="slidenum">
              <a:rPr b="0" lang="zh-CN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ff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99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99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0000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0000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0000cc"/>
                </a:gs>
                <a:gs pos="100000">
                  <a:srgbClr val="00009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94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94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9B2A5-DF03-4F80-A324-A3994B6A8BB5}" type="slidenum">
              <a:rPr b="0" lang="zh-CN" sz="1400" spc="-1" strike="noStrike">
                <a:solidFill>
                  <a:srgbClr val="000094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ed.ppt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057400" y="762120"/>
            <a:ext cx="5791320" cy="6426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一、过去分词短语作定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042280" y="2514600"/>
            <a:ext cx="4874760" cy="2775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过去分词及过去分词短语作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定语时，相当于一个</a:t>
            </a:r>
            <a:r>
              <a:rPr b="1" lang="zh-CN" sz="4400" spc="-1" strike="noStrike">
                <a:solidFill>
                  <a:srgbClr val="66ff33"/>
                </a:solidFill>
                <a:latin typeface="宋体"/>
              </a:rPr>
              <a:t>定语从句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且分词所表示的动作与其所修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的名词构成逻辑上的</a:t>
            </a:r>
            <a:r>
              <a:rPr b="1" lang="zh-CN" sz="4400" spc="-1" strike="noStrike">
                <a:solidFill>
                  <a:srgbClr val="66ff33"/>
                </a:solidFill>
                <a:latin typeface="宋体"/>
              </a:rPr>
              <a:t>动宾关系</a:t>
            </a:r>
            <a:r>
              <a:rPr b="0" lang="zh-CN" sz="4400" spc="-1" strike="noStrike">
                <a:solidFill>
                  <a:srgbClr val="ffffff"/>
                </a:solidFill>
                <a:latin typeface="宋体"/>
              </a:rPr>
              <a:t>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55640" y="2276640"/>
            <a:ext cx="7561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Tell the children </a:t>
            </a:r>
            <a:r>
              <a:rPr b="1" lang="en-US" sz="4800" spc="-1" strike="noStrike">
                <a:solidFill>
                  <a:srgbClr val="66ff33"/>
                </a:solidFill>
                <a:latin typeface="Arial Black"/>
              </a:rPr>
              <a:t>playing there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not to make so much noise. ( </a:t>
            </a:r>
            <a:r>
              <a:rPr b="1" lang="en-US" sz="4800" spc="-1" strike="noStrike">
                <a:solidFill>
                  <a:srgbClr val="66ff33"/>
                </a:solidFill>
                <a:latin typeface="Arial Black"/>
              </a:rPr>
              <a:t>who are playing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755640" y="1700280"/>
            <a:ext cx="6840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The house </a:t>
            </a:r>
            <a:r>
              <a:rPr b="1" lang="en-US" sz="4800" spc="-1" strike="noStrike">
                <a:solidFill>
                  <a:srgbClr val="66ff33"/>
                </a:solidFill>
                <a:latin typeface="Arial Black"/>
              </a:rPr>
              <a:t>standing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at the corner of the street was built in 1955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( </a:t>
            </a:r>
            <a:r>
              <a:rPr b="1" lang="en-US" sz="4800" spc="-1" strike="noStrike">
                <a:solidFill>
                  <a:srgbClr val="66ff33"/>
                </a:solidFill>
                <a:latin typeface="Arial Black"/>
              </a:rPr>
              <a:t>that stands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>
            <a:hlinkClick r:id="rId1"/>
          </p:cNvPr>
          <p:cNvSpPr/>
          <p:nvPr/>
        </p:nvSpPr>
        <p:spPr>
          <a:xfrm>
            <a:off x="6948360" y="5300640"/>
            <a:ext cx="1081080" cy="538200"/>
          </a:xfrm>
          <a:custGeom>
            <a:avLst/>
            <a:gdLst>
              <a:gd name="textAreaLeft" fmla="*/ 34560 w 1081080"/>
              <a:gd name="textAreaRight" fmla="*/ 1046520 w 108108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43373" h="21600">
                <a:moveTo>
                  <a:pt x="0" y="0"/>
                </a:moveTo>
                <a:lnTo>
                  <a:pt x="43373" y="0"/>
                </a:lnTo>
                <a:lnTo>
                  <a:pt x="43373" y="21600"/>
                </a:lnTo>
                <a:lnTo>
                  <a:pt x="0" y="21600"/>
                </a:lnTo>
                <a:close/>
              </a:path>
              <a:path fill="lightenLess" w="43373" h="21600">
                <a:moveTo>
                  <a:pt x="0" y="0"/>
                </a:moveTo>
                <a:lnTo>
                  <a:pt x="43373" y="0"/>
                </a:lnTo>
                <a:lnTo>
                  <a:pt x="41973" y="1400"/>
                </a:lnTo>
                <a:lnTo>
                  <a:pt x="1400" y="1400"/>
                </a:lnTo>
                <a:close/>
              </a:path>
              <a:path fill="darken" w="43373" h="21600">
                <a:moveTo>
                  <a:pt x="43373" y="0"/>
                </a:moveTo>
                <a:lnTo>
                  <a:pt x="43373" y="21600"/>
                </a:lnTo>
                <a:lnTo>
                  <a:pt x="41973" y="20200"/>
                </a:lnTo>
                <a:lnTo>
                  <a:pt x="41973" y="1400"/>
                </a:lnTo>
                <a:close/>
              </a:path>
              <a:path fill="darkenLess" w="43373" h="21600">
                <a:moveTo>
                  <a:pt x="43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73" y="20200"/>
                </a:lnTo>
                <a:close/>
              </a:path>
              <a:path fill="lighten" w="43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73" h="21600">
                <a:moveTo>
                  <a:pt x="14680" y="7493"/>
                </a:moveTo>
                <a:lnTo>
                  <a:pt x="18188" y="7493"/>
                </a:lnTo>
                <a:lnTo>
                  <a:pt x="18188" y="12828"/>
                </a:lnTo>
                <a:cubicBezTo>
                  <a:pt x="18188" y="13751"/>
                  <a:pt x="18988" y="14482"/>
                  <a:pt x="20024" y="14482"/>
                </a:cubicBezTo>
                <a:lnTo>
                  <a:pt x="21687" y="14482"/>
                </a:lnTo>
                <a:cubicBezTo>
                  <a:pt x="22722" y="14482"/>
                  <a:pt x="23523" y="13751"/>
                  <a:pt x="23523" y="12828"/>
                </a:cubicBezTo>
                <a:lnTo>
                  <a:pt x="23523" y="7493"/>
                </a:lnTo>
                <a:lnTo>
                  <a:pt x="21687" y="7493"/>
                </a:lnTo>
                <a:lnTo>
                  <a:pt x="25194" y="3985"/>
                </a:lnTo>
                <a:lnTo>
                  <a:pt x="28867" y="7493"/>
                </a:lnTo>
                <a:lnTo>
                  <a:pt x="27031" y="7493"/>
                </a:lnTo>
                <a:lnTo>
                  <a:pt x="27031" y="12828"/>
                </a:lnTo>
                <a:cubicBezTo>
                  <a:pt x="27031" y="15596"/>
                  <a:pt x="24454" y="18155"/>
                  <a:pt x="21687" y="18155"/>
                </a:cubicBezTo>
                <a:lnTo>
                  <a:pt x="20024" y="18155"/>
                </a:lnTo>
                <a:cubicBezTo>
                  <a:pt x="17256" y="18155"/>
                  <a:pt x="14680" y="15596"/>
                  <a:pt x="14680" y="12828"/>
                </a:cubicBezTo>
                <a:close/>
              </a:path>
            </a:pathLst>
          </a:custGeom>
          <a:solidFill>
            <a:srgbClr val="319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55640" y="2492280"/>
            <a:ext cx="7796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There is a novel </a:t>
            </a:r>
            <a:r>
              <a:rPr b="1" lang="en-US" sz="5400" spc="-1" strike="noStrike">
                <a:solidFill>
                  <a:srgbClr val="ffcc00"/>
                </a:solidFill>
                <a:latin typeface="Times New Roman"/>
              </a:rPr>
              <a:t>written by a 19th century writer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2339640" y="980640"/>
            <a:ext cx="46083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stolen money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a written repor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broken glas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tired driv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blocked roa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239840" y="1930320"/>
            <a:ext cx="69548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risen su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allen leav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returned stude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escaped pris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newly arrived visito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666800" y="3505320"/>
            <a:ext cx="5118480" cy="2775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过去分词作定语时，常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位于其所修饰的</a:t>
            </a:r>
            <a:r>
              <a:rPr b="1" lang="zh-CN" sz="4400" spc="-1" strike="noStrike">
                <a:solidFill>
                  <a:srgbClr val="66ff33"/>
                </a:solidFill>
                <a:latin typeface="宋体"/>
              </a:rPr>
              <a:t>名词前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；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过去分词</a:t>
            </a:r>
            <a:r>
              <a:rPr b="1" lang="zh-CN" sz="4400" spc="-1" strike="noStrike">
                <a:solidFill>
                  <a:srgbClr val="66ff33"/>
                </a:solidFill>
                <a:latin typeface="宋体"/>
              </a:rPr>
              <a:t>短语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作定语时，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常位于其所修饰的</a:t>
            </a:r>
            <a:r>
              <a:rPr b="1" lang="zh-CN" sz="4400" spc="-1" strike="noStrike">
                <a:solidFill>
                  <a:srgbClr val="66ff33"/>
                </a:solidFill>
                <a:latin typeface="宋体"/>
              </a:rPr>
              <a:t>名词后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0240" y="304920"/>
            <a:ext cx="69886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You should improve your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spoken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English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He is a teacher </a:t>
            </a: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respected by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all his students</a:t>
            </a:r>
            <a:r>
              <a:rPr b="1" lang="zh-CN" sz="4400" spc="-1" strike="noStrike">
                <a:solidFill>
                  <a:srgbClr val="66ff33"/>
                </a:solidFill>
                <a:latin typeface="Times New Roman"/>
              </a:rPr>
              <a:t>．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1520" y="-174960"/>
            <a:ext cx="72900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ahoma"/>
              </a:rPr>
              <a:t>注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099880" y="2666880"/>
            <a:ext cx="4658040" cy="2775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0" lang="zh-CN" sz="4400" spc="-1" strike="noStrike">
                <a:solidFill>
                  <a:srgbClr val="ffffff"/>
                </a:solidFill>
                <a:latin typeface="宋体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不及物动词的过去分词作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定语，且与其所修饰的名词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成逻辑上的动宾关系时，必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在该动词后使用必要的介词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93120" y="380880"/>
            <a:ext cx="6957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He is the student </a:t>
            </a: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laughed at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by all people just now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87280" y="981000"/>
            <a:ext cx="7580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过去分词短语作定语时，表示的动作：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、在谓语表示的动作之前发生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(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即已完成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)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、或没有一定的时间性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71640" y="1125360"/>
            <a:ext cx="75088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A letter </a:t>
            </a:r>
            <a:r>
              <a:rPr b="1" lang="en-US" sz="4800" spc="-1" strike="noStrike">
                <a:solidFill>
                  <a:srgbClr val="66ff33"/>
                </a:solidFill>
                <a:latin typeface="Arial Black"/>
              </a:rPr>
              <a:t>posted today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will probably reach him the day after tomorrow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I hate to see letters </a:t>
            </a:r>
            <a:r>
              <a:rPr b="1" lang="en-US" sz="4800" spc="-1" strike="noStrike">
                <a:solidFill>
                  <a:srgbClr val="66ff33"/>
                </a:solidFill>
                <a:latin typeface="Arial Black"/>
              </a:rPr>
              <a:t>written in pencil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7956720" y="260280"/>
            <a:ext cx="73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ff33"/>
                </a:solidFill>
                <a:latin typeface="Tahoma"/>
              </a:rPr>
              <a:t>比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42920" y="2060640"/>
            <a:ext cx="7364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现在分词作定语时：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、表示正在进行的动作；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、表示经常性的动作或现在的状态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9T09:37:41Z</dcterms:created>
  <dc:creator>李徐琴</dc:creator>
  <dc:description/>
  <dc:language>en-US</dc:language>
  <cp:lastModifiedBy>赵晨盼</cp:lastModifiedBy>
  <dcterms:modified xsi:type="dcterms:W3CDTF">2002-11-03T13:18:19Z</dcterms:modified>
  <cp:revision>2</cp:revision>
  <dc:subject/>
  <dc:title>幻灯片 1</dc:title>
</cp:coreProperties>
</file>