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2D4-7D29-4DC0-B05C-58974849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B78-782E-4E14-8DC1-CFED8CF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2B3-6744-4A69-B285-02D24E6D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681-ED13-4532-B1A7-73C3C79E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24A5-4698-4A75-8F2A-63C2337B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C41-4B82-460D-A57E-0BE5D7F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63B4-7E63-41C0-B507-A79F8FC6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4176-C337-4D44-A258-749E6CF0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A2CD-D24D-410C-8C12-A2206AB2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CE01-7162-4034-86C1-01A8542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2270-D489-477D-BD5B-E2F33B41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264-2906-4395-B21E-3B82163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83BA-55B4-4577-A5F5-8E46FCCF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9497-4DDB-447F-ABF4-7F587ED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BD63-632E-471E-BA76-AC712CD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51C-50A5-4C4E-97FF-51A20488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27A3-4975-4BC4-A509-76E40CA1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741-A7B7-4C23-9053-DB8D4483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355-9155-448E-A140-4D209646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E3C-BED2-4E9F-9354-3BB24B6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DAD-153D-48A7-8690-CD31A28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DA7-ED60-4CA5-9DCB-94A8518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FBC-7E29-41CD-8078-3FE47AE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ADE-4D56-40FC-8DBE-01D63EA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C1F-ADFD-4294-92D0-8489D80BC6B8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0C94-2911-426D-B7D0-DF56DF394E8C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3880" y="685800"/>
            <a:ext cx="61120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四、过去分词作宾语补足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1960" y="2060640"/>
            <a:ext cx="6738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常见的句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．使役动词或感官动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(have, make, see, hear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watch,notice, fee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＋宾语＋过去分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0512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Yesterday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y bicyc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pai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The teacher spoke so slow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that he could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ak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im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understoo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7400" y="2133720"/>
            <a:ext cx="8253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On my way back home,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ear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y nam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all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.Yesterday sh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r wall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tol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n she was do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4720" y="380880"/>
            <a:ext cx="657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keep, leave, get, fin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00" y="2666880"/>
            <a:ext cx="854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If I get further information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keep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form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When I came into the classroom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foun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lea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816912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介词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9360" y="2514600"/>
            <a:ext cx="7473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The child was cry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the glass bro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all the work finish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y hurried back home fo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unc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7164360" y="558972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1:59Z</dcterms:created>
  <dc:creator>李徐琴</dc:creator>
  <dc:description/>
  <dc:language>en-US</dc:language>
  <cp:lastModifiedBy>赵晨盼</cp:lastModifiedBy>
  <dcterms:modified xsi:type="dcterms:W3CDTF">2002-11-03T13:18:39Z</dcterms:modified>
  <cp:revision>2</cp:revision>
  <dc:subject/>
  <dc:title>幻灯片 1</dc:title>
</cp:coreProperties>
</file>