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09F-3A05-40C6-8769-E0F82DAC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D49-BABD-4D25-AA1B-183A8165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F57-D5CF-4BE1-99EE-352AC93C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166-19E9-4B4F-BCC8-116CEE64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F9B8-0792-486B-A384-E521C8A5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D968-638C-4C0F-9962-8AEADAF7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73EF-AF16-4413-B2C5-32D18B95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1DED-044F-4CEA-BC1F-54B7DE5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A574-83BF-4E6C-9106-3B74F659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38CA-9F48-4D73-8B79-3A100CB8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F8C-8A67-43F8-ACF0-40E15B0F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3CE-DC9C-46D6-97D0-54FBC6E7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3934-1FF5-42D2-BD00-55A9E1E8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3CC-3A20-43E2-80A7-AEF3B266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E523-B24B-4C0F-B3F8-E6BB8876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2017-EC04-4EB2-89C5-3E6D46EB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45F3-1898-47F8-85AA-03B62B13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C24-D8A6-4377-A56A-D42E460A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2EF-AA49-485E-A42C-C707BBA2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CE3-928E-43A9-810A-C29B956D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F2E-23F4-4DC2-A373-BD4114DA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C42-384D-4FD5-A4A1-8E1B6752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FF8-5808-4386-83FB-D2C64BFE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C0B-6FB6-4E95-A990-DFFC2AB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2A4C-C5FC-4A41-AFA9-9CB4452FC477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A241-D87F-421E-B7D8-E75D50460B53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9810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computer center,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ast year, is very popular among the students in this school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     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aving opened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2080" y="3492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computer center,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 was opened last year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609300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855720"/>
            <a:ext cx="7567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problem just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s an important on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referred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ed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ing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4581360"/>
            <a:ext cx="4679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77940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story was so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at all of us were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tears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; mov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; moved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; mov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; mov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6021360"/>
            <a:ext cx="5977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36600"/>
            <a:ext cx="88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en I entered the theatre, I saw him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the first row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it down     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at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eated        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eat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941720"/>
            <a:ext cx="3313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3129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 found my daughter quite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drawing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interes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500280"/>
            <a:ext cx="4392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765000"/>
            <a:ext cx="7580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e had his le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the football match yesterday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reak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oken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eak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eak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437000"/>
            <a:ext cx="3311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549360"/>
            <a:ext cx="860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f you have a book in front of  your face, you can feel the air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gainst your fac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 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 mov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mo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221000"/>
            <a:ext cx="3311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9280" y="1541520"/>
            <a:ext cx="8301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6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ith the jo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y went to the cinem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ing       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         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do        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n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450864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404640"/>
            <a:ext cx="8273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7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ith the boy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way, the soldiers managed to walk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rough the forest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lead  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eading       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lead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589720"/>
            <a:ext cx="3382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620640"/>
            <a:ext cx="8375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fore he came to London, he had never heard a single English wor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eaking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eak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oken       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spea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5805360"/>
            <a:ext cx="3313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9080" y="549360"/>
            <a:ext cx="8854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9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program was so exciting that the children kept their eyes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on the screen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ixed     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fix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fix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ix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22100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7040" y="2076480"/>
            <a:ext cx="881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first textbooks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o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eaching English as a foreig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anguage came out in the 16th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entury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eing written   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eing writing  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7440" y="762120"/>
            <a:ext cx="86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extbooks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／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that were written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617220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8557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captain placed the flag over the boy, leaving only his fac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ing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uncover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6093000"/>
            <a:ext cx="4608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6440" y="982800"/>
            <a:ext cx="8323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he was very glad to see her child well ____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e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en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take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ing care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653000"/>
            <a:ext cx="54734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8520" y="1828800"/>
            <a:ext cx="7644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Olympic Games,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776BC, did not include wo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layers until 191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irst play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first play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irst play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first play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457200"/>
            <a:ext cx="67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Olympic Games,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 we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first played in 776BC,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00000" y="5866920"/>
            <a:ext cx="3672000" cy="9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2280" y="3213000"/>
            <a:ext cx="804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leaning women in big citi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usually get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y the hour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y       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ying   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id       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p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5440" y="609480"/>
            <a:ext cx="3472560" cy="2288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过去分词及过去分词短语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表语时，分词所表示的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与句子的主语构成逻辑上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动宾关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602136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3480" y="2286000"/>
            <a:ext cx="821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we joined the big crowd, 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t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rom my friends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eparated      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pared   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ost                 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miss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365720"/>
            <a:ext cx="3166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6120" y="2209680"/>
            <a:ext cx="8544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speaker raised his voic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ut still couldn’t make himsel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         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hear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ing    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494172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779400"/>
            <a:ext cx="821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7.He told me about the things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t the meeting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discuss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ing discuss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iscuss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 discuss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229360"/>
            <a:ext cx="4464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765000"/>
            <a:ext cx="83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 metal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ranium gives off a kind of radiation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alling       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alled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s call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ich call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371628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197000"/>
            <a:ext cx="8751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The water in this glass is too hot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I prefer some cold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water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to boil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having boiled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oiled    D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oil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30064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01:33:00Z</dcterms:created>
  <dc:creator>Legend User</dc:creator>
  <dc:description/>
  <dc:language>en-US</dc:language>
  <cp:lastModifiedBy>Legend User</cp:lastModifiedBy>
  <dcterms:modified xsi:type="dcterms:W3CDTF">2002-11-10T10:21:49Z</dcterms:modified>
  <cp:revision>6</cp:revision>
  <dc:subject/>
  <dc:title>PowerPoint 演示文稿</dc:title>
</cp:coreProperties>
</file>