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AFD-6C36-41D6-8510-2C22639F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4B56-97C4-475C-A650-6C1BF110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C1D-B7EC-4316-9FC8-C00EBB96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8EB-FF4B-4D26-9EA5-828C5140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755-0D59-4268-B794-200A29EF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564-58AC-4F56-B6F5-1E337D21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250-8BB9-467D-88AA-E46073C9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E45-9E29-4EC4-A160-B9D3DDA0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C3C-EC95-4728-85D8-338FAFD2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026-9868-4F49-AA58-A7737E4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6FA-9A94-4A7D-B4BA-A5C4D9DC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F46-9720-44F6-8BC8-F5F94660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0013-20DD-488E-855B-0F4BA64A71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introductoin.ppt#Slide 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4520" y="1197000"/>
            <a:ext cx="274104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/>
              </a:rPr>
              <a:t>过去分词概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定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表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状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补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练习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6948360" y="530064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1468" y="7493"/>
                </a:moveTo>
                <a:lnTo>
                  <a:pt x="14976" y="7493"/>
                </a:lnTo>
                <a:lnTo>
                  <a:pt x="14976" y="12828"/>
                </a:lnTo>
                <a:cubicBezTo>
                  <a:pt x="14976" y="13751"/>
                  <a:pt x="15777" y="14482"/>
                  <a:pt x="16812" y="14482"/>
                </a:cubicBezTo>
                <a:lnTo>
                  <a:pt x="18475" y="14482"/>
                </a:lnTo>
                <a:cubicBezTo>
                  <a:pt x="19510" y="14482"/>
                  <a:pt x="20311" y="13751"/>
                  <a:pt x="20311" y="12828"/>
                </a:cubicBezTo>
                <a:lnTo>
                  <a:pt x="20311" y="7493"/>
                </a:lnTo>
                <a:lnTo>
                  <a:pt x="18475" y="7493"/>
                </a:lnTo>
                <a:lnTo>
                  <a:pt x="21982" y="3985"/>
                </a:lnTo>
                <a:lnTo>
                  <a:pt x="25655" y="7493"/>
                </a:lnTo>
                <a:lnTo>
                  <a:pt x="23819" y="7493"/>
                </a:lnTo>
                <a:lnTo>
                  <a:pt x="23819" y="12828"/>
                </a:lnTo>
                <a:cubicBezTo>
                  <a:pt x="23819" y="15596"/>
                  <a:pt x="21242" y="18155"/>
                  <a:pt x="18475" y="18155"/>
                </a:cubicBezTo>
                <a:lnTo>
                  <a:pt x="16812" y="18155"/>
                </a:lnTo>
                <a:cubicBezTo>
                  <a:pt x="14045" y="18155"/>
                  <a:pt x="11468" y="15596"/>
                  <a:pt x="11468" y="12828"/>
                </a:cubicBez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1:40:42Z</dcterms:created>
  <dc:creator>李徐琴</dc:creator>
  <dc:description/>
  <dc:language>en-US</dc:language>
  <cp:lastModifiedBy>赵晨盼</cp:lastModifiedBy>
  <dcterms:modified xsi:type="dcterms:W3CDTF">2002-11-03T13:20:24Z</dcterms:modified>
  <cp:revision>5</cp:revision>
  <dc:subject/>
  <dc:title>幻灯片 1</dc:title>
</cp:coreProperties>
</file>