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50A-6E17-453C-B6CB-7D858287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E74-26EF-4722-B989-A7348C2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230-F4A1-4051-90BF-AC5B35C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F9F-5265-4615-A5B9-DFC4E6CB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0108-D213-4810-8133-B9633115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E89-6EF7-4280-8BE6-1F17B392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E4DE-B183-4BE1-A3D7-AE11A197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2FA-1901-4B93-AAA8-3C8BCE48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11F-2405-428A-8BAF-B702F9E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D6D4-AA4F-4D4A-86CE-78065EF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C9E-A3E1-4202-8D79-89EF57E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B56-31DF-43A9-B934-D4111F2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9BE-56C2-4C9B-AA92-9C97D85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9EE7-9A0A-412C-B662-17E23DE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DF4-80B5-4309-85CE-93D0FB0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065-F122-4DC8-B4F6-237EFCF6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AED-10B7-4B70-8111-55393E1A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7DB-AB7F-4993-A81B-BED1EED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8AC-8E10-4D7B-BF41-B0C05E3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23F-B11E-41E1-AAAF-050C367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5E0-4112-4392-BEDD-E43937CF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E18-950C-4087-BF68-96900B5B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D99-314C-4B11-AD98-5D47514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2C2-F623-4FEE-978E-E45E6F12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3A4-2C79-4B5F-B406-BF549DD5CD2B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928-8C16-4314-91E8-4CEB97A7D00F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620640"/>
            <a:ext cx="48927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二、过去分词作表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18160"/>
            <a:ext cx="8351640" cy="143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表语时，分词所表示的动作与句子的主语构成逻辑上的动宾关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628640"/>
            <a:ext cx="84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what he sai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the meeting yesterday 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e said at the mee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esterday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0606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个分词是否成为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形容词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的一个标志就是看它是否可以和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very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连用，来表示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很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这样的概念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1120" y="1530360"/>
            <a:ext cx="69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表语时，表示主语所处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状态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而被动结构表示所承受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动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2708280"/>
            <a:ext cx="80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ere surpris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This lak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is badly pollut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by a paper mi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197000"/>
            <a:ext cx="2232360" cy="792000"/>
          </a:xfrm>
          <a:prstGeom prst="wedgeRectCallout">
            <a:avLst>
              <a:gd name="adj1" fmla="val -40754"/>
              <a:gd name="adj2" fmla="val 147796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表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229360"/>
            <a:ext cx="3097440" cy="936360"/>
          </a:xfrm>
          <a:prstGeom prst="wedgeRectCallout">
            <a:avLst>
              <a:gd name="adj1" fmla="val -24986"/>
              <a:gd name="adj2" fmla="val -15949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被动结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97480" y="2276640"/>
            <a:ext cx="753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r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u Xun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 buri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Everything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settl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were frighten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felt astonish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480" y="533520"/>
            <a:ext cx="5658120" cy="210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现在分词及其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表语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词所表示的动作与句子的主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构成逻辑上的主谓关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160" y="3352680"/>
            <a:ext cx="860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ing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d we w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 excit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exciting and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 al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77724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is a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The students are confused by the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tudent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7020000" y="5516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9:06Z</dcterms:created>
  <dc:creator>李徐琴</dc:creator>
  <dc:description/>
  <dc:language>en-US</dc:language>
  <cp:lastModifiedBy>赵晨盼</cp:lastModifiedBy>
  <dcterms:modified xsi:type="dcterms:W3CDTF">2002-11-03T13:18:59Z</dcterms:modified>
  <cp:revision>2</cp:revision>
  <dc:subject/>
  <dc:title>幻灯片 1</dc:title>
</cp:coreProperties>
</file>