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AA3-EB77-46E6-B0BA-774358A4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CB2-94E5-4638-8FB5-3BF25208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953-12FF-4CEA-92DF-8F98144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FB7-9259-47A2-A039-CDB0920B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2C9B-0DB4-43A6-931D-62ECAE72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1DD2-670D-4D7E-BECD-1C3A5396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64CA-1DD5-4C13-A80D-783A815D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472F-399C-4334-83DC-E8F60467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178E-6035-458C-8727-F9910A00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FCA5-6738-4DEE-88A2-ED1AE40A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0C34-C47A-4C93-81A4-DC211886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390-6D3F-4F9F-998F-0FE42403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ECBF-A12B-43AB-8C28-66888E2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E5B5-6DD7-48DF-AC09-858ABA35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C5D9-A7A5-4422-BCED-C846BF9C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2EAA-0812-4F0B-AE04-F6114CD3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D598-AEB7-44D8-9933-B42DEE6F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3ED-037D-48B5-BEBB-76BCFD39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17F-5756-441A-95D8-2CFF6F01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A6F-C585-433C-A8C8-55EC9900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7F4-B94C-465E-9B43-21B00D4C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92A-B98C-4B56-A3ED-ACF9873E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524-AC15-4F45-8AA5-E42E500B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C34-13A1-4D36-A16E-FF52583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DDAD-BC05-48CD-9FEE-46753D31EEFA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86E3-C527-40FC-86EF-C2B1DE4879DE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5329440" cy="7794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三、过去分词作状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844640"/>
            <a:ext cx="7148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een from the mountain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our school looks beautiful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Jones and Smith came,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llowed by their wiv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92080" y="26028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过去分词作状语的用法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说明发生的背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205000"/>
            <a:ext cx="83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Built in 1192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bridge is over 700 years ol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Mr. Cooper,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deeply mov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anked him again and aga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8120" y="907920"/>
            <a:ext cx="91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表示原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492280"/>
            <a:ext cx="790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Born into a farmer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family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he had only two years of school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88320" y="106056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表示时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781360"/>
            <a:ext cx="840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Seen from the hill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town looks beautifu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32680" y="84456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表示条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060640"/>
            <a:ext cx="750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Given more attention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cabbages could have grown bett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2492280"/>
            <a:ext cx="81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分词作状语时，它的逻辑主语必须与句子主语</a:t>
            </a:r>
            <a:r>
              <a:rPr b="1" lang="zh-CN" sz="4800" spc="-1" strike="noStrike">
                <a:solidFill>
                  <a:srgbClr val="99ff33"/>
                </a:solidFill>
                <a:latin typeface="Arial"/>
              </a:rPr>
              <a:t>一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40:40Z</dcterms:created>
  <dc:creator>李徐琴</dc:creator>
  <dc:description/>
  <dc:language>en-US</dc:language>
  <cp:lastModifiedBy>赵晨盼</cp:lastModifiedBy>
  <dcterms:modified xsi:type="dcterms:W3CDTF">2002-11-03T13:19:41Z</dcterms:modified>
  <cp:revision>5</cp:revision>
  <dc:subject/>
  <dc:title>三、过去分词作状语</dc:title>
</cp:coreProperties>
</file>