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25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96F-4CDE-43BE-A940-828F11A2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865-921D-428D-9028-F24D7B39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FAE-C6AA-4FC6-8B26-0DE362D7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53F-A06F-4B47-B253-38A92A64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B500-1F07-460D-8E08-D0A0794F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D516-EEB8-4B5A-810B-FCEB6288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6183-1730-4319-8EFD-8FEDBA9C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2AFD-3F47-47EB-ACE4-BC2F793B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8B97-A967-4237-875A-6040FD25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C1F5-7ED6-4C3A-A6B3-75E21744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FDD3-61A8-426A-88A4-D80647F5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509-3529-4A1D-A6EA-FDDA6A40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1CA7-7885-412F-A127-3D2AC1C3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10FD-DC0F-48EE-961D-2C61CDAB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05AF-722F-4094-897C-FA368B6C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3C65-C3CD-4D8A-9DD5-511FCD63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DA48-5374-4C61-918A-5DC7C4F8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B71-FEC4-4A1F-B640-B90543A0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82D-3D36-4E1D-BF99-AA172775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4B4-98E0-45E0-81AD-A6B2DC5B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841-FD86-4B0C-AECA-A76135B4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63A-073E-48E8-9761-C3CFB96B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211-B293-4E4D-BF47-C3AF22AE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1E8-3214-4C82-8B36-81749072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D3BC-D58B-472D-A72E-C7181E7D6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960C-DAE1-4D70-A035-E364187F3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6.xml"/><Relationship Id="rId7" Type="http://schemas.openxmlformats.org/officeDocument/2006/relationships/image" Target="../media/image35.jpeg"/><Relationship Id="rId8" Type="http://schemas.openxmlformats.org/officeDocument/2006/relationships/image" Target="../media/image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9.xml"/><Relationship Id="rId3" Type="http://schemas.openxmlformats.org/officeDocument/2006/relationships/image" Target="../media/image15.jpeg"/><Relationship Id="rId4" Type="http://schemas.openxmlformats.org/officeDocument/2006/relationships/slide" Target="slide28.xm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4.xm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6.jpeg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480" y="0"/>
            <a:ext cx="57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A Garden of Po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2" descr=""/>
          <p:cNvPicPr/>
          <p:nvPr/>
        </p:nvPicPr>
        <p:blipFill>
          <a:blip r:embed="rId2"/>
          <a:stretch/>
        </p:blipFill>
        <p:spPr>
          <a:xfrm>
            <a:off x="3733920" y="1066680"/>
            <a:ext cx="19447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9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2" descr=""/>
          <p:cNvPicPr/>
          <p:nvPr/>
        </p:nvPicPr>
        <p:blipFill>
          <a:blip r:embed="rId4"/>
          <a:stretch/>
        </p:blipFill>
        <p:spPr>
          <a:xfrm>
            <a:off x="1752480" y="3962520"/>
            <a:ext cx="18050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6" descr=""/>
          <p:cNvPicPr/>
          <p:nvPr/>
        </p:nvPicPr>
        <p:blipFill>
          <a:blip r:embed="rId5"/>
          <a:stretch/>
        </p:blipFill>
        <p:spPr>
          <a:xfrm>
            <a:off x="571500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2" descr=""/>
          <p:cNvPicPr/>
          <p:nvPr/>
        </p:nvPicPr>
        <p:blipFill>
          <a:blip r:embed="rId6"/>
          <a:stretch/>
        </p:blipFill>
        <p:spPr>
          <a:xfrm>
            <a:off x="7620120" y="39625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3" descr=""/>
          <p:cNvPicPr/>
          <p:nvPr/>
        </p:nvPicPr>
        <p:blipFill>
          <a:blip r:embed="rId7"/>
          <a:stretch/>
        </p:blipFill>
        <p:spPr>
          <a:xfrm>
            <a:off x="0" y="106668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15" descr=""/>
          <p:cNvPicPr/>
          <p:nvPr/>
        </p:nvPicPr>
        <p:blipFill>
          <a:blip r:embed="rId8"/>
          <a:stretch/>
        </p:blipFill>
        <p:spPr>
          <a:xfrm>
            <a:off x="7620120" y="1066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7" descr=""/>
          <p:cNvPicPr/>
          <p:nvPr/>
        </p:nvPicPr>
        <p:blipFill>
          <a:blip r:embed="rId9"/>
          <a:stretch/>
        </p:blipFill>
        <p:spPr>
          <a:xfrm>
            <a:off x="175248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1" descr=""/>
          <p:cNvPicPr/>
          <p:nvPr/>
        </p:nvPicPr>
        <p:blipFill>
          <a:blip r:embed="rId10"/>
          <a:stretch/>
        </p:blipFill>
        <p:spPr>
          <a:xfrm>
            <a:off x="0" y="396252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6" descr=""/>
          <p:cNvPicPr/>
          <p:nvPr/>
        </p:nvPicPr>
        <p:blipFill>
          <a:blip r:embed="rId11"/>
          <a:stretch/>
        </p:blipFill>
        <p:spPr>
          <a:xfrm>
            <a:off x="5791320" y="3962520"/>
            <a:ext cx="175248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nshui No.2 Middle School     Huang  Lan  Oct. 16,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9360" y="53352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William Wordsworth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70—185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wordsworth1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139920" cy="3521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3540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黄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7480" y="274320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vening W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04920" y="3314880"/>
            <a:ext cx="6732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00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序曲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8200" y="457200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Prelu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45760" y="609480"/>
            <a:ext cx="50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Kea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02080" y="2286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伊萨贝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7480" y="213372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ab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136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夜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880" y="33526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a Nighting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3068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秋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21160" y="47242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utum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keat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80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360" y="533520"/>
            <a:ext cx="72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George Gordon Byr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88—182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286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恰尔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哈罗尔德游记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2120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唐璜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4880" y="274320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Vision of Jud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3526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审判的幻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5520" y="38098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Don Ju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4160" y="175248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lde Harold’s Pilgr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1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4142520" y="45720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Isles of Gree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49240" y="5181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哀希腊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267080" y="4343400"/>
            <a:ext cx="44197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西风哟，如果冬天已经来到，春天还会遥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3160" y="685800"/>
            <a:ext cx="69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ercy Bysshe Shelle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0481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解放了的普罗米修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120" y="220968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rometheus Unb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6364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风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0320" y="3733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de to the West W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115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云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5200" y="533412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 Sky-L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2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286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346120" y="609480"/>
            <a:ext cx="54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obert Fr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87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6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06800" y="3505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波士顿以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2362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少年的意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0480" y="457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山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1360" y="5791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去的溪流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9240" y="16765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 Boy’s Wi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4480" y="28195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orth of Bost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800" y="51055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est-Running Broo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8520" y="3886200"/>
            <a:ext cx="37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untain Inter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rost1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984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24080" y="2209680"/>
            <a:ext cx="914400" cy="2514600"/>
          </a:xfrm>
          <a:custGeom>
            <a:avLst/>
            <a:gdLst>
              <a:gd name="textAreaLeft" fmla="*/ 584280 w 914400"/>
              <a:gd name="textAreaRight" fmla="*/ 914760 w 9144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154 son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5520" y="259092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2 long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080" y="4419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7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3657600"/>
            <a:ext cx="685800" cy="2286000"/>
          </a:xfrm>
          <a:custGeom>
            <a:avLst/>
            <a:gdLst>
              <a:gd name="textAreaLeft" fmla="*/ 438120 w 685800"/>
              <a:gd name="textAreaRight" fmla="*/ 686160 w 6858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324120" y="41148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6324480" y="3352680"/>
            <a:ext cx="19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6323760" y="480060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play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6399720" y="556272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6094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Shakespeare’s 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3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95280" y="2362320"/>
            <a:ext cx="1770120" cy="2286000"/>
          </a:xfrm>
          <a:prstGeom prst="rect">
            <a:avLst/>
          </a:prstGeom>
          <a:ln w="0">
            <a:noFill/>
          </a:ln>
        </p:spPr>
      </p:pic>
      <p:pic>
        <p:nvPicPr>
          <p:cNvPr id="221" name="2" descr=""/>
          <p:cNvPicPr/>
          <p:nvPr/>
        </p:nvPicPr>
        <p:blipFill>
          <a:blip r:embed="rId8"/>
          <a:stretch/>
        </p:blipFill>
        <p:spPr>
          <a:xfrm>
            <a:off x="6324480" y="1676520"/>
            <a:ext cx="1432080" cy="175248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rId9" action="ppaction://hlinksldjump"/>
          </p:cNvPr>
          <p:cNvSpPr/>
          <p:nvPr/>
        </p:nvSpPr>
        <p:spPr>
          <a:xfrm>
            <a:off x="7467480" y="7621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0:  Henry VI , Par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I , Pa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1:  Henry VI , Part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2:  Richard 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Comedy of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3:  Titus Androni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Taming of the sh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4:  The Two Gentlemen of Ve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Love’s Labour’s L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Romeo and Jul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5:   Richard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 Mid-Summer Night’s D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6:   King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chant of V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7:   Henry IV , Part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IV , Part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8:   Much Ado About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ry Wives of Wind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9:   Julius Ca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s You Like 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600:   Twelfth Night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22860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first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(1590– 16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 Plays and 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37240" y="12193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91400" y="2743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37240" y="3352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8480" y="5486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0520" y="6461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0384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10520" y="4495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10520" y="914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0520" y="3808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10160" y="30481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10160" y="518148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83440" y="3733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92320" y="586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10520" y="4876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64320" y="21337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洛那二绅士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10520" y="2438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爱的徒劳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73560" y="1523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10520" y="6172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83440" y="18288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39152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9217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1:  Ham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2:  Troilus and Cress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All’s Well That End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4:  Measure for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Ot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5:  King L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6:   Antony and Cleopa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7:   Coriol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Timon of At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8:   Pe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9:   Cymb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0:   The Winter’s 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2:   The Temp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Henry VIII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Second period(1601– 1608)   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572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Third period(1609– 1612)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tic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11360" y="3200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96960" y="609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44680" y="2133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49600" y="3886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44680" y="2438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1360" y="990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4812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96960" y="13716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4680" y="2819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255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冬天的故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2064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辛白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73280" y="6172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4360" y="57913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暴风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188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924680" y="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59080" y="4267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尔亲王佩里克利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89520" y="609480"/>
            <a:ext cx="724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Four Trag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2560" y="1781280"/>
            <a:ext cx="239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amle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27640" y="2743200"/>
            <a:ext cx="28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Lea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648320"/>
            <a:ext cx="4724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omeo and Juli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3960" y="3657600"/>
            <a:ext cx="25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Macbe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7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2119320" cy="26208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086600" y="5334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9000" y="228600"/>
            <a:ext cx="74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Major Co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50720" y="9144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Merchant of Ven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3800" y="4343400"/>
            <a:ext cx="56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ll’s Well That Ends Well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50360" y="2133720"/>
            <a:ext cx="47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Comedy of Err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98080" y="2717640"/>
            <a:ext cx="58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Mid-Summer Night’s Dre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88240" y="3200400"/>
            <a:ext cx="54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Merry Wives of Winds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24000" y="3733920"/>
            <a:ext cx="32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welfth N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81480" y="4952880"/>
            <a:ext cx="60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easure for Measur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22200" y="548640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uch Ado About No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23640" y="594360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s You Like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44280" y="1523880"/>
            <a:ext cx="54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Taming of the shr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70102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79040" y="5029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 Yu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屈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4520" y="5029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u F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李白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53080" y="17524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239240" y="50292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 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86200" y="17524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90960" y="609480"/>
            <a:ext cx="67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History P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67652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76920" y="4419720"/>
            <a:ext cx="32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58640" y="5105520"/>
            <a:ext cx="31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</a:t>
            </a: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23623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I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30481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8000" y="3733920"/>
            <a:ext cx="32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6920" y="5715000"/>
            <a:ext cx="307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Joh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240" y="320040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roilus and Cress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87680" y="3276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20400" y="175248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t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7280" y="18288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640" y="3886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ntony and Cleopa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996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3760" y="464832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mon of Ath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4468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840" y="17524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lius Cae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18288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6360" y="243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tus Androni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91800" y="25146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111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riol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0960" y="609480"/>
            <a:ext cx="68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Roman Play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90720" y="1143000"/>
            <a:ext cx="784836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onnet 18 is one of the most beautiful sonnets written by Shakespeare , in which he has a profound meditation on the destructive power of time and the eternal beauty brought forth by poetry to the one he loves . A nice summer’s day is usually transient , but the beauty in poetry can last for ever . Thus Shakespeare has a faith in the permanence of poetr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6560" y="22860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Times New Roman"/>
              </a:rPr>
              <a:t>Sonnet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143000"/>
            <a:ext cx="670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hall I compare thee to a summer’s d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hou art more lovely and more temper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ough winds do shake the darling buds of May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summer’s lease hath all too short a d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metime too hot the eye of heaven sh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often is his gold complexion dimme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every fair from fair sometimes declines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y chance or nature’s changing course untrimm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t thy eternal summer shall not f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lose possession of that fair thou ow’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shall death brag thou wander’st in his sh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When in eternal lines to time thou grow’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as men can breathe , or eyes can see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lives this , and this gives life to the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1752480" y="457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0904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9059" y="3794"/>
                </a:lnTo>
                <a:lnTo>
                  <a:pt x="9059" y="17806"/>
                </a:lnTo>
                <a:lnTo>
                  <a:pt x="739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701440" y="1231920"/>
            <a:ext cx="383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不能让我来把你比拟作夏日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可是更加温和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更加可爱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狂风会吹落五月里开的好花儿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夏季的生命又未免结束得太快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有时候苍天的巨眼照得太灼热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他那金彩的脸色也会被遮暗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每一样美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总会离开美而凋落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被时机或自然的代谢所摧残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但是你永久的夏天决不会凋枯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永远不会失去你美的仪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死神夸不着你在他影子里踯躅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将在不朽的诗中与时间同在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只要人类在呼吸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眼睛看得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我这诗就活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使你的生命绵延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57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十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914400" y="228600"/>
          <a:ext cx="7924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924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066680" y="228600"/>
          <a:ext cx="77724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"/>
                    <a:ext cx="7772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6934320" y="0"/>
            <a:ext cx="509400" cy="5335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20200" y="21222"/>
                </a:lnTo>
                <a:lnTo>
                  <a:pt x="20200" y="1400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1400" y="21222"/>
                </a:lnTo>
                <a:lnTo>
                  <a:pt x="20200" y="21222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2"/>
                </a:lnTo>
                <a:close/>
              </a:path>
              <a:path fill="darken" w="21600" h="22622">
                <a:moveTo>
                  <a:pt x="7301" y="11311"/>
                </a:moveTo>
                <a:lnTo>
                  <a:pt x="17806" y="4305"/>
                </a:lnTo>
                <a:lnTo>
                  <a:pt x="17806" y="18317"/>
                </a:lnTo>
                <a:close/>
              </a:path>
              <a:path fill="darken" w="21600" h="22622">
                <a:moveTo>
                  <a:pt x="3794" y="4305"/>
                </a:moveTo>
                <a:lnTo>
                  <a:pt x="5456" y="4305"/>
                </a:lnTo>
                <a:lnTo>
                  <a:pt x="5456" y="18317"/>
                </a:lnTo>
                <a:lnTo>
                  <a:pt x="3794" y="18317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37320" y="228600"/>
            <a:ext cx="48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Ode to the West Wi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4720" y="974880"/>
            <a:ext cx="52617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ake me thy lyre , even as the fores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hat if my leaves are falling like its ow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umult of thy mighty harmon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ill take from both a deep , autumnal ton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weet though in sadness. Be thou , Spirit fierc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y spirit! Be thou me , impetuous 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Drive my dead thoughts over the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Like withered leaves to quicken a new birth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nd , by the incantation of this vers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catter , as from an unextinguished h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shes and sparks , my words among mankin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Be through my lips to unawakened 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rumpet of a prophecy! O , Wind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If Winter comes , can Spring be far behin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du4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328" name="du2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3810240" cy="2743200"/>
          </a:xfrm>
          <a:prstGeom prst="rect">
            <a:avLst/>
          </a:prstGeom>
          <a:ln w="0">
            <a:noFill/>
          </a:ln>
        </p:spPr>
      </p:pic>
      <p:pic>
        <p:nvPicPr>
          <p:cNvPr id="329" name="dufu" descr=""/>
          <p:cNvPicPr/>
          <p:nvPr/>
        </p:nvPicPr>
        <p:blipFill>
          <a:blip r:embed="rId3"/>
          <a:stretch/>
        </p:blipFill>
        <p:spPr>
          <a:xfrm>
            <a:off x="1143000" y="3352680"/>
            <a:ext cx="3733920" cy="3048120"/>
          </a:xfrm>
          <a:prstGeom prst="rect">
            <a:avLst/>
          </a:prstGeom>
          <a:ln w="0">
            <a:noFill/>
          </a:ln>
        </p:spPr>
      </p:pic>
      <p:pic>
        <p:nvPicPr>
          <p:cNvPr id="330" name="5" descr=""/>
          <p:cNvPicPr/>
          <p:nvPr/>
        </p:nvPicPr>
        <p:blipFill>
          <a:blip r:embed="rId4"/>
          <a:stretch/>
        </p:blipFill>
        <p:spPr>
          <a:xfrm>
            <a:off x="5105520" y="457200"/>
            <a:ext cx="3504960" cy="274320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rId5" action="ppaction://hlinksldjump"/>
          </p:cNvPr>
          <p:cNvSpPr/>
          <p:nvPr/>
        </p:nvSpPr>
        <p:spPr>
          <a:xfrm>
            <a:off x="8077320" y="2666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772400" cy="640080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2" action="ppaction://hlinksldjump"/>
          </p:cNvPr>
          <p:cNvSpPr/>
          <p:nvPr/>
        </p:nvSpPr>
        <p:spPr>
          <a:xfrm>
            <a:off x="1066680" y="304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苏东坡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1472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84200" y="5105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Dong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白居易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2209680" cy="312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680" y="5105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i Ju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王2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514600" cy="312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28440" y="51055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ng 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郭2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43864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6040" y="50292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uo Moru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51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凤凰涅槃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2200" y="5029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n Yid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397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死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9800" y="5029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i Q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30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大堰河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8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5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徐1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48760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44480" y="5029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u Zhi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7680" y="5029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92400" y="54864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ea typeface="宋体"/>
                <a:hlinkClick r:id="rId2" action="ppaction://hlinksldjump"/>
              </a:rPr>
              <a:t>《再别康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829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致橡树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8760" y="49942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i Wang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7288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雨巷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5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135" name="1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hakespeare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2057400"/>
            <a:ext cx="3264120" cy="3809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56120" y="685800"/>
            <a:ext cx="69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illiam Shakespear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6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1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84800" y="205740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154 son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2600" y="4419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纳斯与阿多尼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7640" y="35812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enus and Ado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6400800" y="52578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77640" y="730080"/>
            <a:ext cx="52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Donn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7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3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7680" y="243828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Fl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9280" y="2590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跳蚤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1628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海上风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1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343320" cy="3962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83280" y="3733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torm At S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17880" y="609480"/>
            <a:ext cx="52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Milt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0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7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8276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失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6440" y="19810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Lo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5908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复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7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力士参孙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3120" y="33526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Regai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1680" y="4724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amson Agoni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8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7766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37720" y="838080"/>
            <a:ext cx="59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lexander Pop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8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74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9280" y="3352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批评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628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阿勃斯诺特医生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3540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0080" y="198108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ssay on M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4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2492640" cy="3720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45560" y="320040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n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5920" y="426708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Doctor Abothno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3:30:57Z</dcterms:created>
  <dc:creator>huanglan</dc:creator>
  <dc:description/>
  <dc:language>en-US</dc:language>
  <cp:lastModifiedBy>huanglan</cp:lastModifiedBy>
  <dcterms:modified xsi:type="dcterms:W3CDTF">2004-10-18T09:01:20Z</dcterms:modified>
  <cp:revision>35</cp:revision>
  <dc:subject/>
  <dc:title>PowerPoint 演示文稿</dc:title>
</cp:coreProperties>
</file>