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LAP.WAV" ContentType="audio/x-wav"/>
  <Override PartName="/ppt/media/image2.png" ContentType="image/png"/>
  <Override PartName="/ppt/media/image1.png" ContentType="image/png"/>
  <Override PartName="/ppt/media/image7.png" ContentType="image/png"/>
  <Override PartName="/ppt/media/DRUMROLL.WAV" ContentType="audio/x-wav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TIMBALES.WAV" ContentType="audio/x-wav"/>
  <Override PartName="/ppt/media/ISRAELFL.WAV" ContentType="audio/x-wav"/>
  <Override PartName="/ppt/media/image13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043-94F3-4899-8B1F-105983D6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B71-AE7D-466A-8119-A6B79218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288-2E69-4206-ADD4-2AF81AE1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5CC-1374-4B7B-A3D6-8749436C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A17-35C2-41E3-9AAA-69DC5415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0877-0BFA-4EAE-A8A2-32242F53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74DC-8F58-4A8F-B006-79ED67D0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D0CC-5E98-42D9-8CF6-5821F14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BD9-7448-409A-941E-DC6781F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87FF-20EE-4A49-97B4-5D5A9BF0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9A4A-FBFA-489B-9204-98EAB40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122-39ED-4361-846F-CE28F728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BC2E-84E5-4DEB-A244-4D3CCD4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3DDC-EFFD-4E08-86A7-804FEB7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7B0C-3F99-412C-B9B6-4EE2E57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08AE-638E-4D32-99FA-F65B778D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35D-5864-4B2E-82EA-74EEB3AA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F72-1362-4171-9D19-86A0A018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4BA-692E-4210-9C0E-33B37477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BBB-A5FA-4A8D-85F1-FEC03872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27B-376D-47AC-975A-5CD58F2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6D8-6DC6-482A-9281-3C44385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8FC-F56A-4AC1-9E68-14C184C9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6B8-117E-4096-90DE-C3EA0B3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9045-7889-4501-AE53-5C0935E6E8A2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B182-F2FA-4D67-AF94-E22906A845E1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3808440"/>
            <a:ext cx="41911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60879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835200"/>
          <a:ext cx="632160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5200"/>
                    <a:ext cx="63216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11360" y="193032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gymnast performs swing, handstand and other movements on the parallel bars. He also does holding positions which require him to remain motionless for one or two second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508200" y="0"/>
          <a:ext cx="24703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4703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908000" y="1063800"/>
          <a:ext cx="5943600" cy="50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63800"/>
                    <a:ext cx="594360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2208240"/>
            <a:ext cx="7391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the horizontal upper bar, the gymnast must perform acrobatic moves without coming to a stop.  The exercise ends with a dismount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08200" y="57240"/>
          <a:ext cx="220680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57240"/>
                    <a:ext cx="22068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3808440"/>
            <a:ext cx="27432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Wo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978200" y="1063800"/>
          <a:ext cx="58734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1063800"/>
                    <a:ext cx="58734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95280" y="213516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women’s vault uses the same equipment as the men’s vault.  However, women gymnasts vault across the horses width rather than its leng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78400" y="46080"/>
          <a:ext cx="19872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46080"/>
                    <a:ext cx="19872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828800" y="993600"/>
          <a:ext cx="602280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02280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2514600"/>
            <a:ext cx="70866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uneven parallel bars event requires the gymnast to execute difficult maneuvers on both bars while in constant motion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81280" y="50760"/>
          <a:ext cx="205740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0760"/>
                    <a:ext cx="20574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828800" y="1143000"/>
          <a:ext cx="60930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60930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600200" y="685800"/>
          <a:ext cx="6480000" cy="56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648000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2235240"/>
            <a:ext cx="73915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On the balance beam, the gymnast tries to use the entire length of the beam.  The advanced gymnast may perform somersaults, backhandswheel or cartwheel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63360"/>
          <a:ext cx="198144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63360"/>
                    <a:ext cx="19814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908000" y="1143000"/>
          <a:ext cx="6013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43000"/>
                    <a:ext cx="6013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2665440"/>
            <a:ext cx="7086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In the floor exercise, the gymnast demonstrates her skills of acrobatics, tumbling and dancing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657600" y="0"/>
          <a:ext cx="213372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0"/>
                    <a:ext cx="21337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828800" y="1063800"/>
          <a:ext cx="6093000" cy="52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3800"/>
                    <a:ext cx="609300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0968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hythmic gymnasts are judged on the grace and difficulty of various maneuvers performed with equipment such as a ribbon, clubs or a hoop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86200" y="0"/>
          <a:ext cx="20574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6880" y="2592360"/>
            <a:ext cx="426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2268360"/>
            <a:ext cx="739152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In a floor exercise a gymnast must perform continuous series movements that require flexibility, balance and strength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657600" y="22320"/>
          <a:ext cx="217188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320"/>
                    <a:ext cx="21718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679400" y="914400"/>
          <a:ext cx="604692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60469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1981080"/>
            <a:ext cx="762012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a pommel horse,  the gymnast must support his weight entirely with his hands while performing a series of swing maneuvers.  This maneuver is known as the scissor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736800" y="11160"/>
          <a:ext cx="21956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11160"/>
                    <a:ext cx="21956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600200" y="835200"/>
          <a:ext cx="632160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5200"/>
                    <a:ext cx="63216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95280" y="220824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the ring exercise, the gymnast must try to keep the rings motionless, while he executes a number of difficult maneuvers with his body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08200" y="0"/>
          <a:ext cx="251460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514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1828800" y="993600"/>
          <a:ext cx="64119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4119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95280" y="2208240"/>
            <a:ext cx="69343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man’s vault uses the same equipment as the women’s vault.  However, men gymnasts vault across the horse’s length rather than its wid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78400" y="0"/>
          <a:ext cx="22158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0"/>
                    <a:ext cx="22158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9:36:30Z</dcterms:created>
  <dc:creator>ll</dc:creator>
  <dc:description/>
  <dc:language>en-US</dc:language>
  <cp:lastModifiedBy>fan</cp:lastModifiedBy>
  <dcterms:modified xsi:type="dcterms:W3CDTF">2001-03-19T11:01:59Z</dcterms:modified>
  <cp:revision>123</cp:revision>
  <dc:subject/>
  <dc:title>Gymnastics</dc:title>
</cp:coreProperties>
</file>