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1C6-5ADC-4DB4-9DEC-DA895F5A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925-8069-4CFB-8F46-56ED7608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516-CB10-489D-A6FB-E1CA557B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51C-C30C-4C7E-B7E4-CABFFB4D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6E8-DD43-41BD-95D8-09B34DF0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B54-69D3-4260-A571-CD090C5A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E45-B172-4D34-9EED-CEFEC4FA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F7B-999F-4FEF-BFC9-B1EC8812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B48-7ADC-4D1F-B287-48370493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783-BBFC-4B05-93F0-FA62C4D5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1A7-C5C3-414B-A75F-D3A16167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A0F-75F3-4488-9EAF-4CD8B139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0A4B-F336-4E33-A0F5-DA094AE380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4753440" y="-2686320"/>
            <a:ext cx="18466560" cy="18623880"/>
            <a:chOff x="-4753440" y="-2686320"/>
            <a:chExt cx="18466560" cy="18623880"/>
          </a:xfrm>
        </p:grpSpPr>
        <p:sp>
          <p:nvSpPr>
            <p:cNvPr id="6" name=""/>
            <p:cNvSpPr/>
            <p:nvPr/>
          </p:nvSpPr>
          <p:spPr>
            <a:xfrm flipH="1" rot="2520000">
              <a:off x="1089000" y="-1613520"/>
              <a:ext cx="2686680" cy="54547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2520000">
              <a:off x="-1554120" y="-471240"/>
              <a:ext cx="12068640" cy="1419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高一英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语法、词汇复习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3352680"/>
            <a:ext cx="6477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主讲人： 刘雪清 （高级教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方交大附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播出时间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日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: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天早上他不可能在会上作过报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那时我在街上遇见过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8195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ouldn’t / can’t  h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poken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t the meeting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morning, for I saw him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reet th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. 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觉得这些饭菜怎麽样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极了！我们不可能找到比这家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的饭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04812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—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w do you like the food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—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Excellent!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ouldn’t / ca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 foun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 better restaura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—Alice always gets the best grade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r class.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he ______ study very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may   C. can    D. 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—I think this watch belongs to J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, it _____ belong to him. He d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t come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must not              B. may not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267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4267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.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8960" y="2209320"/>
            <a:ext cx="7086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Don’t believe him. His story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e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must not             B. c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8960" y="2209680"/>
            <a:ext cx="7086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 —She must have gone back to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, she _____ . I saw her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ading room just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not               B. must not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ul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191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. coul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— Is the film on in the cinema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____  be, but I’m not too 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can not                 B. must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nee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886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3886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. may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18960" y="22860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6. ____ it be Liu Ling who come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 day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                C. May   D. M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.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429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.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. —I can not find my purse, hav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en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. You ____ it at hom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leave          B. can have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must have left     D. may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. —I can not find my purse, hav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en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. You ____ it at hom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leave          B. can have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. must have lef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D. may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114264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General Revision</a:t>
            </a:r>
            <a:br>
              <a:rPr sz="4400"/>
            </a:b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it 24 and Unit 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2860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目标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 Review the following part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Model verbs: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must, ma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might, c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Sentence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ords &amp;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—What time are you going to ge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m not sure. I ____ bac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unch ti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ight be       B. must b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ill be          D. may have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—What time are you going to ge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m not sure. I ____ bac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unch ti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A. migh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B. must b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ill be          D. may have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2640" y="1905120"/>
            <a:ext cx="6553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…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to d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ing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正在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某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n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被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to be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状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 discov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89548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Marx was already in 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ies, h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study the situation in Russi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Unit 21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t …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 do 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2514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ent to visit Mr. Wang and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im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cook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up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ing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正在做某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n his return from his off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house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clean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0384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n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被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26668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is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to be tru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cities I visi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 pers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 ask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help at the momen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此句中的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to ask for help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作定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66320" y="1904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to b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是……状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52120" y="1523520"/>
            <a:ext cx="5867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think you will find it very pleasant ________ (be) here with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How surprised she was when she found her necklace _____ (go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523880"/>
            <a:ext cx="5943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I think you will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very pleasant ________ (be)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he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ith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How surprised she was when s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er necklac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 (go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found many people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found the time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1523880"/>
            <a:ext cx="594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any people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ime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many peopl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tim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057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waiting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9600" y="39625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 … that 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so … that 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apid progres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efore long he began to write articles in English for an American news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uch … that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 fact, his English in one of these articles was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good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tha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Engels wrote him a letter and  praised him for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What a lot of invitations to send ou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Yes, here </a:t>
            </a: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b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over two hund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re. 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Unit 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phone rang but I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didn’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hear it.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have bee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a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 It is _____a good book 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body wants to buy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____ honest a boy 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l the people believed in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 It is _____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 good boo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body wants to buy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____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hones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 bo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l the people believed in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China had ____ adva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printing technology then 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lot of useful information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en kept up to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China had ____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dva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printing technolog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n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lot of useful information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en kept up to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286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It is ___ good a book 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wants to buy o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It is ___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good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 boo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wants to buy o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The fire fighters showed ____ much courage ___ all of us admired them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The fire fighters showed ____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muc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courag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ll of us admired them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2362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4267080"/>
            <a:ext cx="6477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名词前有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many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 much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 littl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few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修饰时用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so…that …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句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685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feel like 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to do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eel like 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ant to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don’t feel like walking very much today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3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feel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中的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是介词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，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如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look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seem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 sound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,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’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d lik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d like to do some shopping, but not during the 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中的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是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19051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want to 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can’t          can’t / couldn’t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just had lunch. You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can’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hung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an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alk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st me without speaking. She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can’t (couldn’t) have see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e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oes not feel like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keep) in touch with him any l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e want to have a walk after supper. Would you like ______ (go) with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447920"/>
            <a:ext cx="6477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oes not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eel 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keep) in touch with him any l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e want to have a walk after supper.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______ (go) with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447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472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Just stay at home. I woul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ike you __________ (m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ouble out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438280" y="8380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Just stay at home. I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lik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you __________ (m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ouble out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2057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m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42900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like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7c80"/>
                </a:solidFill>
                <a:latin typeface="Times New Roman"/>
              </a:rPr>
              <a:t>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想要做某事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like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to do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想让某人做某事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/ Do you min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doing 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/ Do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iv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t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ay about DN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2133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介意……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I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pened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indow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I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pe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ind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介意……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Would you mind if I ______   (point) out your mistak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Do you mind if I ____ (call) your first na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1447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oin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3352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Would you mind ________ (wait) a few minu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you mind ___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sit)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3840" y="144792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ai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048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(my/me) si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8380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Would you mind _______ (speak) a little more slow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Would you mind if I ______(use) your dictiona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想做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rather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宁愿做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 di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宁愿让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ould like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 g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What about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would rather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av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 ap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y mother would rather I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idn’t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324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d much rather ____ (stay) at home for a quiet week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’d like _______ (bring) in a new machi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2209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t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4038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b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520" y="1676520"/>
            <a:ext cx="6705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/ m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/ m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has promised to attend the meeting. So she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nd is wet. It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have rain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uring the n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I’d rather you _____ (come) on Fri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209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3000" y="205704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几个词都表 “花费；付出代价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他们的</a:t>
            </a:r>
            <a:r>
              <a:rPr b="0" i="1" lang="zh-CN" sz="2800" spc="-1" strike="noStrike">
                <a:solidFill>
                  <a:srgbClr val="ffff66"/>
                </a:solidFill>
                <a:latin typeface="Times New Roman"/>
              </a:rPr>
              <a:t>主语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不同，</a:t>
            </a:r>
            <a:r>
              <a:rPr b="0" i="1" lang="zh-CN" sz="2800" spc="-1" strike="noStrike">
                <a:solidFill>
                  <a:srgbClr val="ffff66"/>
                </a:solidFill>
                <a:latin typeface="Times New Roman"/>
              </a:rPr>
              <a:t>搭配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也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pend time / money in doing /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h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pent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n hou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washing the c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pent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alf my mone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n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4264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 … for …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付…… 的钱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付出代价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w muc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di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you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 fo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o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wrong-do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s for it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ost (sb.)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st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后可以接时间金钱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付出代价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pace trave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ust cost a great de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ing well in my lesson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cost me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ot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4264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be worth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值得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be worth (money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值多少钱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boo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s really 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 is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ll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wort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Each of the stamp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s worth a pen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______ for the medicin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ried home out of br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The diamond necklace was said to __________ several thousand fran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______ for the medicin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ried home out of br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The diamond necklace was said to __________ several thousand fran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wo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Bob _______ a lot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rganizing the conce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None of these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as _____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Bob _______ a lot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rganizing the conce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None of these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as _____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0574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p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5639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The heroic deed ______ him his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快点。你妈妈一定在等我们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那位肯定就是你们的老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0574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urry up. Your mother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us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waiting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for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9625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at man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your teac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2209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耕翻（土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反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同意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时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ur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o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3505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gre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ow and t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ive a tal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240" y="2514240"/>
            <a:ext cx="2438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指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忙于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从…… 敲出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逐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1000" y="236232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oint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40280" y="297180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bus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3429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nock ou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42080" y="388620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year after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4419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year by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ck                   think about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 and then       hit; str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 against            from time to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ider               fight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3429000"/>
            <a:ext cx="213372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724280"/>
            <a:ext cx="144756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4191120"/>
            <a:ext cx="838080" cy="5331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971800" y="3581280"/>
            <a:ext cx="1752480" cy="19814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25146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          call sb. on the 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et through      ask sb. to leave a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ing up             manage to pass throug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809880"/>
            <a:ext cx="114300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648320"/>
            <a:ext cx="914400" cy="8380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438280" y="3809520"/>
            <a:ext cx="1524240" cy="1676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297180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066320" y="2514240"/>
            <a:ext cx="7239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ke up        be present 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end            be willing to tak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ept           invent (words, story etc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ive         take or get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362320" y="4190760"/>
            <a:ext cx="121896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86000" y="3505320"/>
            <a:ext cx="1371600" cy="7617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581280"/>
            <a:ext cx="838080" cy="12193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556272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362320" y="358128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worry, all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itation have been 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362320" y="358128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worry, all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itation haven been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t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133720" y="3581280"/>
            <a:ext cx="571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Our headmaster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English party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33720" y="3581280"/>
            <a:ext cx="571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Our headmaster 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English party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3581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tte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6629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Do Ex.12 P.112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x.13 P.1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Go over the check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Unit 24-26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Do Ex. 19 and 20 P.1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外面很湿。刚才想必下过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为什么显得这么疲倦？你可能昨晚又开夜车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’s wet outside. I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u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 raine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jus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41148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Why do you look so tired?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ay have stayed up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late 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觉得玛丽明天早上可能会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年暑假他们想去海南，不过也有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能去上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810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 think Mary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ay 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1148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y’d like to go to Hainan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liday this summer, but th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ight go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to Shangh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他们不可能出去，因为灯还开着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最好先打个电话。他可能不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要去那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057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ey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n’t have gon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ecause the light is 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1148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’d better make a phon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all first. H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ay not kno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that we will go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13:08:46Z</dcterms:created>
  <dc:creator>lk</dc:creator>
  <dc:description/>
  <dc:language>en-US</dc:language>
  <cp:lastModifiedBy>m</cp:lastModifiedBy>
  <dcterms:modified xsi:type="dcterms:W3CDTF">2003-06-24T03:36:53Z</dcterms:modified>
  <cp:revision>711</cp:revision>
  <dc:subject/>
  <dc:title>General Revision</dc:title>
</cp:coreProperties>
</file>