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5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9.wmf" ContentType="image/x-wmf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067-0489-4BC6-8DCA-694FAE84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B34-4A7E-4939-B3C0-4C6A4344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850-5B39-4E88-9CA0-DB8DBB9B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2B5-7359-4CF0-91D0-56D68CC6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9E18-6E92-4CB1-89E1-81F54D9D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88B9-97B0-42E8-B6A7-0B3F454A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9C83-756A-49A7-B12C-4122076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13C6-27F0-499C-9A22-25C6058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712F-A54A-42A1-B7CE-B4AF507A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A306-05A1-441E-936D-B2120CEE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2CDD-A565-465F-8751-ADAEAA71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BD0-644F-42E4-A146-B7723F0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02CE-2F7E-4FF6-9D9E-F4961AD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3042-DECF-4881-9A8F-6EA568F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56B-C0DD-4672-B3C1-63A1DAC6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5E59-D995-4593-B2D7-C92EDB4B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0D37-24ED-4440-8B5E-F11997E8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29B-A6D7-430D-8A26-9D41748A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A63-5C3D-4166-8C43-59FF8BBD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F4D-69C0-40E4-BE5D-6869A06A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38A-EACD-4054-9A58-FD3A234A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9CB-EDAB-46F2-8B36-228A921F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EF3-F9F6-40E7-A569-A9F0EDB5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7BF-5837-4152-869C-AC057BE4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B87B-CC42-4FAB-91C5-1744B0AB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5B6-04CD-450A-97E7-BB19C6E97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6.xml"/><Relationship Id="rId7" Type="http://schemas.openxmlformats.org/officeDocument/2006/relationships/image" Target="../media/image35.jpeg"/><Relationship Id="rId8" Type="http://schemas.openxmlformats.org/officeDocument/2006/relationships/image" Target="../media/image4.jpeg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9.xml"/><Relationship Id="rId3" Type="http://schemas.openxmlformats.org/officeDocument/2006/relationships/image" Target="../media/image15.jpeg"/><Relationship Id="rId4" Type="http://schemas.openxmlformats.org/officeDocument/2006/relationships/slide" Target="slide28.xm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4.xm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6.jpeg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05480" y="0"/>
            <a:ext cx="57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A Garden of Po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2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19447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9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2" descr=""/>
          <p:cNvPicPr/>
          <p:nvPr/>
        </p:nvPicPr>
        <p:blipFill>
          <a:blip r:embed="rId4"/>
          <a:stretch/>
        </p:blipFill>
        <p:spPr>
          <a:xfrm>
            <a:off x="1752480" y="3962520"/>
            <a:ext cx="1805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6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2" descr=""/>
          <p:cNvPicPr/>
          <p:nvPr/>
        </p:nvPicPr>
        <p:blipFill>
          <a:blip r:embed="rId6"/>
          <a:stretch/>
        </p:blipFill>
        <p:spPr>
          <a:xfrm>
            <a:off x="7620120" y="39625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3" descr=""/>
          <p:cNvPicPr/>
          <p:nvPr/>
        </p:nvPicPr>
        <p:blipFill>
          <a:blip r:embed="rId7"/>
          <a:stretch/>
        </p:blipFill>
        <p:spPr>
          <a:xfrm>
            <a:off x="0" y="106668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15" descr=""/>
          <p:cNvPicPr/>
          <p:nvPr/>
        </p:nvPicPr>
        <p:blipFill>
          <a:blip r:embed="rId8"/>
          <a:stretch/>
        </p:blipFill>
        <p:spPr>
          <a:xfrm>
            <a:off x="7620120" y="1066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1" descr=""/>
          <p:cNvPicPr/>
          <p:nvPr/>
        </p:nvPicPr>
        <p:blipFill>
          <a:blip r:embed="rId10"/>
          <a:stretch/>
        </p:blipFill>
        <p:spPr>
          <a:xfrm>
            <a:off x="0" y="39625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6" descr=""/>
          <p:cNvPicPr/>
          <p:nvPr/>
        </p:nvPicPr>
        <p:blipFill>
          <a:blip r:embed="rId11"/>
          <a:stretch/>
        </p:blipFill>
        <p:spPr>
          <a:xfrm>
            <a:off x="5791320" y="396252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shui No.2 Middle School     Huang  Lan  Oct. 16,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9360" y="533520"/>
            <a:ext cx="70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William Wordsworth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70—185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wordsworth1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3139920" cy="3521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354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黄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7480" y="274320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vening W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04920" y="3314880"/>
            <a:ext cx="6732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00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序曲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8200" y="457200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Prelu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45760" y="609480"/>
            <a:ext cx="50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Keat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5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02080" y="2286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伊萨贝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7480" y="213372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sab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136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夜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1880" y="33526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de to a Nighting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0680" y="4876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《秋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21160" y="472428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utum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keat4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280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360" y="533520"/>
            <a:ext cx="72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George Gordon Byr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(1788—182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286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恰尔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罗尔德游记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120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唐璜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4880" y="274320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Vision of Judg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3526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审判的幻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5520" y="38098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Don Ju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4160" y="175248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hilde Harold’s Pilgr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12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895480" cy="3810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4142520" y="4572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Isles of Gree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49240" y="5181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哀希腊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267080" y="4343400"/>
            <a:ext cx="44197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西风哟，如果冬天已经来到，春天还会遥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3160" y="685800"/>
            <a:ext cx="69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Percy Bysshe Shelle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7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2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48120"/>
            <a:ext cx="35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解放了的普罗米修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120" y="2209680"/>
            <a:ext cx="4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rometheus Unb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6364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风颂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0320" y="3733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Ode to the West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15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云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5200" y="53341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a Sky-L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2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286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346120" y="609480"/>
            <a:ext cx="54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Robert Frost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87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06800" y="3505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波士顿以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2362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少年的意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048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山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1360" y="57913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西去的溪流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9240" y="167652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 Boy’s Wi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4480" y="2819520"/>
            <a:ext cx="33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orth of Bost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800" y="51055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est-Running Broo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8520" y="3886200"/>
            <a:ext cx="37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untain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frost1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124080" y="2209680"/>
            <a:ext cx="914400" cy="2514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154 son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5520" y="25909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2 long po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080" y="441972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37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3657600"/>
            <a:ext cx="685800" cy="22860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24120" y="41148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324480" y="3352680"/>
            <a:ext cx="19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6323760" y="48006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pl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399720" y="556272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6094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Shakespeare’s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95280" y="2362320"/>
            <a:ext cx="1770120" cy="2286000"/>
          </a:xfrm>
          <a:prstGeom prst="rect">
            <a:avLst/>
          </a:prstGeom>
          <a:ln w="0">
            <a:noFill/>
          </a:ln>
        </p:spPr>
      </p:pic>
      <p:pic>
        <p:nvPicPr>
          <p:cNvPr id="221" name="2" descr=""/>
          <p:cNvPicPr/>
          <p:nvPr/>
        </p:nvPicPr>
        <p:blipFill>
          <a:blip r:embed="rId8"/>
          <a:stretch/>
        </p:blipFill>
        <p:spPr>
          <a:xfrm>
            <a:off x="6324480" y="1676520"/>
            <a:ext cx="1432080" cy="175248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rId9" action="ppaction://hlinksldjump"/>
          </p:cNvPr>
          <p:cNvSpPr/>
          <p:nvPr/>
        </p:nvSpPr>
        <p:spPr>
          <a:xfrm>
            <a:off x="7467480" y="762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8853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  <a:path fill="darken" w="24704" h="21600">
                <a:moveTo>
                  <a:pt x="5346" y="3794"/>
                </a:moveTo>
                <a:lnTo>
                  <a:pt x="7008" y="3794"/>
                </a:lnTo>
                <a:lnTo>
                  <a:pt x="7008" y="17806"/>
                </a:lnTo>
                <a:lnTo>
                  <a:pt x="534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0:  Henry VI , Pa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I , Pa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1:  Henry VI , Part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2:  Richard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Comedy of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3:  Titus Androni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Taming of the sh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4:  The Two Gentlemen of Ver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Love’s Labour’s L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Romeo and Ju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5:   Richard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 Mid-Summer Night’s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6:   King J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chant of Ven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7:   Henry IV , Part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IV , Part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8:   Much Ado About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Henry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The Merry Wives of Wind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599:   Julius Ca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As You Like 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1600:   Twelfth Night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22860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first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(1590– 16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History  Plays and Com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7240" y="12193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400" y="2743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37240" y="3352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8480" y="5486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0520" y="6461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0384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10520" y="44956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0520" y="9144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10520" y="3808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10160" y="304812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10160" y="5181480"/>
            <a:ext cx="41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3440" y="3733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92320" y="5867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10520" y="48769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64320" y="21337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洛那二绅士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10520" y="243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爱的徒劳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73560" y="15238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520" y="61722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3440" y="182880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7391520" y="57913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92172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1:  Ham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2:  Troilus and Cres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All’s Well That End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4:  Measure for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Ot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5:  King L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6:   Antony and Cleopa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7:   Coriol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Timon of At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8:   Per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09:   Cymb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0:   The Winter’s 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1612:   The Temp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Henry VIII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Second period(1601– 1608)   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Traged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572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Third period(1609– 1612) 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Romantic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11360" y="3200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6960" y="609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44680" y="2133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49600" y="3886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44680" y="2438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1360" y="990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4812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96960" y="1371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4680" y="2819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255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冬天的故事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2064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辛白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73280" y="6172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360" y="57913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暴风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188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7924680" y="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59080" y="4267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尔亲王佩里克利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89520" y="609480"/>
            <a:ext cx="724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Four Trag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2560" y="1781280"/>
            <a:ext cx="239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amle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哈姆雷特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27640" y="2743200"/>
            <a:ext cx="28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Lea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李尔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648320"/>
            <a:ext cx="4724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omeo and Juli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罗密欧与朱丽叶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03960" y="3657600"/>
            <a:ext cx="25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Macbe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麦克白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7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119320" cy="2620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086600" y="5334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9000" y="228600"/>
            <a:ext cx="74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Major Co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50720" y="914400"/>
            <a:ext cx="52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Merchant of Ven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威尼斯商人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53800" y="4343400"/>
            <a:ext cx="56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ll’s Well That Ends Well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终成眷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50360" y="2133720"/>
            <a:ext cx="47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Comedy of 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错误的喜剧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98080" y="2717640"/>
            <a:ext cx="58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Mid-Summer Night’s Dre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仲夏夜之梦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88240" y="3200400"/>
            <a:ext cx="54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Merry Wives of Winds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温莎的风流娘儿们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24000" y="3733920"/>
            <a:ext cx="32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welfth N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第十二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81480" y="4952880"/>
            <a:ext cx="60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easure for Measu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一报还一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22200" y="548640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uch Ado About N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无事生非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23640" y="594360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s You Like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皆大欢喜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44280" y="1523880"/>
            <a:ext cx="54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Taming of the shr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驯悍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7010280" y="60958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79040" y="5029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 Yu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屈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4520" y="5029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u F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李白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53080" y="1752480"/>
            <a:ext cx="21337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239240" y="50292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 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86200" y="1752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90960" y="609480"/>
            <a:ext cx="67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History 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167652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六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76920" y="4419720"/>
            <a:ext cx="32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三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58640" y="5105520"/>
            <a:ext cx="318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Richard II</a:t>
            </a: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理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二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23623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IV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四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3048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五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78000" y="3733920"/>
            <a:ext cx="32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Henry VII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亨利八世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76920" y="5715000"/>
            <a:ext cx="307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King Joh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约翰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240" y="320040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roilus and Cress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87680" y="3276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特洛伊罗斯与克瑞西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20400" y="175248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t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87280" y="18288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奥瑟罗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640" y="3886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ntony and Cleopa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9960" y="3962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安东尼和克莉奥佩特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3760" y="464832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mon of Ath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44680" y="4724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雅典的泰门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840" y="17524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lius Caes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2000" y="18288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尤利乌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凯撒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6360" y="24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itus Andron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91800" y="2514600"/>
            <a:ext cx="7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泰特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安德洛尼克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11160" y="54100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科里奥拉努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riol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0960" y="6094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Times New Roman"/>
              </a:rPr>
              <a:t>Shakespeare’s Roman Play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77320" y="7621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90720" y="1143000"/>
            <a:ext cx="784836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onnet 18 is one of the most beautiful sonnets written by Shakespeare , in which he has a profound meditation on the destructive power of time and the eternal beauty brought forth by poetry to the one he loves . A nice summer’s day is usually transient , but the beauty in poetry can last for ever . Thus Shakespeare has a faith in the permanence of poetry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6560" y="228600"/>
            <a:ext cx="30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ff"/>
                </a:solidFill>
                <a:latin typeface="Times New Roman"/>
              </a:rPr>
              <a:t>Sonnet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143000"/>
            <a:ext cx="670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hall I compare thee to a summer’s d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ou art more lovely and more temper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ough winds do shake the darling buds of May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summer’s lease hath all too short a d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metime too hot the eye of heaven sh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often is his gold complexion dimme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nd every fair from fair sometimes declines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y chance or nature’s changing course untrimm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ut thy eternal summer shall not f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lose possession of that fair thou ow’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or shall death brag thou wander’st in his shade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hen in eternal lines to time thou grow’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as men can breathe , or eyes can see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 long lives this , and this gives life to the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1752480" y="457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0904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9059" y="3794"/>
                </a:lnTo>
                <a:lnTo>
                  <a:pt x="9059" y="17806"/>
                </a:lnTo>
                <a:lnTo>
                  <a:pt x="7396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01440" y="1231920"/>
            <a:ext cx="383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不能让我来把你比拟作夏日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可是更加温和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更加可爱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狂风会吹落五月里开的好花儿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夏季的生命又未免结束得太快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有时候苍天的巨眼照得太灼热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他那金彩的脸色也会被遮暗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每一样美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总会离开美而凋落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被时机或自然的代谢所摧残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但是你永久的夏天决不会凋枯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永远不会失去你美的仪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死神夸不着你在他影子里踯躅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将在不朽的诗中与时间同在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只要人类在呼吸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眼睛看得见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我这诗就活着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, </a:t>
            </a:r>
            <a:r>
              <a:rPr b="1" i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使你的生命绵延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572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00ff"/>
                </a:solidFill>
                <a:latin typeface="Times New Roman"/>
                <a:ea typeface="华文楷体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6094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914400" y="228600"/>
          <a:ext cx="7924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92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66680" y="2286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7467480" y="563868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7301" y="11187"/>
                </a:moveTo>
                <a:lnTo>
                  <a:pt x="17806" y="4181"/>
                </a:lnTo>
                <a:lnTo>
                  <a:pt x="17806" y="18194"/>
                </a:lnTo>
                <a:close/>
              </a:path>
              <a:path fill="darken" w="21600" h="22375">
                <a:moveTo>
                  <a:pt x="3794" y="4181"/>
                </a:moveTo>
                <a:lnTo>
                  <a:pt x="5456" y="4181"/>
                </a:lnTo>
                <a:lnTo>
                  <a:pt x="5456" y="18194"/>
                </a:lnTo>
                <a:lnTo>
                  <a:pt x="3794" y="18194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934320" y="0"/>
            <a:ext cx="509400" cy="53352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520"/>
              <a:gd name="textAreaBottom" fmla="*/ 500760 h 533520"/>
            </a:gdLst>
            <a:ahLst/>
            <a:rect l="textAreaLeft" t="textAreaTop" r="textAreaRight" b="textAreaBottom"/>
            <a:pathLst>
              <a:path w="21600" h="22622">
                <a:moveTo>
                  <a:pt x="0" y="0"/>
                </a:moveTo>
                <a:lnTo>
                  <a:pt x="21600" y="0"/>
                </a:lnTo>
                <a:lnTo>
                  <a:pt x="21600" y="22622"/>
                </a:lnTo>
                <a:lnTo>
                  <a:pt x="0" y="22622"/>
                </a:lnTo>
                <a:close/>
              </a:path>
              <a:path fill="lightenLess" w="21600" h="22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2">
                <a:moveTo>
                  <a:pt x="21600" y="0"/>
                </a:moveTo>
                <a:lnTo>
                  <a:pt x="21600" y="22622"/>
                </a:lnTo>
                <a:lnTo>
                  <a:pt x="20200" y="21222"/>
                </a:lnTo>
                <a:lnTo>
                  <a:pt x="20200" y="1400"/>
                </a:lnTo>
                <a:close/>
              </a:path>
              <a:path fill="darkenLess" w="21600" h="22622">
                <a:moveTo>
                  <a:pt x="21600" y="22622"/>
                </a:moveTo>
                <a:lnTo>
                  <a:pt x="0" y="22622"/>
                </a:lnTo>
                <a:lnTo>
                  <a:pt x="1400" y="21222"/>
                </a:lnTo>
                <a:lnTo>
                  <a:pt x="20200" y="21222"/>
                </a:lnTo>
                <a:close/>
              </a:path>
              <a:path fill="lighten" w="21600" h="22622">
                <a:moveTo>
                  <a:pt x="0" y="22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2"/>
                </a:lnTo>
                <a:close/>
              </a:path>
              <a:path fill="darken" w="21600" h="22622">
                <a:moveTo>
                  <a:pt x="7301" y="11311"/>
                </a:moveTo>
                <a:lnTo>
                  <a:pt x="17806" y="4305"/>
                </a:lnTo>
                <a:lnTo>
                  <a:pt x="17806" y="18317"/>
                </a:lnTo>
                <a:close/>
              </a:path>
              <a:path fill="darken" w="21600" h="22622">
                <a:moveTo>
                  <a:pt x="3794" y="4305"/>
                </a:moveTo>
                <a:lnTo>
                  <a:pt x="5456" y="4305"/>
                </a:lnTo>
                <a:lnTo>
                  <a:pt x="5456" y="18317"/>
                </a:lnTo>
                <a:lnTo>
                  <a:pt x="3794" y="18317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137320" y="228600"/>
            <a:ext cx="48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Ode to the West Wi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4720" y="974880"/>
            <a:ext cx="52617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ake me thy lyre , even as the fores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hat if my leaves are falling like its ow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umult of thy mighty harmon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Will take from both a deep , autumnal ton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weet though in sadness. Be thou , Spirit fierc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My spirit! Be thou me , impetuous on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Drive my dead thoughts over the uni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Like withered leaves to quicken a new birth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nd , by the incantation of this verse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Scatter , as from an unextinguished h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Ashes and sparks , my words among mankind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Be through my lips to unawakened Ear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Times New Roman"/>
              </a:rPr>
              <a:t>The trumpet of a prophecy! O , Wind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ff"/>
                </a:solidFill>
                <a:latin typeface="Times New Roman"/>
              </a:rPr>
              <a:t>If Winter comes , can Spring be far behin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du4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328" name="du2" descr=""/>
          <p:cNvPicPr/>
          <p:nvPr/>
        </p:nvPicPr>
        <p:blipFill>
          <a:blip r:embed="rId2"/>
          <a:stretch/>
        </p:blipFill>
        <p:spPr>
          <a:xfrm>
            <a:off x="1066680" y="457200"/>
            <a:ext cx="3810240" cy="2743200"/>
          </a:xfrm>
          <a:prstGeom prst="rect">
            <a:avLst/>
          </a:prstGeom>
          <a:ln w="0">
            <a:noFill/>
          </a:ln>
        </p:spPr>
      </p:pic>
      <p:pic>
        <p:nvPicPr>
          <p:cNvPr id="329" name="dufu" descr=""/>
          <p:cNvPicPr/>
          <p:nvPr/>
        </p:nvPicPr>
        <p:blipFill>
          <a:blip r:embed="rId3"/>
          <a:stretch/>
        </p:blipFill>
        <p:spPr>
          <a:xfrm>
            <a:off x="1143000" y="3352680"/>
            <a:ext cx="3733920" cy="3048120"/>
          </a:xfrm>
          <a:prstGeom prst="rect">
            <a:avLst/>
          </a:prstGeom>
          <a:ln w="0">
            <a:noFill/>
          </a:ln>
        </p:spPr>
      </p:pic>
      <p:pic>
        <p:nvPicPr>
          <p:cNvPr id="330" name="5" descr=""/>
          <p:cNvPicPr/>
          <p:nvPr/>
        </p:nvPicPr>
        <p:blipFill>
          <a:blip r:embed="rId4"/>
          <a:stretch/>
        </p:blipFill>
        <p:spPr>
          <a:xfrm>
            <a:off x="5105520" y="457200"/>
            <a:ext cx="3504960" cy="274320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rId5" action="ppaction://hlinksldjump"/>
          </p:cNvPr>
          <p:cNvSpPr/>
          <p:nvPr/>
        </p:nvSpPr>
        <p:spPr>
          <a:xfrm>
            <a:off x="8077320" y="2666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772400" cy="640080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2" action="ppaction://hlinksldjump"/>
          </p:cNvPr>
          <p:cNvSpPr/>
          <p:nvPr/>
        </p:nvSpPr>
        <p:spPr>
          <a:xfrm>
            <a:off x="1066680" y="304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苏东坡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1472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4200" y="5105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Dong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7120" y="6858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Ancient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白居易" descr=""/>
          <p:cNvPicPr/>
          <p:nvPr/>
        </p:nvPicPr>
        <p:blipFill>
          <a:blip r:embed="rId2"/>
          <a:stretch/>
        </p:blipFill>
        <p:spPr>
          <a:xfrm>
            <a:off x="3962520" y="1828800"/>
            <a:ext cx="2209680" cy="31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680" y="5105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i Juy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王2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28440" y="51055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ang W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郭2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43864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6040" y="50292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uo Moru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51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凤凰涅槃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2200" y="5029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n Yidu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397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死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9800" y="50292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 Q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30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大堰河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8" descr=""/>
          <p:cNvPicPr/>
          <p:nvPr/>
        </p:nvPicPr>
        <p:blipFill>
          <a:blip r:embed="rId2"/>
          <a:stretch/>
        </p:blipFill>
        <p:spPr>
          <a:xfrm>
            <a:off x="3733920" y="182880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25" name="5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2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徐1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248760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44480" y="50292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Xu Zhi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7680" y="5029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 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6858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Chinese Modern Po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92400" y="54864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Times New Roman"/>
                <a:ea typeface="宋体"/>
                <a:hlinkClick r:id="rId2" action="ppaction://hlinksldjump"/>
              </a:rPr>
              <a:t>《再别康桥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8296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致橡树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8760" y="499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ai Wang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72880" y="54864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雨巷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5" descr=""/>
          <p:cNvPicPr/>
          <p:nvPr/>
        </p:nvPicPr>
        <p:blipFill>
          <a:blip r:embed="rId3"/>
          <a:stretch/>
        </p:blipFill>
        <p:spPr>
          <a:xfrm>
            <a:off x="1219320" y="18288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135" name="1" descr=""/>
          <p:cNvPicPr/>
          <p:nvPr/>
        </p:nvPicPr>
        <p:blipFill>
          <a:blip r:embed="rId4"/>
          <a:stretch/>
        </p:blipFill>
        <p:spPr>
          <a:xfrm>
            <a:off x="6400800" y="1828800"/>
            <a:ext cx="2286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hakespeare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2057400"/>
            <a:ext cx="3264120" cy="3809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56120" y="685800"/>
            <a:ext cx="69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William Shakespe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64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205740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154 son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2600" y="4419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维纳斯与阿多尼斯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7640" y="35812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Venus and Adon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6400800" y="52578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77640" y="730080"/>
            <a:ext cx="52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Donn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57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3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7680" y="2438280"/>
            <a:ext cx="20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Fl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9280" y="25909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跳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16280" y="4495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《海上风暴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1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343320" cy="3962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83280" y="3733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torm At Se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17880" y="609480"/>
            <a:ext cx="52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John Milt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0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7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8276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失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440" y="19810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Lo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59080" y="4038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复乐园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7680" y="55627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力士参孙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3120" y="335268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aradise Reg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1680" y="472428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Samson Agonis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8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27766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37720" y="838080"/>
            <a:ext cx="59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Alexander Pop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(1688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4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9280" y="33526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批评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6280" y="50292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致阿勃斯诺特医生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35400" y="26668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论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0080" y="198108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An Essay on M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49264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5560" y="3200400"/>
            <a:ext cx="26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On Critic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920" y="426708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 Doctor Abothno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3:30:57Z</dcterms:created>
  <dc:creator>huanglan</dc:creator>
  <dc:description/>
  <dc:language>en-US</dc:language>
  <cp:lastModifiedBy>huanglan</cp:lastModifiedBy>
  <dcterms:modified xsi:type="dcterms:W3CDTF">2004-10-18T09:01:20Z</dcterms:modified>
  <cp:revision>35</cp:revision>
  <dc:subject/>
  <dc:title>PowerPoint 演示文稿</dc:title>
</cp:coreProperties>
</file>