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2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5EA-4E85-4F62-9317-B38D8EACA5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75B-20D7-49C6-801D-B5AFB531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018-3970-48AF-9695-B1DDA5B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4C4-825E-4446-A1A5-19B9B9FE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381-3BF1-421D-BD82-A7B41D94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916-B625-4916-9A7D-3ACD70CB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0FA-EF25-431F-9BD9-19036B43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5DA-DCFC-4632-8114-7127522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1E33-560E-4E47-AE9A-BFB9440F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0CF-82C6-4549-8D25-33DB2B8E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DC5-4AA6-421F-9883-FDC24C0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540-50A4-4A53-A9A2-0777ED28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EBC-E9AC-4FF6-929E-2E2A02A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9954-022C-4925-A8E1-D98CE325C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1BU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Rescuing the temple 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四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080" y="3200400"/>
            <a:ext cx="5234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is about the rescu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bu Simb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2952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213372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as the temple mo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WHATNOW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3906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3800" y="3124080"/>
            <a:ext cx="4545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temple was mo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one by st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67880" y="497196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1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600200" y="10666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Rounded MT Bold"/>
              </a:rPr>
              <a:t>The Rescue of  Abu  Simbe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209680"/>
            <a:ext cx="221004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bu_sim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43440" y="2362320"/>
            <a:ext cx="1994040" cy="2895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2133720"/>
            <a:ext cx="4800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ove stone by 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rebuild 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mark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*carry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629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whole temple was moved stone by stone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built above the water level of the new lak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tell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st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each stone was marked with a number. </a:t>
            </a:r>
            <a:r>
              <a:rPr b="1" i="1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And then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the pieces of stone were carried to the new place for the temple, 60 metres higher up the hi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BU-R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7560" y="49942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3716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334120"/>
            <a:ext cx="609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ut…into, mark…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figu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ie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rk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each ston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0014601" descr=""/>
          <p:cNvPicPr/>
          <p:nvPr/>
        </p:nvPicPr>
        <p:blipFill>
          <a:blip r:embed="rId1"/>
          <a:stretch/>
        </p:blipFill>
        <p:spPr>
          <a:xfrm>
            <a:off x="2354400" y="533520"/>
            <a:ext cx="5046480" cy="51051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505320" y="1676520"/>
            <a:ext cx="685800" cy="3047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3047760"/>
              <a:gd name="textAreaBottom" fmla="*/ 3003480 h 3047760"/>
            </a:gdLst>
            <a:ahLst/>
            <a:rect l="textAreaLeft" t="textAreaTop" r="textAreaRight" b="textAreaBottom"/>
            <a:pathLst>
              <a:path w="21600" h="95953">
                <a:moveTo>
                  <a:pt x="0" y="0"/>
                </a:moveTo>
                <a:lnTo>
                  <a:pt x="21600" y="0"/>
                </a:lnTo>
                <a:lnTo>
                  <a:pt x="21600" y="95953"/>
                </a:lnTo>
                <a:lnTo>
                  <a:pt x="0" y="95953"/>
                </a:lnTo>
                <a:close/>
              </a:path>
              <a:path fill="lightenLess" w="21600" h="95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95953">
                <a:moveTo>
                  <a:pt x="21600" y="0"/>
                </a:moveTo>
                <a:lnTo>
                  <a:pt x="21600" y="95953"/>
                </a:lnTo>
                <a:lnTo>
                  <a:pt x="20200" y="94553"/>
                </a:lnTo>
                <a:lnTo>
                  <a:pt x="20200" y="1400"/>
                </a:lnTo>
                <a:close/>
              </a:path>
              <a:path fill="darkenLess" w="21600" h="95953">
                <a:moveTo>
                  <a:pt x="21600" y="95953"/>
                </a:moveTo>
                <a:lnTo>
                  <a:pt x="0" y="95953"/>
                </a:lnTo>
                <a:lnTo>
                  <a:pt x="1400" y="94553"/>
                </a:lnTo>
                <a:lnTo>
                  <a:pt x="20200" y="94553"/>
                </a:lnTo>
                <a:close/>
              </a:path>
              <a:path fill="lighten" w="21600" h="95953">
                <a:moveTo>
                  <a:pt x="0" y="95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9455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068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57150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6248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ieces of stone w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ied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new place for the temp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u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on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gypt_back" descr=""/>
          <p:cNvPicPr/>
          <p:nvPr/>
        </p:nvPicPr>
        <p:blipFill>
          <a:blip r:embed="rId1"/>
          <a:stretch/>
        </p:blipFill>
        <p:spPr>
          <a:xfrm>
            <a:off x="3124080" y="316224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1" name="egypt_back" descr=""/>
          <p:cNvPicPr/>
          <p:nvPr/>
        </p:nvPicPr>
        <p:blipFill>
          <a:blip r:embed="rId2"/>
          <a:stretch/>
        </p:blipFill>
        <p:spPr>
          <a:xfrm>
            <a:off x="3124080" y="0"/>
            <a:ext cx="3162600" cy="3695760"/>
          </a:xfrm>
          <a:prstGeom prst="rect">
            <a:avLst/>
          </a:prstGeom>
          <a:ln w="0">
            <a:noFill/>
          </a:ln>
        </p:spPr>
      </p:pic>
      <p:pic>
        <p:nvPicPr>
          <p:cNvPr id="52" name="egypt_back" descr=""/>
          <p:cNvPicPr/>
          <p:nvPr/>
        </p:nvPicPr>
        <p:blipFill>
          <a:blip r:embed="rId3"/>
          <a:stretch/>
        </p:blipFill>
        <p:spPr>
          <a:xfrm>
            <a:off x="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3" name="egypt_back" descr=""/>
          <p:cNvPicPr/>
          <p:nvPr/>
        </p:nvPicPr>
        <p:blipFill>
          <a:blip r:embed="rId4"/>
          <a:stretch/>
        </p:blipFill>
        <p:spPr>
          <a:xfrm>
            <a:off x="0" y="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4" name="egypt_back" descr=""/>
          <p:cNvPicPr/>
          <p:nvPr/>
        </p:nvPicPr>
        <p:blipFill>
          <a:blip r:embed="rId5"/>
          <a:stretch/>
        </p:blipFill>
        <p:spPr>
          <a:xfrm>
            <a:off x="5981760" y="3162240"/>
            <a:ext cx="3162240" cy="3695760"/>
          </a:xfrm>
          <a:prstGeom prst="rect">
            <a:avLst/>
          </a:prstGeom>
          <a:ln w="0">
            <a:noFill/>
          </a:ln>
        </p:spPr>
      </p:pic>
      <p:pic>
        <p:nvPicPr>
          <p:cNvPr id="55" name="egypt_back" descr=""/>
          <p:cNvPicPr/>
          <p:nvPr/>
        </p:nvPicPr>
        <p:blipFill>
          <a:blip r:embed="rId6"/>
          <a:stretch/>
        </p:blipFill>
        <p:spPr>
          <a:xfrm>
            <a:off x="5981760" y="0"/>
            <a:ext cx="3162240" cy="369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76520" y="243828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Garamond"/>
              </a:rPr>
              <a:t>Unit 23 Rescuing the temple</a:t>
            </a:r>
            <a:endParaRPr b="1" lang="en-US" sz="80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79440" y="558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bui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way, this figure w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BU-R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 w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 whole 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BU-R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223t013" descr=""/>
          <p:cNvPicPr/>
          <p:nvPr/>
        </p:nvPicPr>
        <p:blipFill>
          <a:blip r:embed="rId1"/>
          <a:srcRect l="0" t="0" r="0" b="5554"/>
          <a:stretch/>
        </p:blipFill>
        <p:spPr>
          <a:xfrm>
            <a:off x="1600200" y="102888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724280" y="1371600"/>
            <a:ext cx="1143000" cy="4572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4572000"/>
              <a:gd name="textAreaBottom" fmla="*/ 4498200 h 4572000"/>
            </a:gdLst>
            <a:ahLst/>
            <a:rect l="textAreaLeft" t="textAreaTop" r="textAreaRight" b="textAreaBottom"/>
            <a:pathLst>
              <a:path w="21600" h="86380">
                <a:moveTo>
                  <a:pt x="0" y="0"/>
                </a:moveTo>
                <a:lnTo>
                  <a:pt x="21600" y="0"/>
                </a:lnTo>
                <a:lnTo>
                  <a:pt x="21600" y="86380"/>
                </a:lnTo>
                <a:lnTo>
                  <a:pt x="0" y="86380"/>
                </a:lnTo>
                <a:close/>
              </a:path>
              <a:path fill="lightenLess" w="21600" h="863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6380">
                <a:moveTo>
                  <a:pt x="21600" y="0"/>
                </a:moveTo>
                <a:lnTo>
                  <a:pt x="21600" y="86380"/>
                </a:lnTo>
                <a:lnTo>
                  <a:pt x="20200" y="84980"/>
                </a:lnTo>
                <a:lnTo>
                  <a:pt x="20200" y="1400"/>
                </a:lnTo>
                <a:close/>
              </a:path>
              <a:path fill="darkenLess" w="21600" h="86380">
                <a:moveTo>
                  <a:pt x="21600" y="86380"/>
                </a:moveTo>
                <a:lnTo>
                  <a:pt x="0" y="86380"/>
                </a:lnTo>
                <a:lnTo>
                  <a:pt x="1400" y="84980"/>
                </a:lnTo>
                <a:lnTo>
                  <a:pt x="20200" y="84980"/>
                </a:lnTo>
                <a:close/>
              </a:path>
              <a:path fill="lighten" w="21600" h="86380">
                <a:moveTo>
                  <a:pt x="0" y="86380"/>
                </a:moveTo>
                <a:lnTo>
                  <a:pt x="0" y="0"/>
                </a:lnTo>
                <a:lnTo>
                  <a:pt x="1400" y="1400"/>
                </a:lnTo>
                <a:lnTo>
                  <a:pt x="1400" y="8498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1480" y="5638680"/>
            <a:ext cx="598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ut into pieces, ma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0014601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4895640" cy="495324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2743200" y="1600200"/>
            <a:ext cx="1219320" cy="441972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4419720"/>
              <a:gd name="textAreaBottom" fmla="*/ 4340880 h 4419720"/>
            </a:gdLst>
            <a:ahLst/>
            <a:rect l="textAreaLeft" t="textAreaTop" r="textAreaRight" b="textAreaBottom"/>
            <a:pathLst>
              <a:path w="21600" h="78278">
                <a:moveTo>
                  <a:pt x="0" y="0"/>
                </a:moveTo>
                <a:lnTo>
                  <a:pt x="21600" y="0"/>
                </a:lnTo>
                <a:lnTo>
                  <a:pt x="21600" y="78278"/>
                </a:lnTo>
                <a:lnTo>
                  <a:pt x="0" y="78278"/>
                </a:lnTo>
                <a:close/>
              </a:path>
              <a:path fill="lightenLess" w="21600" h="782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8278">
                <a:moveTo>
                  <a:pt x="21600" y="0"/>
                </a:moveTo>
                <a:lnTo>
                  <a:pt x="21600" y="78278"/>
                </a:lnTo>
                <a:lnTo>
                  <a:pt x="20200" y="76878"/>
                </a:lnTo>
                <a:lnTo>
                  <a:pt x="20200" y="1400"/>
                </a:lnTo>
                <a:close/>
              </a:path>
              <a:path fill="darkenLess" w="21600" h="78278">
                <a:moveTo>
                  <a:pt x="21600" y="78278"/>
                </a:moveTo>
                <a:lnTo>
                  <a:pt x="0" y="78278"/>
                </a:lnTo>
                <a:lnTo>
                  <a:pt x="1400" y="76878"/>
                </a:lnTo>
                <a:lnTo>
                  <a:pt x="20200" y="76878"/>
                </a:lnTo>
                <a:close/>
              </a:path>
              <a:path fill="lighten" w="21600" h="78278">
                <a:moveTo>
                  <a:pt x="0" y="7827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87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5440" y="56070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rry to,    put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BU-R2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96080" cy="509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38280" y="5638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bu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BU-R3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505320" y="1447920"/>
            <a:ext cx="32004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1531440" y="5486400"/>
            <a:ext cx="22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 was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1930320"/>
            <a:ext cx="6781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BU-R3" descr=""/>
          <p:cNvPicPr/>
          <p:nvPr/>
        </p:nvPicPr>
        <p:blipFill>
          <a:blip r:embed="rId1"/>
          <a:stretch/>
        </p:blipFill>
        <p:spPr>
          <a:xfrm>
            <a:off x="1219320" y="885960"/>
            <a:ext cx="6673680" cy="50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809880" y="129528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Verdana"/>
              </a:rPr>
              <a:t>Abu Simbel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2374920"/>
            <a:ext cx="67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can we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3019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can either fly to Abu Sim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r take a boat from across the l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15560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2162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can we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6760" y="337824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can see the tall 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ig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14632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2720" y="350532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es. It is right to rescue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m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0666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69440" y="51354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imes New Roman"/>
              </a:rPr>
              <a:t>Para 3  Lin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e visited the temple at Ab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71600" y="1763640"/>
            <a:ext cx="6781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 did you get to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id you see the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it right to rescue the tem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1360" y="239220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ake a b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5760" y="39164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the tall stone figu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4600" y="49528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y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8380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Write a short passag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visited the temple at Abu Simbel the other d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ook a boat from across the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r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by the wa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of the new lak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 c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see the tall stone figures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possible ver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place was quiet and ver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ery beautiful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think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ight that the temple shou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 rescued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Bellows%20Gorge" descr=""/>
          <p:cNvPicPr/>
          <p:nvPr/>
        </p:nvPicPr>
        <p:blipFill>
          <a:blip r:embed="rId1"/>
          <a:stretch/>
        </p:blipFill>
        <p:spPr>
          <a:xfrm>
            <a:off x="1066680" y="936720"/>
            <a:ext cx="7162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9526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Wu%20Gorge" descr=""/>
          <p:cNvPicPr/>
          <p:nvPr/>
        </p:nvPicPr>
        <p:blipFill>
          <a:blip r:embed="rId1"/>
          <a:stretch/>
        </p:blipFill>
        <p:spPr>
          <a:xfrm>
            <a:off x="990720" y="1052640"/>
            <a:ext cx="7162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4191120"/>
            <a:ext cx="384120" cy="10555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1055520"/>
              <a:gd name="textAreaBottom" fmla="*/ 1030680 h 1055520"/>
            </a:gdLst>
            <a:ahLst/>
            <a:rect l="textAreaLeft" t="textAreaTop" r="textAreaRight" b="textAreaBottom"/>
            <a:pathLst>
              <a:path w="21600" h="59319">
                <a:moveTo>
                  <a:pt x="0" y="0"/>
                </a:moveTo>
                <a:lnTo>
                  <a:pt x="21600" y="0"/>
                </a:lnTo>
                <a:lnTo>
                  <a:pt x="21600" y="59319"/>
                </a:lnTo>
                <a:lnTo>
                  <a:pt x="0" y="59319"/>
                </a:lnTo>
                <a:close/>
              </a:path>
              <a:path fill="lightenLess" w="21600" h="593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19">
                <a:moveTo>
                  <a:pt x="21600" y="0"/>
                </a:moveTo>
                <a:lnTo>
                  <a:pt x="21600" y="59319"/>
                </a:lnTo>
                <a:lnTo>
                  <a:pt x="20200" y="57919"/>
                </a:lnTo>
                <a:lnTo>
                  <a:pt x="20200" y="1400"/>
                </a:lnTo>
                <a:close/>
              </a:path>
              <a:path fill="darkenLess" w="21600" h="59319">
                <a:moveTo>
                  <a:pt x="21600" y="59319"/>
                </a:moveTo>
                <a:lnTo>
                  <a:pt x="0" y="59319"/>
                </a:lnTo>
                <a:lnTo>
                  <a:pt x="1400" y="57919"/>
                </a:lnTo>
                <a:lnTo>
                  <a:pt x="20200" y="57919"/>
                </a:lnTo>
                <a:close/>
              </a:path>
              <a:path fill="lighten" w="21600" h="59319">
                <a:moveTo>
                  <a:pt x="0" y="59319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514600"/>
            <a:ext cx="761760" cy="27432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2743200"/>
              <a:gd name="textAreaBottom" fmla="*/ 2693880 h 2743200"/>
            </a:gdLst>
            <a:ahLst/>
            <a:rect l="textAreaLeft" t="textAreaTop" r="textAreaRight" b="textAreaBottom"/>
            <a:pathLst>
              <a:path w="21600" h="77758">
                <a:moveTo>
                  <a:pt x="0" y="0"/>
                </a:moveTo>
                <a:lnTo>
                  <a:pt x="21600" y="0"/>
                </a:lnTo>
                <a:lnTo>
                  <a:pt x="21600" y="77758"/>
                </a:lnTo>
                <a:lnTo>
                  <a:pt x="0" y="77758"/>
                </a:lnTo>
                <a:close/>
              </a:path>
              <a:path fill="lightenLess" w="21600" h="777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7758">
                <a:moveTo>
                  <a:pt x="21600" y="0"/>
                </a:moveTo>
                <a:lnTo>
                  <a:pt x="21600" y="77758"/>
                </a:lnTo>
                <a:lnTo>
                  <a:pt x="20200" y="76358"/>
                </a:lnTo>
                <a:lnTo>
                  <a:pt x="20200" y="1400"/>
                </a:lnTo>
                <a:close/>
              </a:path>
              <a:path fill="darkenLess" w="21600" h="77758">
                <a:moveTo>
                  <a:pt x="21600" y="77758"/>
                </a:moveTo>
                <a:lnTo>
                  <a:pt x="0" y="77758"/>
                </a:lnTo>
                <a:lnTo>
                  <a:pt x="1400" y="76358"/>
                </a:lnTo>
                <a:lnTo>
                  <a:pt x="20200" y="76358"/>
                </a:lnTo>
                <a:close/>
              </a:path>
              <a:path fill="lighten" w="21600" h="77758">
                <a:moveTo>
                  <a:pt x="0" y="77758"/>
                </a:moveTo>
                <a:lnTo>
                  <a:pt x="0" y="0"/>
                </a:lnTo>
                <a:lnTo>
                  <a:pt x="1400" y="1400"/>
                </a:lnTo>
                <a:lnTo>
                  <a:pt x="1400" y="763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526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Xiling%20Gorge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4419720" y="3886200"/>
            <a:ext cx="685800" cy="14479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447920"/>
              <a:gd name="textAreaBottom" fmla="*/ 1403640 h 1447920"/>
            </a:gdLst>
            <a:ahLst/>
            <a:rect l="textAreaLeft" t="textAreaTop" r="textAreaRight" b="textAreaBottom"/>
            <a:pathLst>
              <a:path w="21600" h="45591">
                <a:moveTo>
                  <a:pt x="0" y="0"/>
                </a:moveTo>
                <a:lnTo>
                  <a:pt x="21600" y="0"/>
                </a:lnTo>
                <a:lnTo>
                  <a:pt x="21600" y="45591"/>
                </a:lnTo>
                <a:lnTo>
                  <a:pt x="0" y="45591"/>
                </a:lnTo>
                <a:close/>
              </a:path>
              <a:path fill="lightenLess" w="21600" h="455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591">
                <a:moveTo>
                  <a:pt x="21600" y="0"/>
                </a:moveTo>
                <a:lnTo>
                  <a:pt x="21600" y="45591"/>
                </a:lnTo>
                <a:lnTo>
                  <a:pt x="20200" y="44191"/>
                </a:lnTo>
                <a:lnTo>
                  <a:pt x="20200" y="1400"/>
                </a:lnTo>
                <a:close/>
              </a:path>
              <a:path fill="darkenLess" w="21600" h="45591">
                <a:moveTo>
                  <a:pt x="21600" y="45591"/>
                </a:moveTo>
                <a:lnTo>
                  <a:pt x="0" y="45591"/>
                </a:lnTo>
                <a:lnTo>
                  <a:pt x="1400" y="44191"/>
                </a:lnTo>
                <a:lnTo>
                  <a:pt x="20200" y="44191"/>
                </a:lnTo>
                <a:close/>
              </a:path>
              <a:path fill="lighten" w="21600" h="45591">
                <a:moveTo>
                  <a:pt x="0" y="455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41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343400" y="3733920"/>
            <a:ext cx="1042920" cy="1752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752480"/>
              <a:gd name="textAreaBottom" fmla="*/ 1685160 h 1752480"/>
            </a:gdLst>
            <a:ahLst/>
            <a:rect l="textAreaLeft" t="textAreaTop" r="textAreaRight" b="textAreaBottom"/>
            <a:pathLst>
              <a:path w="21600" h="36291">
                <a:moveTo>
                  <a:pt x="0" y="0"/>
                </a:moveTo>
                <a:lnTo>
                  <a:pt x="21600" y="0"/>
                </a:lnTo>
                <a:lnTo>
                  <a:pt x="21600" y="36291"/>
                </a:lnTo>
                <a:lnTo>
                  <a:pt x="0" y="36291"/>
                </a:lnTo>
                <a:close/>
              </a:path>
              <a:path fill="lightenLess" w="21600" h="362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291">
                <a:moveTo>
                  <a:pt x="21600" y="0"/>
                </a:moveTo>
                <a:lnTo>
                  <a:pt x="21600" y="36291"/>
                </a:lnTo>
                <a:lnTo>
                  <a:pt x="20200" y="34891"/>
                </a:lnTo>
                <a:lnTo>
                  <a:pt x="20200" y="1400"/>
                </a:lnTo>
                <a:close/>
              </a:path>
              <a:path fill="darkenLess" w="21600" h="36291">
                <a:moveTo>
                  <a:pt x="21600" y="36291"/>
                </a:moveTo>
                <a:lnTo>
                  <a:pt x="0" y="36291"/>
                </a:lnTo>
                <a:lnTo>
                  <a:pt x="1400" y="34891"/>
                </a:lnTo>
                <a:lnTo>
                  <a:pt x="20200" y="34891"/>
                </a:lnTo>
                <a:close/>
              </a:path>
              <a:path fill="lighten" w="21600" h="36291">
                <a:moveTo>
                  <a:pt x="0" y="362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8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hreegorgesdam" descr=""/>
          <p:cNvPicPr/>
          <p:nvPr/>
        </p:nvPicPr>
        <p:blipFill>
          <a:blip r:embed="rId1"/>
          <a:stretch/>
        </p:blipFill>
        <p:spPr>
          <a:xfrm>
            <a:off x="1219320" y="801720"/>
            <a:ext cx="6858000" cy="514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57400" y="1600200"/>
          <a:ext cx="4876920" cy="44388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057400" y="882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the third longest in the world after the Amazon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74160" y="83808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floods every year, causing great loss of lives and millions of dollars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S00559_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76520" cy="609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22652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hree Gorges will be the biggest dam in the world. The dam will be about 6,860 feet wide and 611 feet high. It is obvious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4556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purpose 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60040" y="838080"/>
            <a:ext cx="47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4197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removed, which of course will cost much money, and some historical sites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69240" y="8064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100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 is finished in 2009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21520" y="1035000"/>
            <a:ext cx="460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and List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5120" y="1581120"/>
            <a:ext cx="541008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Yangtze is the longest river in China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third longe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the world aft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maz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 South Amer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the Nil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rica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S00559_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2286000" cy="1449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656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4419720" y="3505320"/>
            <a:ext cx="533160" cy="14475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447560"/>
              <a:gd name="textAreaBottom" fmla="*/ 1413000 h 1447560"/>
            </a:gdLst>
            <a:ahLst/>
            <a:rect l="textAreaLeft" t="textAreaTop" r="textAreaRight" b="textAreaBottom"/>
            <a:pathLst>
              <a:path w="21600" h="58620">
                <a:moveTo>
                  <a:pt x="0" y="0"/>
                </a:moveTo>
                <a:lnTo>
                  <a:pt x="21600" y="0"/>
                </a:lnTo>
                <a:lnTo>
                  <a:pt x="21600" y="58620"/>
                </a:lnTo>
                <a:lnTo>
                  <a:pt x="0" y="58620"/>
                </a:lnTo>
                <a:close/>
              </a:path>
              <a:path fill="lightenLess" w="21600" h="58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8620">
                <a:moveTo>
                  <a:pt x="21600" y="0"/>
                </a:moveTo>
                <a:lnTo>
                  <a:pt x="21600" y="58620"/>
                </a:lnTo>
                <a:lnTo>
                  <a:pt x="20200" y="57220"/>
                </a:lnTo>
                <a:lnTo>
                  <a:pt x="20200" y="1400"/>
                </a:lnTo>
                <a:close/>
              </a:path>
              <a:path fill="darkenLess" w="21600" h="58620">
                <a:moveTo>
                  <a:pt x="21600" y="58620"/>
                </a:moveTo>
                <a:lnTo>
                  <a:pt x="0" y="58620"/>
                </a:lnTo>
                <a:lnTo>
                  <a:pt x="1400" y="57220"/>
                </a:lnTo>
                <a:lnTo>
                  <a:pt x="20200" y="57220"/>
                </a:lnTo>
                <a:close/>
              </a:path>
              <a:path fill="lighten" w="21600" h="58620">
                <a:moveTo>
                  <a:pt x="0" y="58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572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bu_sim7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414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419720" y="3429000"/>
            <a:ext cx="533160" cy="13716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1371600"/>
              <a:gd name="textAreaBottom" fmla="*/ 1337040 h 1371600"/>
            </a:gdLst>
            <a:ahLst/>
            <a:rect l="textAreaLeft" t="textAreaTop" r="textAreaRight" b="textAreaBottom"/>
            <a:pathLst>
              <a:path w="21600" h="55545">
                <a:moveTo>
                  <a:pt x="0" y="0"/>
                </a:moveTo>
                <a:lnTo>
                  <a:pt x="21600" y="0"/>
                </a:lnTo>
                <a:lnTo>
                  <a:pt x="21600" y="55545"/>
                </a:lnTo>
                <a:lnTo>
                  <a:pt x="0" y="55545"/>
                </a:lnTo>
                <a:close/>
              </a:path>
              <a:path fill="lightenLess" w="21600" h="55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5545">
                <a:moveTo>
                  <a:pt x="21600" y="0"/>
                </a:moveTo>
                <a:lnTo>
                  <a:pt x="21600" y="55545"/>
                </a:lnTo>
                <a:lnTo>
                  <a:pt x="20200" y="54145"/>
                </a:lnTo>
                <a:lnTo>
                  <a:pt x="20200" y="1400"/>
                </a:lnTo>
                <a:close/>
              </a:path>
              <a:path fill="darkenLess" w="21600" h="55545">
                <a:moveTo>
                  <a:pt x="21600" y="55545"/>
                </a:moveTo>
                <a:lnTo>
                  <a:pt x="0" y="55545"/>
                </a:lnTo>
                <a:lnTo>
                  <a:pt x="1400" y="54145"/>
                </a:lnTo>
                <a:lnTo>
                  <a:pt x="20200" y="54145"/>
                </a:lnTo>
                <a:close/>
              </a:path>
              <a:path fill="lighten" w="21600" h="55545">
                <a:moveTo>
                  <a:pt x="0" y="55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54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693800"/>
            <a:ext cx="70866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the Yangtze Riv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od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ery year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using great loss of lives and millions of dollar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 Therefore the government decided to build the dam to control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BS00559_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43828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672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905120"/>
            <a:ext cx="60195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hree Gorges will be the biggest dam in the world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am will be about 6,860 feet wide and 611 feet high. It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v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such a big project will do much goo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0240" y="10350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BS00559_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685800" cy="668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36640" y="1523880"/>
            <a:ext cx="58834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important is flood control, and anothe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urpo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am is to produce electricity for Eastern and Cent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S00559_" descr=""/>
          <p:cNvPicPr/>
          <p:nvPr/>
        </p:nvPicPr>
        <p:blipFill>
          <a:blip r:embed="rId1"/>
          <a:stretch/>
        </p:blipFill>
        <p:spPr>
          <a:xfrm>
            <a:off x="5105520" y="5105520"/>
            <a:ext cx="1904760" cy="76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30240" y="8380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09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30360" y="1447920"/>
            <a:ext cx="68515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, some scientists don't agree to the project. They say that many people will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urse will cost much money, and som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rical sit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5320" y="685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BS00559_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44792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84800" y="1731960"/>
            <a:ext cx="558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Three Gorges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ld be consider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e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is finished in 2009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 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h wond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worl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00559_" descr=""/>
          <p:cNvPicPr/>
          <p:nvPr/>
        </p:nvPicPr>
        <p:blipFill>
          <a:blip r:embed="rId1"/>
          <a:stretch/>
        </p:blipFill>
        <p:spPr>
          <a:xfrm>
            <a:off x="5181480" y="4691160"/>
            <a:ext cx="190512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1640" y="95868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914400"/>
            <a:ext cx="84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057400" y="1523880"/>
          <a:ext cx="4876920" cy="4572000"/>
        </p:xfrm>
        <a:graphic>
          <a:graphicData uri="http://schemas.openxmlformats.org/drawingml/2006/table">
            <a:tbl>
              <a:tblPr/>
              <a:tblGrid>
                <a:gridCol w="2297160"/>
                <a:gridCol w="2579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4572360" y="21337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040" y="281952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Yangtz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720" y="35053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41148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6760" y="47242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320" y="548640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76520" y="1665360"/>
          <a:ext cx="6019560" cy="4430520"/>
        </p:xfrm>
        <a:graphic>
          <a:graphicData uri="http://schemas.openxmlformats.org/drawingml/2006/table">
            <a:tbl>
              <a:tblPr/>
              <a:tblGrid>
                <a:gridCol w="2041560"/>
                <a:gridCol w="1920600"/>
                <a:gridCol w="2057400"/>
              </a:tblGrid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xia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swan D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 it bi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ig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angt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lo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lectric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moval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5889240" y="25336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2400" y="311292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N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8000" y="3798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440856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6080" y="50180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547524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Rem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3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Times New Roman"/>
              </a:rPr>
              <a:t>Fill in the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3520" y="25909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are some similarities between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begin with, both of them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very big. The Aswan High Dam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biggest at present, and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ree Gorges Dam will b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iggest in 200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240" y="2285640"/>
            <a:ext cx="662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reasons for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 two dams are the same, that is,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prevent flood and produce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bu_sim8" descr=""/>
          <p:cNvPicPr/>
          <p:nvPr/>
        </p:nvPicPr>
        <p:blipFill>
          <a:blip r:embed="rId1"/>
          <a:stretch/>
        </p:blipFill>
        <p:spPr>
          <a:xfrm>
            <a:off x="1447920" y="97164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nally, the problems of building the two dams are almost the same. Both of the two projects need to move people and some historical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52120" y="274320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here are also some differences between the two d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52480" y="2438280"/>
            <a:ext cx="5639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First, the Aswan High Dam lies on the River Nile, while the Three Gorges Dam is on the Yangtze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is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Differenc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Secondly, the Aswan High Dam was finished in 1970, while the Three Gorges Dam will be completed in 200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3880"/>
            <a:ext cx="845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286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P 92,  E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S00554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1904760" cy="1717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8160" y="11160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3048120"/>
            <a:ext cx="6934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rite a passag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pare the Three Gor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am with Aswan High D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BU-R2" descr=""/>
          <p:cNvPicPr/>
          <p:nvPr/>
        </p:nvPicPr>
        <p:blipFill>
          <a:blip r:embed="rId1"/>
          <a:stretch/>
        </p:blipFill>
        <p:spPr>
          <a:xfrm>
            <a:off x="1143000" y="75096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ilm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1523880"/>
            <a:ext cx="69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Times New Roman"/>
              </a:rPr>
              <a:t>Answer the ques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477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04:02Z</dcterms:created>
  <dc:creator>GuoMei</dc:creator>
  <dc:description/>
  <dc:language>en-US</dc:language>
  <cp:lastModifiedBy>Zhang Lingdi</cp:lastModifiedBy>
  <dcterms:modified xsi:type="dcterms:W3CDTF">2003-06-10T09:25:04Z</dcterms:modified>
  <cp:revision>501</cp:revision>
  <dc:subject/>
  <dc:title>PowerPoint 演示文稿</dc:title>
</cp:coreProperties>
</file>