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B48-8F1B-458C-BE20-DEDFC9C6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4C2-5552-4A33-82AC-E1EBA96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3C2-7AEA-4968-8F92-BCAE338A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AA0-823E-4652-9556-C4605B2A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F82-19B8-48A2-9410-7B9F9362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A45-0462-4EC5-8E8B-1FCA8A0D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C83-2061-4EB4-B374-5135225D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138-D760-46E4-BBCA-92A61943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FFE-3B1E-41A3-9ADF-2EAEEA54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0CC-8F05-49EE-B81C-1E77A19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F03-C2E6-4C7A-8FF5-25026A1E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BB7-49CB-410E-B1EB-55C4040F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23BE-08F0-4A02-8EDF-2B3B4E60F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ntroductoin.ppt#Slide 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4520" y="1197000"/>
            <a:ext cx="274104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过去分词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定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表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状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补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练习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6948360" y="530064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1468" y="7493"/>
                </a:moveTo>
                <a:lnTo>
                  <a:pt x="14976" y="7493"/>
                </a:lnTo>
                <a:lnTo>
                  <a:pt x="14976" y="12828"/>
                </a:lnTo>
                <a:cubicBezTo>
                  <a:pt x="14976" y="13751"/>
                  <a:pt x="15777" y="14482"/>
                  <a:pt x="16812" y="14482"/>
                </a:cubicBezTo>
                <a:lnTo>
                  <a:pt x="18475" y="14482"/>
                </a:lnTo>
                <a:cubicBezTo>
                  <a:pt x="19510" y="14482"/>
                  <a:pt x="20311" y="13751"/>
                  <a:pt x="20311" y="12828"/>
                </a:cubicBezTo>
                <a:lnTo>
                  <a:pt x="20311" y="7493"/>
                </a:lnTo>
                <a:lnTo>
                  <a:pt x="18475" y="7493"/>
                </a:lnTo>
                <a:lnTo>
                  <a:pt x="21982" y="3985"/>
                </a:lnTo>
                <a:lnTo>
                  <a:pt x="25655" y="7493"/>
                </a:lnTo>
                <a:lnTo>
                  <a:pt x="23819" y="7493"/>
                </a:lnTo>
                <a:lnTo>
                  <a:pt x="23819" y="12828"/>
                </a:lnTo>
                <a:cubicBezTo>
                  <a:pt x="23819" y="15596"/>
                  <a:pt x="21242" y="18155"/>
                  <a:pt x="18475" y="18155"/>
                </a:cubicBezTo>
                <a:lnTo>
                  <a:pt x="16812" y="18155"/>
                </a:lnTo>
                <a:cubicBezTo>
                  <a:pt x="14045" y="18155"/>
                  <a:pt x="11468" y="15596"/>
                  <a:pt x="11468" y="12828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1:40:42Z</dcterms:created>
  <dc:creator>李徐琴</dc:creator>
  <dc:description/>
  <dc:language>en-US</dc:language>
  <cp:lastModifiedBy>赵晨盼</cp:lastModifiedBy>
  <dcterms:modified xsi:type="dcterms:W3CDTF">2002-11-03T13:20:24Z</dcterms:modified>
  <cp:revision>5</cp:revision>
  <dc:subject/>
  <dc:title>幻灯片 1</dc:title>
</cp:coreProperties>
</file>