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98F-41A7-4577-A99C-15D43FB9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EBB-3402-43AE-8299-EF2C63B0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553-5FCB-4755-A46A-FF3B09B4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FB5-A5F8-4E54-9DF8-5FF85D22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51AD-C9B6-45ED-B33E-F70214AB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253E-C846-4041-97B5-B927B0B5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3AC6-4886-4A35-9761-17F80411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2B5F-9359-4D4A-9E80-50AE462B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7E96-25D2-4EDF-A7C8-7EE58D12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5E99-78F2-447E-9B1C-AE2BDAE7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6ACA-FDDB-40D9-8237-7A0ADA36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78E-A382-40DD-BF75-CF55AB1E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6DED-406E-4730-A082-4BD64259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378E-E9B7-4CCD-872A-70504920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64C9-F35A-437B-8AF5-EBCCAD91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8141-B94D-4846-86F1-4BAC288F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9E8D-5E29-4729-89A8-5F4DF651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DDA-1DB1-4AE4-9279-763AB8CD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649-BC1C-4DDB-9D9F-A96BB656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CD7-6CC6-46A1-BEC9-941848A0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22F-4D25-45F6-8CFA-C392B7B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B5A-7B89-49BA-8956-D828C55E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623-9AC9-452B-8D85-01E5C282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B19-094A-4121-8DA6-E057D843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66AD-494E-4482-86CF-045555C60D42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E54D-6B26-43E0-B891-3F6AE2CC2ED4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24000" y="691920"/>
            <a:ext cx="5329440" cy="7794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三、过去分词作状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1844640"/>
            <a:ext cx="7148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een from the mountain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our school looks beautiful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Jones and Smith came,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llowed by their wiv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92080" y="260280"/>
            <a:ext cx="42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过去分词作状语的用法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说明发生的背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205000"/>
            <a:ext cx="838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Built in 1192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e bridge is over 700 years ol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Mr. Cooper,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deeply mov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anked him again and agai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8120" y="907920"/>
            <a:ext cx="91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表示原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492280"/>
            <a:ext cx="790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Born into a farmer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family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he had only two years of schooling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88320" y="1060560"/>
            <a:ext cx="9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表示时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2781360"/>
            <a:ext cx="840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Seen from the hill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e town looks beautifu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32680" y="844560"/>
            <a:ext cx="9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表示条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060640"/>
            <a:ext cx="750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Given more attention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e cabbages could have grown bette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2492280"/>
            <a:ext cx="81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分词作状语时，它的逻辑主语必须与句子主语</a:t>
            </a:r>
            <a:r>
              <a:rPr b="1" lang="zh-CN" sz="4800" spc="-1" strike="noStrike">
                <a:solidFill>
                  <a:srgbClr val="99ff33"/>
                </a:solidFill>
                <a:latin typeface="Arial"/>
              </a:rPr>
              <a:t>一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1"/>
          </p:cNvPr>
          <p:cNvSpPr/>
          <p:nvPr/>
        </p:nvSpPr>
        <p:spPr>
          <a:xfrm>
            <a:off x="6948360" y="5300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40:40Z</dcterms:created>
  <dc:creator>李徐琴</dc:creator>
  <dc:description/>
  <dc:language>en-US</dc:language>
  <cp:lastModifiedBy>赵晨盼</cp:lastModifiedBy>
  <dcterms:modified xsi:type="dcterms:W3CDTF">2002-11-03T13:19:41Z</dcterms:modified>
  <cp:revision>5</cp:revision>
  <dc:subject/>
  <dc:title>三、过去分词作状语</dc:title>
</cp:coreProperties>
</file>