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EB3-18C0-4055-A8BB-15C41749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866-8786-41B2-A628-F4BE463E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1D8-02A2-44AC-AAC2-5963EAF0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B8E-1538-446F-B245-64333549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AC0C-8610-47F2-8BCC-4342E40E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6CE5-83E0-4B35-B106-EAC47B34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A034-7FAE-4E6A-A5C7-ABF0E98F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4FC8-CDD4-4ADB-8529-6177309B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A85C-A953-4D21-A552-65CBAE9B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3F05-2208-4514-A14F-CC47239E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FCC9-2229-4274-9076-0471E743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69A4-DFDB-41B5-8B72-CFD601DF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F194-581E-423D-A3CE-079EF806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3E87-60F0-4616-AC71-1DCEEA2D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85D2-51BD-475B-8FD4-144D999C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24F0-05CF-4CEB-8272-E10ECDBA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A387-7F6A-4D10-81A3-57AC7E16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845C-5B18-4D26-BB81-DB438321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6EF-62A0-4D09-BD92-2E12F066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06D-0392-4F01-B20D-C5BEB8A6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3D9-F146-4A22-984F-690437A4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091-80B2-413F-B1AE-BD0508B5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5D9-DB47-4FA2-8A12-E5DC7C98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DF9-A9E9-45F4-9789-21722BD5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27E5-C371-48B7-AA54-5C3A972214E8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53D8-D9AA-406E-BBFD-37885959A25B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7400" y="762120"/>
            <a:ext cx="579132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一、过去分词短语作定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42280" y="2514600"/>
            <a:ext cx="4874760" cy="2775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过去分词及过去分词短语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定语时，相当于一个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定语从句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且分词所表示的动作与其所修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的名词构成逻辑上的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动宾关系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5640" y="2276640"/>
            <a:ext cx="75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Tell the children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playing ther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not to make so much noise. (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who are playing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55640" y="1700280"/>
            <a:ext cx="684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The house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standing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at the corner of the street was built in 1955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(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that stands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/>
          </p:cNvPr>
          <p:cNvSpPr/>
          <p:nvPr/>
        </p:nvSpPr>
        <p:spPr>
          <a:xfrm>
            <a:off x="6948360" y="530064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1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2492280"/>
            <a:ext cx="779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re is a novel 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written by a 19th century writer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339640" y="980640"/>
            <a:ext cx="460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tolen money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 written repo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roken gl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ired driv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locked roa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39840" y="1930320"/>
            <a:ext cx="6954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risen su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allen lea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returned stud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escaped pris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newly arrived visito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66800" y="3505320"/>
            <a:ext cx="5118480" cy="2775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过去分词作定语时，常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位于其所修饰的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名词前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；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过去分词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短语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作定语时，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常位于其所修饰的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名词后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0240" y="304920"/>
            <a:ext cx="6988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ou should improve your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poken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English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is a teacher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respected b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all his students</a:t>
            </a:r>
            <a:r>
              <a:rPr b="1" lang="zh-CN" sz="4400" spc="-1" strike="noStrike">
                <a:solidFill>
                  <a:srgbClr val="66ff33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1520" y="-17496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注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99880" y="2666880"/>
            <a:ext cx="4658040" cy="2775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不及物动词的过去分词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定语，且与其所修饰的名词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成逻辑上的动宾关系时，必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在该动词后使用必要的介词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3120" y="380880"/>
            <a:ext cx="695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is the student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laughed at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y all people just now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87280" y="981000"/>
            <a:ext cx="7580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过去分词短语作定语时，表示的动作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、在谓语表示的动作之前发生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即已完成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)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、或没有一定的时间性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71640" y="1125360"/>
            <a:ext cx="7508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A letter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posted today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will probably reach him the day after tomorrow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I hate to see letters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written in pencil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956720" y="260280"/>
            <a:ext cx="7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比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2060640"/>
            <a:ext cx="736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现在分词作定语时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表示正在进行的动作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表示经常性的动作或现在的状态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37:41Z</dcterms:created>
  <dc:creator>李徐琴</dc:creator>
  <dc:description/>
  <dc:language>en-US</dc:language>
  <cp:lastModifiedBy>赵晨盼</cp:lastModifiedBy>
  <dcterms:modified xsi:type="dcterms:W3CDTF">2002-11-03T13:18:19Z</dcterms:modified>
  <cp:revision>2</cp:revision>
  <dc:subject/>
  <dc:title>幻灯片 1</dc:title>
</cp:coreProperties>
</file>