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7354-D758-4FCF-8A86-682625DF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383-9580-4B71-8A11-4531C500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AAF-A58A-4187-9429-88C9B6E4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0B7-650E-4968-A81E-28AFAC4F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B3B4-E8BE-4B3C-B73C-1BEA5F29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279D-9707-4E2F-8920-8ED35CD8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F8AE-0E29-4382-B369-AFC95DE4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5AE3-2A44-4839-9C8A-D0F418F2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9735-918F-4EF3-A2A4-995250E1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3CD5-6E9F-490C-96BD-43DF18F1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32FD-28C8-490A-82D2-3A7FCA93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69B-D99D-4644-9F64-C56AA832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D84A-56B0-4111-87DE-6A74A173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2B63-F03C-4012-9FD1-CE6CDD7F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6E2D-30DE-4C91-95E4-FE81F5BF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964F-C5D9-4F32-B77F-F3637249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C9BA-354C-46FE-8B5D-3C93E276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AEE-1567-4847-BF1F-2EF37FA2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7D6-9BB0-4002-B004-58CC0F21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E87-CFD1-4CD7-82DD-F8BDAAD1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C4B-A9CF-4202-A0D1-DBA21171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76F-D476-4821-B42A-EE78327A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E3D-3E8F-4860-B340-F4152C06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354-ADBB-4FAC-93D4-4216B518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565C-388C-4143-B27B-B05D0CBD48E5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70DE-13B4-4ECF-BA31-6B57EBA10509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3880" y="685800"/>
            <a:ext cx="611208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四、过去分词作宾语补足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1960" y="2060640"/>
            <a:ext cx="6738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常见的句式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．使役动词或感官动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(have, make, see, hear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watch,notice, fee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＋宾语＋过去分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0512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Yesterday 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my bicyc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repair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The teacher spoke so slowl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 that he could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mak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im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understoo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7400" y="2133720"/>
            <a:ext cx="8253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On my way back home, 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ear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y nam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all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.Yesterday sh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r walle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tol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when she was do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opping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14720" y="380880"/>
            <a:ext cx="657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keep, leave, get, fin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＋宾语＋过去分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00" y="2666880"/>
            <a:ext cx="8547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If I get further information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ll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keep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nform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When I came into the classroom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foun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lear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914400"/>
            <a:ext cx="8169120" cy="76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介词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＋宾语＋过去分词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9360" y="2514600"/>
            <a:ext cx="7473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The child was cry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with the glass broken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With all the work finish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y hurried back home fo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unc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"/>
          </p:cNvPr>
          <p:cNvSpPr/>
          <p:nvPr/>
        </p:nvSpPr>
        <p:spPr>
          <a:xfrm>
            <a:off x="7164360" y="558972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41:59Z</dcterms:created>
  <dc:creator>李徐琴</dc:creator>
  <dc:description/>
  <dc:language>en-US</dc:language>
  <cp:lastModifiedBy>赵晨盼</cp:lastModifiedBy>
  <dcterms:modified xsi:type="dcterms:W3CDTF">2002-11-03T13:18:39Z</dcterms:modified>
  <cp:revision>2</cp:revision>
  <dc:subject/>
  <dc:title>幻灯片 1</dc:title>
</cp:coreProperties>
</file>