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EBF-0C9A-4D50-B329-EEF3FF54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9DB-8CDE-49BD-81E4-A2B3E49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AD6-D7EB-406F-BF5D-0EC99CAE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A08-CA91-4DB3-A3DB-59B6BDF5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A6B8-BB38-421B-BF26-3519E216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8835-C810-40ED-AD11-C24F6D27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1B2A-67F2-4F57-B36B-F1EC2F3A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594-FE67-496C-9091-56DA2EEF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49D1-4BE7-492C-9278-F34A5FE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9BD7-F9A5-47AA-96FB-979FEDDB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C73E-711A-4ADB-9260-159E60C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E63-0632-42F3-B282-1AD89E81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8F4-D029-4408-A79C-D0B6B541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276-1840-45E0-B46F-F625B6A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716-0D13-49A5-A96E-CDB7EF4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AF0A-34C3-464F-87DF-8CA3DB40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D5B-C347-4ED7-99ED-AE741810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5FD-0CC4-4B41-9997-79BC9CFF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827-FEA5-40EF-9518-773EC4CF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B06-72DC-4F5C-B630-3CA4AA1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A97-99C9-4335-BFFB-BE0B2444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D3F-A69D-4680-A495-4576158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8D6-E4E8-4F7C-8FAD-E3EE039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AC3-FE8A-4A31-B868-8D4FB8C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B2BF-BD5A-47B9-8CF7-47CAC3D78189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E3DE-504D-4DB8-9EE4-4EE4D352844C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620640"/>
            <a:ext cx="48927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二、过去分词作表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18160"/>
            <a:ext cx="8351640" cy="143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表语时，分词所表示的动作与句子的主语构成逻辑上的动宾关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628640"/>
            <a:ext cx="84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what he sai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the meeting yesterday 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e said at the mee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esterday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206064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个分词是否成为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形容词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的一个标志就是看它是否可以和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very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连用，来表示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很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、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非常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这样的概念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1120" y="1530360"/>
            <a:ext cx="69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表语时，表示主语所处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状态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而被动结构表示所承受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动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2708280"/>
            <a:ext cx="80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ere surpris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This lak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is badly pollut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by a paper mi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197000"/>
            <a:ext cx="2232360" cy="792000"/>
          </a:xfrm>
          <a:prstGeom prst="wedgeRectCallout">
            <a:avLst>
              <a:gd name="adj1" fmla="val -40754"/>
              <a:gd name="adj2" fmla="val 147796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表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229360"/>
            <a:ext cx="3097440" cy="936360"/>
          </a:xfrm>
          <a:prstGeom prst="wedgeRectCallout">
            <a:avLst>
              <a:gd name="adj1" fmla="val -24986"/>
              <a:gd name="adj2" fmla="val -159490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被动结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97480" y="2276640"/>
            <a:ext cx="753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r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u Xun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 buri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Everything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settl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were frighten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felt astonish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43480" y="533520"/>
            <a:ext cx="5658120" cy="210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现在分词及其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表语时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词所表示的动作与句子的主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构成逻辑上的主谓关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160" y="3352680"/>
            <a:ext cx="860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ing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d we w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 excit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exciting and 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 al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77724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is a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The students are confused by the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tudent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7020000" y="5516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9:06Z</dcterms:created>
  <dc:creator>李徐琴</dc:creator>
  <dc:description/>
  <dc:language>en-US</dc:language>
  <cp:lastModifiedBy>赵晨盼</cp:lastModifiedBy>
  <dcterms:modified xsi:type="dcterms:W3CDTF">2002-11-03T13:18:59Z</dcterms:modified>
  <cp:revision>2</cp:revision>
  <dc:subject/>
  <dc:title>幻灯片 1</dc:title>
</cp:coreProperties>
</file>