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18E6-733E-4C05-BDD8-F91CE2889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71E9-1EDA-45E2-909D-FAA6B5CC9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4895-6AF3-41A7-A69E-B05C291BD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9614-9E7A-489D-BF90-37C6A6E2A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BA76F-402F-4E90-9D13-E6BB1FAB8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5DEB3-31DA-4624-B252-113A8D207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0E3BD-562B-46A2-93F2-FBAC2AC2C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D8F49-1F2F-454B-BE80-921A5C267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26D26-0ECB-4401-9C57-1591E4B84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37DC5-CFC5-4D5D-9981-F9546F4F4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41B59-4865-43A1-92BF-A2FBD844D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F24A-2AB0-45B5-A352-ED56064AB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B3327-21B3-4283-8BF4-CE77602FD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62DE7-E047-49F8-9DD6-1A04F2319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DD208-2A51-472C-ADA5-2094896A7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2EC3D-4A94-4FC8-B766-97136B21A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B44AB-286D-4B1C-BA0C-2F9461606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7290-10D1-4342-866E-137055016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6C50-06E5-4CF0-982F-AACC9A614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3F6E-2CD2-4E7D-94F4-3791271E9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C41A-2EF6-494E-A360-40F04D235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2DE1-4DE8-408E-92E1-15C6CBC85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F6C0-F680-4848-9873-527748B0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9FB3-BCD2-45B2-9875-B1DE2853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A6B74-9BFD-4552-AE02-8BFBB0AA9770}" type="slidenum">
              <a:rPr b="0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24328-7390-4B72-B3AC-32844C3B9C7D}" type="slidenum">
              <a:rPr b="0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ed.ppt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80880" y="1981080"/>
            <a:ext cx="84582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The computer center,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＿＿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last year, is very popular among the students in this school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open      B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open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having opened 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opene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32080" y="349200"/>
            <a:ext cx="710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computer center, </a:t>
            </a:r>
            <a:r>
              <a:rPr b="1" lang="en-US" sz="3600" spc="-1" strike="noStrike">
                <a:solidFill>
                  <a:srgbClr val="66ff33"/>
                </a:solidFill>
                <a:latin typeface="Times New Roman"/>
              </a:rPr>
              <a:t>which was opened last year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00000" y="6093000"/>
            <a:ext cx="266724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33520" y="855720"/>
            <a:ext cx="75675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10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The problem just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＿＿＿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is an important one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A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to be referred to   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B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referred to   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C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referring to   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D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referred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4360" y="4581360"/>
            <a:ext cx="467964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762120" y="779400"/>
            <a:ext cx="83818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1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The story was so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＿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that all of us were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＿＿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to tears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A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moving; moving  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B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moved; moved  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C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moved; moving  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D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moving; moved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00000" y="6021360"/>
            <a:ext cx="597708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1236600"/>
            <a:ext cx="8893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12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When I entered the theatre, I saw him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＿＿＿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in the first row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A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sit down     B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sat    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C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seated        D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seating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0920" y="4941720"/>
            <a:ext cx="331308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131292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13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I found my daughter quite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＿＿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in drawing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A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interested   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B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interest   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C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interesting  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D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to interest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3500280"/>
            <a:ext cx="439236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84360" y="765000"/>
            <a:ext cx="75801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14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He had his leg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＿＿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in the football match yesterday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A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to break   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B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broken    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C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break      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D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breaking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00000" y="4437000"/>
            <a:ext cx="331164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24000" y="549360"/>
            <a:ext cx="8604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1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If you have a book in front of  your face, you can feel the air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＿＿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against your face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A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moving       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B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moved    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C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be moved     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D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to mov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9640" y="4221000"/>
            <a:ext cx="331164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719280" y="1541520"/>
            <a:ext cx="83019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16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With the job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＿＿＿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,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they went to the cinema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A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doing       B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do         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C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to do        D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done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59280" y="4508640"/>
            <a:ext cx="266688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95280" y="404640"/>
            <a:ext cx="82738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17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With the boy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＿＿＿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the way, the soldiers managed to walk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through the forest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A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to lead        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B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led     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C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leading        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D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to be leadi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4360" y="5589720"/>
            <a:ext cx="338292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24000" y="620640"/>
            <a:ext cx="83754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18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Before he came to London, he had never heard a single English word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＿＿＿．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A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speaking     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B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speak     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C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spoken        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D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to speak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11280" y="5805360"/>
            <a:ext cx="331308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89080" y="549360"/>
            <a:ext cx="88549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19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The program was so exciting that the children kept their eyes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＿＿＿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on the screen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A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fixed             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B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to fix     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C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to be fixed     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D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fixi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9640" y="4221000"/>
            <a:ext cx="266724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57040" y="2076480"/>
            <a:ext cx="88146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The first textbooks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＿＿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for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teaching English as a foreign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language came out in the 16th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century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being written   B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to be writt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being writing   D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writt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7440" y="762120"/>
            <a:ext cx="86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textbooks </a:t>
            </a:r>
            <a:r>
              <a:rPr b="1" lang="en-US" sz="3600" spc="-1" strike="noStrike">
                <a:solidFill>
                  <a:srgbClr val="66ff33"/>
                </a:solidFill>
                <a:latin typeface="Times New Roman"/>
              </a:rPr>
              <a:t>which</a:t>
            </a:r>
            <a:r>
              <a:rPr b="1" lang="zh-CN" sz="3600" spc="-1" strike="noStrike">
                <a:solidFill>
                  <a:srgbClr val="66ff33"/>
                </a:solidFill>
                <a:latin typeface="Times New Roman"/>
              </a:rPr>
              <a:t>／</a:t>
            </a:r>
            <a:r>
              <a:rPr b="1" lang="en-US" sz="3600" spc="-1" strike="noStrike">
                <a:solidFill>
                  <a:srgbClr val="66ff33"/>
                </a:solidFill>
                <a:latin typeface="Times New Roman"/>
              </a:rPr>
              <a:t>that were written…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05520" y="6172200"/>
            <a:ext cx="266688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04920" y="855720"/>
            <a:ext cx="88390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20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The captain placed the flag over the boy, leaving only his face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＿＿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.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A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uncover     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B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uncovering     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C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to be uncovered     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D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uncovered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6093000"/>
            <a:ext cx="460836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36440" y="982800"/>
            <a:ext cx="83232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2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She was very glad to see her child well ____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A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take care of   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B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taken care of   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C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to take care of   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D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taking care of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0920" y="4653000"/>
            <a:ext cx="547344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>
            <a:hlinkClick r:id="rId1"/>
          </p:cNvPr>
          <p:cNvSpPr/>
          <p:nvPr/>
        </p:nvSpPr>
        <p:spPr>
          <a:xfrm>
            <a:off x="6948360" y="5300640"/>
            <a:ext cx="1081080" cy="538200"/>
          </a:xfrm>
          <a:custGeom>
            <a:avLst/>
            <a:gdLst>
              <a:gd name="textAreaLeft" fmla="*/ 34560 w 1081080"/>
              <a:gd name="textAreaRight" fmla="*/ 1046520 w 108108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43373" h="21600">
                <a:moveTo>
                  <a:pt x="0" y="0"/>
                </a:moveTo>
                <a:lnTo>
                  <a:pt x="43373" y="0"/>
                </a:lnTo>
                <a:lnTo>
                  <a:pt x="43373" y="21600"/>
                </a:lnTo>
                <a:lnTo>
                  <a:pt x="0" y="21600"/>
                </a:lnTo>
                <a:close/>
              </a:path>
              <a:path fill="lightenLess" w="43373" h="21600">
                <a:moveTo>
                  <a:pt x="0" y="0"/>
                </a:moveTo>
                <a:lnTo>
                  <a:pt x="43373" y="0"/>
                </a:lnTo>
                <a:lnTo>
                  <a:pt x="41973" y="1400"/>
                </a:lnTo>
                <a:lnTo>
                  <a:pt x="1400" y="1400"/>
                </a:lnTo>
                <a:close/>
              </a:path>
              <a:path fill="darken" w="43373" h="21600">
                <a:moveTo>
                  <a:pt x="43373" y="0"/>
                </a:moveTo>
                <a:lnTo>
                  <a:pt x="43373" y="21600"/>
                </a:lnTo>
                <a:lnTo>
                  <a:pt x="41973" y="20200"/>
                </a:lnTo>
                <a:lnTo>
                  <a:pt x="41973" y="1400"/>
                </a:lnTo>
                <a:close/>
              </a:path>
              <a:path fill="darkenLess" w="43373" h="21600">
                <a:moveTo>
                  <a:pt x="43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73" y="20200"/>
                </a:lnTo>
                <a:close/>
              </a:path>
              <a:path fill="lighten" w="43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73" h="21600">
                <a:moveTo>
                  <a:pt x="14680" y="7493"/>
                </a:moveTo>
                <a:lnTo>
                  <a:pt x="18188" y="7493"/>
                </a:lnTo>
                <a:lnTo>
                  <a:pt x="18188" y="12828"/>
                </a:lnTo>
                <a:cubicBezTo>
                  <a:pt x="18188" y="13751"/>
                  <a:pt x="18988" y="14482"/>
                  <a:pt x="20024" y="14482"/>
                </a:cubicBezTo>
                <a:lnTo>
                  <a:pt x="21687" y="14482"/>
                </a:lnTo>
                <a:cubicBezTo>
                  <a:pt x="22722" y="14482"/>
                  <a:pt x="23523" y="13751"/>
                  <a:pt x="23523" y="12828"/>
                </a:cubicBezTo>
                <a:lnTo>
                  <a:pt x="23523" y="7493"/>
                </a:lnTo>
                <a:lnTo>
                  <a:pt x="21687" y="7493"/>
                </a:lnTo>
                <a:lnTo>
                  <a:pt x="25194" y="3985"/>
                </a:lnTo>
                <a:lnTo>
                  <a:pt x="28867" y="7493"/>
                </a:lnTo>
                <a:lnTo>
                  <a:pt x="27031" y="7493"/>
                </a:lnTo>
                <a:lnTo>
                  <a:pt x="27031" y="12828"/>
                </a:lnTo>
                <a:cubicBezTo>
                  <a:pt x="27031" y="15596"/>
                  <a:pt x="24454" y="18155"/>
                  <a:pt x="21687" y="18155"/>
                </a:cubicBezTo>
                <a:lnTo>
                  <a:pt x="20024" y="18155"/>
                </a:lnTo>
                <a:cubicBezTo>
                  <a:pt x="17256" y="18155"/>
                  <a:pt x="14680" y="15596"/>
                  <a:pt x="14680" y="12828"/>
                </a:cubicBez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58520" y="1828800"/>
            <a:ext cx="76449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The Olympic Games,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＿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776BC, did not include wom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players until 1912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first play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to be first played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first playe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to be first play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22200" y="457200"/>
            <a:ext cx="675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Olympic Games, </a:t>
            </a:r>
            <a:r>
              <a:rPr b="1" lang="en-US" sz="3600" spc="-1" strike="noStrike">
                <a:solidFill>
                  <a:srgbClr val="66ff33"/>
                </a:solidFill>
                <a:latin typeface="Times New Roman"/>
              </a:rPr>
              <a:t>which wer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Times New Roman"/>
              </a:rPr>
              <a:t>first played in 776BC,…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900000" y="5866920"/>
            <a:ext cx="3672000" cy="972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02280" y="3213000"/>
            <a:ext cx="80456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Cleaning women in big citie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usually get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＿＿＿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by the hour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pay       B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paying       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paid       D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to p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75440" y="609480"/>
            <a:ext cx="3472560" cy="22885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过去分词及过去分词短语作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表语时，分词所表示的动作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与句子的主语构成逻辑上的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宋体"/>
              </a:rPr>
              <a:t>动宾关系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4360" y="6021360"/>
            <a:ext cx="266688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83480" y="2286000"/>
            <a:ext cx="82155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As we joined the big crowd, I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got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＿＿＿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from my friends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separated       B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spared       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lost                  D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misse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4360" y="4365720"/>
            <a:ext cx="316692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56120" y="2209680"/>
            <a:ext cx="85442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The speaker raised his voice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but still couldn’t make himself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＿．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hear          B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to hear    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hearing     D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hear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51280" y="4941720"/>
            <a:ext cx="266688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57200" y="779400"/>
            <a:ext cx="8218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7.He told me about the things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＿＿＿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at the meeting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A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to discuss   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B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being discussed   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C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discussed   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D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be discussed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9640" y="5229360"/>
            <a:ext cx="446400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95280" y="765000"/>
            <a:ext cx="83678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8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A metal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＿＿＿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uranium gives off a kind of radiation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A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calling       B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called 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C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is called   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D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which called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64000" y="3716280"/>
            <a:ext cx="266724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1197000"/>
            <a:ext cx="87519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9</a:t>
            </a: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The water in this glass is too hot</a:t>
            </a: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I prefer some cold </a:t>
            </a: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＿＿＿ </a:t>
            </a: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water</a:t>
            </a: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．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A</a:t>
            </a: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to boil   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B</a:t>
            </a: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having boiled   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C</a:t>
            </a: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boiled    D</a:t>
            </a: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boiling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5300640"/>
            <a:ext cx="266688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2T01:33:00Z</dcterms:created>
  <dc:creator>Legend User</dc:creator>
  <dc:description/>
  <dc:language>en-US</dc:language>
  <cp:lastModifiedBy>Legend User</cp:lastModifiedBy>
  <dcterms:modified xsi:type="dcterms:W3CDTF">2002-11-10T10:21:49Z</dcterms:modified>
  <cp:revision>6</cp:revision>
  <dc:subject/>
  <dc:title>PowerPoint 演示文稿</dc:title>
</cp:coreProperties>
</file>