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280-24AA-40DC-8907-7F77837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CF0-89D6-4212-8B16-1F61F86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B1F-C2E7-4D0B-8CA1-88029D7A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14C-2A2B-4F0F-9354-F491D107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8EDD-A6D6-4A0F-AE17-F679E489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AE03-3D6E-4AD9-9935-E9D98AC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4A2-1ADA-4E30-A5B8-5A280AC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A74-B4CC-48F5-AEC5-3AB4783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1255-8D1C-440D-A786-3A75A7E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9CB2-5770-4065-95FA-D773C5B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6AF9-EDE3-47B6-A352-E840F67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004-D605-4D10-98C0-44254EE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3A2-EF8B-428E-89BB-08F046D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B53-D1C1-40ED-B00B-0B70100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B21C-6D91-4A0A-B815-7C237B2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86D-646F-450B-B025-8EAA8A05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F1A0-D117-4BFF-85DE-893E54B1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EEC-DCDB-4D29-B853-3D9D4F93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459-7D61-459B-9C6D-062EF92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8D9-C1B2-4699-92F0-0ED94610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B4F-7E5F-42AC-8C31-9CC1A0CD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D2D-8A54-4A11-8A5C-C8F9ED2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870-878B-4BB0-9877-5A40DCF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4E0-05DD-4E49-A5A3-D35A837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EAC-8041-4C4B-B921-44C4B5AB9B15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9DC4-DBE1-4D9D-AFFB-302A25AA8A3A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1557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分词有两种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现在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过去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二者主要在意义上有</a:t>
            </a: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主动、被动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之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1700280"/>
            <a:ext cx="729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s is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hear i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someon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ing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the door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765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含有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之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678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ough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field is a field which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has been plough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79680" y="836640"/>
            <a:ext cx="453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现在分词表示 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正在进行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7480" y="2060640"/>
            <a:ext cx="453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ing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ed 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ing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en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2305080" cy="100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-e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拼法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2448000" cy="388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t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pe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p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jo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ud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gin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2552760" cy="370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op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ud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g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7667640" y="587700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5:53Z</dcterms:created>
  <dc:creator>李徐琴</dc:creator>
  <dc:description/>
  <dc:language>en-US</dc:language>
  <cp:lastModifiedBy>赵晨盼</cp:lastModifiedBy>
  <dcterms:modified xsi:type="dcterms:W3CDTF">2002-11-03T13:19:37Z</dcterms:modified>
  <cp:revision>3</cp:revision>
  <dc:subject/>
  <dc:title>幻灯片 1</dc:title>
</cp:coreProperties>
</file>