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195-1206-471A-9F7F-711076F5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C0D-596D-4F1F-9774-6E37340B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C13-1790-4EA7-ABAD-77BCF582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C64-F996-4A5C-AFFF-4B913A9E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A33E-F8B3-49E3-AD79-AA4DD5FD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2B28-FC1F-42EE-ABA2-7732A0F5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CED8-1203-4DC2-A92C-2FF55757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1B94-1F03-4772-B12F-BC37920F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B465-B927-43C5-885B-D3E306D9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FB15-1D70-4EC7-BBB4-461FCF17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95AC-2DA3-4262-BF44-E2AC6F24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79D-3C10-43EC-A1D7-E7AB2F88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BEB6-88BA-4686-915C-56A3ED95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F039-205C-40F4-A5D7-C71B4E46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64F7-AFB0-4B46-8815-4F14E80F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9D82-1968-4296-9843-1DDFB747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EC71-E5AF-4700-A9EB-EDF87BFC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308-FBB6-4E2B-9396-02D0607F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D50-7778-4BA4-8FDC-1DEA507B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AFD4-C209-415D-A5DC-311BB1C6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AC8-5252-479A-9272-3FF47F97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C96-BDBF-42C2-A6F3-05184C84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A97-3E1B-4CA3-B17D-2CFDD0DA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EE63-29BF-40CC-B2A1-026550B4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框a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框a2" descr="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框a3" descr="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框a4" descr="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59EF-CCFE-4C93-BC2E-4575A7F38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框a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框a2" descr="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框a3" descr="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框a4" descr="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麒靈" descr=""/>
          <p:cNvPicPr/>
          <p:nvPr/>
        </p:nvPicPr>
        <p:blipFill>
          <a:blip r:embed="rId7"/>
          <a:stretch/>
        </p:blipFill>
        <p:spPr>
          <a:xfrm>
            <a:off x="914400" y="685800"/>
            <a:ext cx="7316640" cy="5487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202E-8012-458F-B7E9-E4E049F3F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nglish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xje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ce is famous _____ its snow all the year 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nd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nd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_____ the newspaper reporter write down what you sa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？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ce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438280"/>
            <a:ext cx="533520" cy="381240"/>
          </a:xfrm>
          <a:custGeom>
            <a:avLst/>
            <a:gdLst>
              <a:gd name="textAreaLeft" fmla="*/ 125280 w 533520"/>
              <a:gd name="textAreaRight" fmla="*/ 407880 w 533520"/>
              <a:gd name="textAreaTop" fmla="*/ 44640 h 381240"/>
              <a:gd name="textAreaBottom" fmla="*/ 239040 h 3812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4800600"/>
            <a:ext cx="380880" cy="4572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housing problem had been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decided to _____ in that 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l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le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le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 that you can't stay for dinner with us but still I'm looking forward to such an hon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re regretful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 pit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pologize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's a sham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1337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54100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单句改错。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）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find that necessary to see the doctor sometime tomor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ust be able to speak right from w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in R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like the Romans 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far as we kn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rica is the second large continent in the wor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d Army men went a distance of more than ten thousand kilometres during the Long M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ada is an English-spoken coun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the spoken English is differ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't be hard to the little gir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is still you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many years of treat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still continues in poor heal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hand is feeling co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's wrong with yo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？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began to think about what use could be made from such mate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→it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ak→tell 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ke→ as 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rge→largest 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nt→covered 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-spoken→English-speaking 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→on 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inues→remains 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feeling→feels 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→of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短文改错。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）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ts are very important to alive thin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 could not go on unless there were no pl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why plants can make food from 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unl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s and man can't make food out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 and sunl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s can getits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od by eating plants and other anim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 gets 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food by eating plants and anim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s and man need plants l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cky for 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o many plants  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ound 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human beings or animals need pl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ive→living 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less→if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或去掉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 3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→because 4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去掉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 5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s→their 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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ither→too 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ve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前加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9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ucky→Luckily 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→and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再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9_23_9" descr=""/>
          <p:cNvPicPr/>
          <p:nvPr/>
        </p:nvPicPr>
        <p:blipFill>
          <a:blip r:embed="rId2"/>
          <a:stretch/>
        </p:blipFill>
        <p:spPr>
          <a:xfrm>
            <a:off x="5181480" y="685800"/>
            <a:ext cx="3176640" cy="5000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高二册第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单元要点问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t of people can't tell the difference between an American accent and a Canadian acc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很多人都分不清美国口音和加拿大口音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问：句中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改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吗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常与哪些介词连用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答：句中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“辨别；区分”，通常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连用，后接介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要用于否定句和疑问句，不可改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如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tell the difference between the 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能说出这两者之间的差别吗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n't tell her from her twin si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分辨不出她和她的孪生妹妹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“……之间的区别”，常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连用；指“在某方面的差别”，常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连用。形容词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及副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l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常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连用。例如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fference between men and wome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男女之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t any difference in meaning between the two wo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两个词在含义方面没有差别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plan is different from you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的计划和你的不同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066680" y="457200"/>
            <a:ext cx="7064280" cy="5712840"/>
            <a:chOff x="1066680" y="457200"/>
            <a:chExt cx="7064280" cy="5712840"/>
          </a:xfrm>
        </p:grpSpPr>
        <p:sp>
          <p:nvSpPr>
            <p:cNvPr id="99" name=""/>
            <p:cNvSpPr/>
            <p:nvPr/>
          </p:nvSpPr>
          <p:spPr>
            <a:xfrm>
              <a:off x="1066680" y="457200"/>
              <a:ext cx="706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066680" y="457200"/>
              <a:ext cx="7064280" cy="5712840"/>
              <a:chOff x="1066680" y="457200"/>
              <a:chExt cx="7064280" cy="5712840"/>
            </a:xfrm>
          </p:grpSpPr>
          <p:sp>
            <p:nvSpPr>
              <p:cNvPr id="101" name=""/>
              <p:cNvSpPr/>
              <p:nvPr/>
            </p:nvSpPr>
            <p:spPr>
              <a:xfrm>
                <a:off x="1135080" y="623520"/>
                <a:ext cx="6949800" cy="534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．．．．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 is hoped that the way of Inuit life will be kept alive for many more centurie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．……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人们希望，因努伊特人的生活方式在今后很多世纪里可以保存下来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。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问：句中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作什么用？可以省略吗？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答：句中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是形式主语，真正的主语是后面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从句，其中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为连词，无词汇意义，但引出主语从句时不可省略。“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 is hoped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从句”是很有用的句型，意思是“人们希望……”，这种被动式可以改为主动式，即改为“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eople hope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＋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从句”。故本句可以改写为：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eople hope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at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he way of Inuit life will be kept alive for many more centurie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类似的结构有很多。例如：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 is said that a new factory will be built in our village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据说我们村将建一座新工厂。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 is reported that a new hospital will be built here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据报道，这里将建一座新的医院。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66680" y="457200"/>
                <a:ext cx="7064280" cy="57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听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en to the tape carefully and complete the following sent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mar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_____ is just like a _____ on the wa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young man with a Zhejiang _____ was injured in an _____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_____ is working on the farm with a wooden _____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_____ _____ on his b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_____ is a kind of animal which lives in the _____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400800" y="914400"/>
          <a:ext cx="1143000" cy="5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00800" y="914400"/>
                    <a:ext cx="1143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066680" y="380880"/>
            <a:ext cx="7064280" cy="5940000"/>
            <a:chOff x="1066680" y="380880"/>
            <a:chExt cx="7064280" cy="5940000"/>
          </a:xfrm>
        </p:grpSpPr>
        <p:sp>
          <p:nvSpPr>
            <p:cNvPr id="108" name=""/>
            <p:cNvSpPr/>
            <p:nvPr/>
          </p:nvSpPr>
          <p:spPr>
            <a:xfrm>
              <a:off x="1066680" y="380880"/>
              <a:ext cx="706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066680" y="380880"/>
              <a:ext cx="7064280" cy="5940000"/>
              <a:chOff x="1066680" y="380880"/>
              <a:chExt cx="7064280" cy="5940000"/>
            </a:xfrm>
          </p:grpSpPr>
          <p:sp>
            <p:nvSpPr>
              <p:cNvPr id="110" name=""/>
              <p:cNvSpPr/>
              <p:nvPr/>
            </p:nvSpPr>
            <p:spPr>
              <a:xfrm>
                <a:off x="1135080" y="614160"/>
                <a:ext cx="6949800" cy="54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IListen to the dialogues and complete the following sentence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mark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）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____________________is the smallest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They are ____________________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Jack has ____________________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Tim ____________________when a car was coming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Ted ____________________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066680" y="380880"/>
                <a:ext cx="7064280" cy="5940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990720" y="762120"/>
            <a:ext cx="7064280" cy="5026320"/>
            <a:chOff x="990720" y="762120"/>
            <a:chExt cx="7064280" cy="5026320"/>
          </a:xfrm>
        </p:grpSpPr>
        <p:sp>
          <p:nvSpPr>
            <p:cNvPr id="113" name=""/>
            <p:cNvSpPr/>
            <p:nvPr/>
          </p:nvSpPr>
          <p:spPr>
            <a:xfrm>
              <a:off x="990720" y="762120"/>
              <a:ext cx="706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990720" y="762120"/>
              <a:ext cx="7064280" cy="5026320"/>
              <a:chOff x="990720" y="762120"/>
              <a:chExt cx="7064280" cy="5026320"/>
            </a:xfrm>
          </p:grpSpPr>
          <p:sp>
            <p:nvSpPr>
              <p:cNvPr id="115" name=""/>
              <p:cNvSpPr/>
              <p:nvPr/>
            </p:nvSpPr>
            <p:spPr>
              <a:xfrm>
                <a:off x="1059120" y="959400"/>
                <a:ext cx="6949800" cy="458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III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isten to the dialogue and answer the following question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（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mark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）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Whose birthday is it tomorrow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？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Which will they buy for Helen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flowers or a record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？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What does Helen like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？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When will they buy a present for Helen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？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Who will go shopping with Jane and Tom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？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90720" y="762120"/>
                <a:ext cx="7064280" cy="5026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066680" y="0"/>
            <a:ext cx="7064280" cy="6397200"/>
            <a:chOff x="1066680" y="0"/>
            <a:chExt cx="7064280" cy="6397200"/>
          </a:xfrm>
        </p:grpSpPr>
        <p:sp>
          <p:nvSpPr>
            <p:cNvPr id="118" name=""/>
            <p:cNvSpPr/>
            <p:nvPr/>
          </p:nvSpPr>
          <p:spPr>
            <a:xfrm>
              <a:off x="1066680" y="0"/>
              <a:ext cx="7064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066680" y="0"/>
              <a:ext cx="7064280" cy="6397200"/>
              <a:chOff x="1066680" y="0"/>
              <a:chExt cx="7064280" cy="6397200"/>
            </a:xfrm>
          </p:grpSpPr>
          <p:sp>
            <p:nvSpPr>
              <p:cNvPr id="120" name=""/>
              <p:cNvSpPr/>
              <p:nvPr/>
            </p:nvSpPr>
            <p:spPr>
              <a:xfrm>
                <a:off x="1135080" y="250920"/>
                <a:ext cx="6949800" cy="58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I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Listen to the passage and fill in the blank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．（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mark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）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ducation in Canada is the duty of each _____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nd the country has no national education plans and no national courses of study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_____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ach of the provinces can make its own plans for the education of its young peopl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look at the map of this large nation will _____ the wisdom of this policy since Canada _____ a variety of cultures and climates from the _____ areas of the Northwest Areas with its _____ Indian population to the French-speaking cities of Quebec and Montreal and the English-speaking city of Toront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ike the United State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 Canadian education _____ has elementary school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_____ at age 5 to 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nd _____ school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eginning at age 12 to 14 and _____ at age 1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．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66680" y="0"/>
                <a:ext cx="7064280" cy="6397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371600"/>
            <a:ext cx="70866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eneral manager is good at _____ such a difficult situ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ing with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ling with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help me to find a house _____ easy _____ of a supermarket and a bus st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h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rival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ri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89548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800600"/>
            <a:ext cx="380880" cy="4572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8T06:04:37Z</dcterms:created>
  <dc:creator>A1</dc:creator>
  <dc:description/>
  <dc:language>en-US</dc:language>
  <cp:lastModifiedBy>A1</cp:lastModifiedBy>
  <dcterms:modified xsi:type="dcterms:W3CDTF">2002-11-08T09:41:52Z</dcterms:modified>
  <cp:revision>2</cp:revision>
  <dc:subject/>
  <dc:title>English </dc:title>
</cp:coreProperties>
</file>