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09C8-B428-47FB-AB90-325683FFCD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3BE-1EB4-4715-A885-F8A4B0B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40A-7EC8-4B3F-8579-3B16AAC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EF9-0C08-4D2A-88FE-B7C517B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6BE-5936-43D5-BC44-70866176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F80-6621-4506-89AB-9D7D37F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71F-F8BF-4FAE-A1ED-95B3700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793-E44F-4877-864E-04A353D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184-B30F-486B-947E-83475582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ACF-29E6-441C-9EEF-8B4CD3A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6DB-610B-4A9F-9F66-055F381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333-BBF4-4CAA-A28B-87FACD5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3B9-4B1E-4E94-87FF-F5DC590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CFA-118F-4406-9653-B86D9A4D8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Rescuing the temple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四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080" y="3200400"/>
            <a:ext cx="523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is about the resc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bu Simb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2952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213372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as the temple mo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HATNOW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3906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3800" y="3124080"/>
            <a:ext cx="4545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temple was 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one by st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67880" y="497196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1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00200" y="10666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Rounded MT Bold"/>
              </a:rPr>
              <a:t>The Rescue of  Abu  Simbe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209680"/>
            <a:ext cx="22100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bu_sim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43440" y="23623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ove stone by 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rebuild 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ark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carry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whole temple was moved stone by stone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built above the water level of the new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s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each stone was marked with a number.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d then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the pieces of stone were carried to the new place for the temple, 60 metres higher up the 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BU-R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7560" y="4994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3716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334120"/>
            <a:ext cx="609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t…into, mark…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figu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each ston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0014601" descr=""/>
          <p:cNvPicPr/>
          <p:nvPr/>
        </p:nvPicPr>
        <p:blipFill>
          <a:blip r:embed="rId1"/>
          <a:stretch/>
        </p:blipFill>
        <p:spPr>
          <a:xfrm>
            <a:off x="2354400" y="533520"/>
            <a:ext cx="50464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505320" y="1676520"/>
            <a:ext cx="685800" cy="3047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047760"/>
              <a:gd name="textAreaBottom" fmla="*/ 3003480 h 3047760"/>
            </a:gdLst>
            <a:ahLst/>
            <a:rect l="textAreaLeft" t="textAreaTop" r="textAreaRight" b="textAreaBottom"/>
            <a:pathLst>
              <a:path w="21600" h="95953">
                <a:moveTo>
                  <a:pt x="0" y="0"/>
                </a:moveTo>
                <a:lnTo>
                  <a:pt x="21600" y="0"/>
                </a:lnTo>
                <a:lnTo>
                  <a:pt x="21600" y="95953"/>
                </a:lnTo>
                <a:lnTo>
                  <a:pt x="0" y="95953"/>
                </a:lnTo>
                <a:close/>
              </a:path>
              <a:path fill="lightenLess" w="21600" h="95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5953">
                <a:moveTo>
                  <a:pt x="21600" y="0"/>
                </a:moveTo>
                <a:lnTo>
                  <a:pt x="21600" y="95953"/>
                </a:lnTo>
                <a:lnTo>
                  <a:pt x="20200" y="94553"/>
                </a:lnTo>
                <a:lnTo>
                  <a:pt x="20200" y="1400"/>
                </a:lnTo>
                <a:close/>
              </a:path>
              <a:path fill="darkenLess" w="21600" h="95953">
                <a:moveTo>
                  <a:pt x="21600" y="95953"/>
                </a:moveTo>
                <a:lnTo>
                  <a:pt x="0" y="95953"/>
                </a:lnTo>
                <a:lnTo>
                  <a:pt x="1400" y="94553"/>
                </a:lnTo>
                <a:lnTo>
                  <a:pt x="20200" y="94553"/>
                </a:lnTo>
                <a:close/>
              </a:path>
              <a:path fill="lighten" w="21600" h="95953">
                <a:moveTo>
                  <a:pt x="0" y="95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945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248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ieces of stone w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ied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new place for the temp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u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on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gypt_back" descr=""/>
          <p:cNvPicPr/>
          <p:nvPr/>
        </p:nvPicPr>
        <p:blipFill>
          <a:blip r:embed="rId1"/>
          <a:stretch/>
        </p:blipFill>
        <p:spPr>
          <a:xfrm>
            <a:off x="3124080" y="316224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1" name="egypt_back" descr=""/>
          <p:cNvPicPr/>
          <p:nvPr/>
        </p:nvPicPr>
        <p:blipFill>
          <a:blip r:embed="rId2"/>
          <a:stretch/>
        </p:blipFill>
        <p:spPr>
          <a:xfrm>
            <a:off x="3124080" y="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2" name="egypt_back" descr=""/>
          <p:cNvPicPr/>
          <p:nvPr/>
        </p:nvPicPr>
        <p:blipFill>
          <a:blip r:embed="rId3"/>
          <a:stretch/>
        </p:blipFill>
        <p:spPr>
          <a:xfrm>
            <a:off x="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3" name="egypt_back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egypt_back" descr=""/>
          <p:cNvPicPr/>
          <p:nvPr/>
        </p:nvPicPr>
        <p:blipFill>
          <a:blip r:embed="rId5"/>
          <a:stretch/>
        </p:blipFill>
        <p:spPr>
          <a:xfrm>
            <a:off x="598176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egypt_back" descr=""/>
          <p:cNvPicPr/>
          <p:nvPr/>
        </p:nvPicPr>
        <p:blipFill>
          <a:blip r:embed="rId6"/>
          <a:stretch/>
        </p:blipFill>
        <p:spPr>
          <a:xfrm>
            <a:off x="5981760" y="0"/>
            <a:ext cx="3162240" cy="369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76520" y="24382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aramond"/>
              </a:rPr>
              <a:t>Unit 23 Rescuing the temple</a:t>
            </a:r>
            <a:endParaRPr b="1" lang="en-US" sz="80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794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way, this figure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BU-R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 w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whole 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BU-R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600200" y="102888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480" y="563868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0014601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9564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743200" y="1600200"/>
            <a:ext cx="1219320" cy="44197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4419720"/>
              <a:gd name="textAreaBottom" fmla="*/ 4340880 h 4419720"/>
            </a:gdLst>
            <a:ahLst/>
            <a:rect l="textAreaLeft" t="textAreaTop" r="textAreaRight" b="textAreaBottom"/>
            <a:pathLst>
              <a:path w="21600" h="78278">
                <a:moveTo>
                  <a:pt x="0" y="0"/>
                </a:moveTo>
                <a:lnTo>
                  <a:pt x="21600" y="0"/>
                </a:lnTo>
                <a:lnTo>
                  <a:pt x="21600" y="78278"/>
                </a:lnTo>
                <a:lnTo>
                  <a:pt x="0" y="78278"/>
                </a:lnTo>
                <a:close/>
              </a:path>
              <a:path fill="lightenLess" w="21600" h="782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8278">
                <a:moveTo>
                  <a:pt x="21600" y="0"/>
                </a:moveTo>
                <a:lnTo>
                  <a:pt x="21600" y="78278"/>
                </a:lnTo>
                <a:lnTo>
                  <a:pt x="20200" y="76878"/>
                </a:lnTo>
                <a:lnTo>
                  <a:pt x="20200" y="1400"/>
                </a:lnTo>
                <a:close/>
              </a:path>
              <a:path fill="darkenLess" w="21600" h="78278">
                <a:moveTo>
                  <a:pt x="21600" y="78278"/>
                </a:moveTo>
                <a:lnTo>
                  <a:pt x="0" y="78278"/>
                </a:lnTo>
                <a:lnTo>
                  <a:pt x="1400" y="76878"/>
                </a:lnTo>
                <a:lnTo>
                  <a:pt x="20200" y="76878"/>
                </a:lnTo>
                <a:close/>
              </a:path>
              <a:path fill="lighten" w="21600" h="78278">
                <a:moveTo>
                  <a:pt x="0" y="7827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5440" y="560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BU-R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96080" cy="509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5638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BU-R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31440" y="54864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 was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1930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BU-R3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6673680" cy="50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9880" y="129528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23749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301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can either fly to Abu Sim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r take a boat from across the 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155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162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6760" y="337824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can see the tall 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ig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1463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350532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es. It is right to rescu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0666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visited the temple at A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e a short pas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visited the temple at Abu 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ook a boat from across the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r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by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f the new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c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ee the tall stone figures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place was quiet and ver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ery beautiful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think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ight that the temple sh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 rescu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ellows%20Gorge" descr=""/>
          <p:cNvPicPr/>
          <p:nvPr/>
        </p:nvPicPr>
        <p:blipFill>
          <a:blip r:embed="rId1"/>
          <a:stretch/>
        </p:blipFill>
        <p:spPr>
          <a:xfrm>
            <a:off x="1066680" y="936720"/>
            <a:ext cx="7162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26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u%20Gorge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7162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4191120"/>
            <a:ext cx="384120" cy="10555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1055520"/>
              <a:gd name="textAreaBottom" fmla="*/ 1030680 h 1055520"/>
            </a:gdLst>
            <a:ahLst/>
            <a:rect l="textAreaLeft" t="textAreaTop" r="textAreaRight" b="textAreaBottom"/>
            <a:pathLst>
              <a:path w="21600" h="59319">
                <a:moveTo>
                  <a:pt x="0" y="0"/>
                </a:moveTo>
                <a:lnTo>
                  <a:pt x="21600" y="0"/>
                </a:lnTo>
                <a:lnTo>
                  <a:pt x="21600" y="59319"/>
                </a:lnTo>
                <a:lnTo>
                  <a:pt x="0" y="59319"/>
                </a:lnTo>
                <a:close/>
              </a:path>
              <a:path fill="lightenLess" w="21600" h="593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19">
                <a:moveTo>
                  <a:pt x="21600" y="0"/>
                </a:moveTo>
                <a:lnTo>
                  <a:pt x="21600" y="59319"/>
                </a:lnTo>
                <a:lnTo>
                  <a:pt x="20200" y="57919"/>
                </a:lnTo>
                <a:lnTo>
                  <a:pt x="20200" y="1400"/>
                </a:lnTo>
                <a:close/>
              </a:path>
              <a:path fill="darkenLess" w="21600" h="59319">
                <a:moveTo>
                  <a:pt x="21600" y="59319"/>
                </a:moveTo>
                <a:lnTo>
                  <a:pt x="0" y="59319"/>
                </a:lnTo>
                <a:lnTo>
                  <a:pt x="1400" y="57919"/>
                </a:lnTo>
                <a:lnTo>
                  <a:pt x="20200" y="57919"/>
                </a:lnTo>
                <a:close/>
              </a:path>
              <a:path fill="lighten" w="21600" h="59319">
                <a:moveTo>
                  <a:pt x="0" y="59319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Xiling%20Gorge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419720" y="388620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343400" y="3733920"/>
            <a:ext cx="1042920" cy="1752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752480"/>
              <a:gd name="textAreaBottom" fmla="*/ 1685160 h 1752480"/>
            </a:gdLst>
            <a:ahLst/>
            <a:rect l="textAreaLeft" t="textAreaTop" r="textAreaRight" b="textAreaBottom"/>
            <a:pathLst>
              <a:path w="21600" h="36291">
                <a:moveTo>
                  <a:pt x="0" y="0"/>
                </a:moveTo>
                <a:lnTo>
                  <a:pt x="21600" y="0"/>
                </a:lnTo>
                <a:lnTo>
                  <a:pt x="21600" y="36291"/>
                </a:lnTo>
                <a:lnTo>
                  <a:pt x="0" y="36291"/>
                </a:lnTo>
                <a:close/>
              </a:path>
              <a:path fill="lightenLess" w="21600" h="362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291">
                <a:moveTo>
                  <a:pt x="21600" y="0"/>
                </a:moveTo>
                <a:lnTo>
                  <a:pt x="21600" y="36291"/>
                </a:lnTo>
                <a:lnTo>
                  <a:pt x="20200" y="34891"/>
                </a:lnTo>
                <a:lnTo>
                  <a:pt x="20200" y="1400"/>
                </a:lnTo>
                <a:close/>
              </a:path>
              <a:path fill="darkenLess" w="21600" h="36291">
                <a:moveTo>
                  <a:pt x="21600" y="36291"/>
                </a:moveTo>
                <a:lnTo>
                  <a:pt x="0" y="36291"/>
                </a:lnTo>
                <a:lnTo>
                  <a:pt x="1400" y="34891"/>
                </a:lnTo>
                <a:lnTo>
                  <a:pt x="20200" y="34891"/>
                </a:lnTo>
                <a:close/>
              </a:path>
              <a:path fill="lighten" w="21600" h="36291">
                <a:moveTo>
                  <a:pt x="0" y="362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8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hreegorgesdam" descr=""/>
          <p:cNvPicPr/>
          <p:nvPr/>
        </p:nvPicPr>
        <p:blipFill>
          <a:blip r:embed="rId1"/>
          <a:stretch/>
        </p:blipFill>
        <p:spPr>
          <a:xfrm>
            <a:off x="1219320" y="801720"/>
            <a:ext cx="6858000" cy="51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57400" y="1600200"/>
          <a:ext cx="4876920" cy="44388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057400" y="88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the third longest in the world after the Amazon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4160" y="83808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floods every year, causing great loss of lives and millions of dollars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S00559_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7652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2652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Gorges will be the biggest dam in the world. The dam will be about 6,860 feet wide and 611 feet high. It is obvious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4556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purpose 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6004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removed, which of course will cost much money, and some historical sites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69240" y="8064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10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is finished in 2009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2152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third longe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the world aft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maz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56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4419720" y="3505320"/>
            <a:ext cx="533160" cy="14475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447560"/>
              <a:gd name="textAreaBottom" fmla="*/ 1413000 h 1447560"/>
            </a:gdLst>
            <a:ahLst/>
            <a:rect l="textAreaLeft" t="textAreaTop" r="textAreaRight" b="textAreaBottom"/>
            <a:pathLst>
              <a:path w="21600" h="58620">
                <a:moveTo>
                  <a:pt x="0" y="0"/>
                </a:moveTo>
                <a:lnTo>
                  <a:pt x="21600" y="0"/>
                </a:lnTo>
                <a:lnTo>
                  <a:pt x="21600" y="58620"/>
                </a:lnTo>
                <a:lnTo>
                  <a:pt x="0" y="58620"/>
                </a:lnTo>
                <a:close/>
              </a:path>
              <a:path fill="lightenLess" w="21600" h="58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8620">
                <a:moveTo>
                  <a:pt x="21600" y="0"/>
                </a:moveTo>
                <a:lnTo>
                  <a:pt x="21600" y="58620"/>
                </a:lnTo>
                <a:lnTo>
                  <a:pt x="20200" y="57220"/>
                </a:lnTo>
                <a:lnTo>
                  <a:pt x="20200" y="1400"/>
                </a:lnTo>
                <a:close/>
              </a:path>
              <a:path fill="darkenLess" w="21600" h="58620">
                <a:moveTo>
                  <a:pt x="21600" y="58620"/>
                </a:moveTo>
                <a:lnTo>
                  <a:pt x="0" y="58620"/>
                </a:lnTo>
                <a:lnTo>
                  <a:pt x="1400" y="57220"/>
                </a:lnTo>
                <a:lnTo>
                  <a:pt x="20200" y="57220"/>
                </a:lnTo>
                <a:close/>
              </a:path>
              <a:path fill="lighten" w="21600" h="58620">
                <a:moveTo>
                  <a:pt x="0" y="58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572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bu_sim7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414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419720" y="3429000"/>
            <a:ext cx="533160" cy="13716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371600"/>
              <a:gd name="textAreaBottom" fmla="*/ 1337040 h 1371600"/>
            </a:gdLst>
            <a:ahLst/>
            <a:rect l="textAreaLeft" t="textAreaTop" r="textAreaRight" b="textAreaBottom"/>
            <a:pathLst>
              <a:path w="21600" h="55545">
                <a:moveTo>
                  <a:pt x="0" y="0"/>
                </a:moveTo>
                <a:lnTo>
                  <a:pt x="21600" y="0"/>
                </a:lnTo>
                <a:lnTo>
                  <a:pt x="21600" y="55545"/>
                </a:lnTo>
                <a:lnTo>
                  <a:pt x="0" y="55545"/>
                </a:lnTo>
                <a:close/>
              </a:path>
              <a:path fill="lightenLess" w="21600" h="5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45">
                <a:moveTo>
                  <a:pt x="21600" y="0"/>
                </a:moveTo>
                <a:lnTo>
                  <a:pt x="21600" y="55545"/>
                </a:lnTo>
                <a:lnTo>
                  <a:pt x="20200" y="54145"/>
                </a:lnTo>
                <a:lnTo>
                  <a:pt x="20200" y="1400"/>
                </a:lnTo>
                <a:close/>
              </a:path>
              <a:path fill="darkenLess" w="21600" h="55545">
                <a:moveTo>
                  <a:pt x="21600" y="55545"/>
                </a:moveTo>
                <a:lnTo>
                  <a:pt x="0" y="55545"/>
                </a:lnTo>
                <a:lnTo>
                  <a:pt x="1400" y="54145"/>
                </a:lnTo>
                <a:lnTo>
                  <a:pt x="20200" y="54145"/>
                </a:lnTo>
                <a:close/>
              </a:path>
              <a:path fill="lighten" w="21600" h="55545">
                <a:moveTo>
                  <a:pt x="0" y="5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o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 year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using great loss of lives and millions of dollar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S00559_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43828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672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hree Gorges will be the biggest dam in the world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m will be about 6,860 feet wide and 611 feet high. It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v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1035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024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urse will cost much money, and so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ical sit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685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is finished in 200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164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057400" y="1523880"/>
          <a:ext cx="4876920" cy="45720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36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040" y="281952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Yangtz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720" y="35053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6760" y="47242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320" y="548640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76520" y="1665360"/>
          <a:ext cx="6019560" cy="4430520"/>
        </p:xfrm>
        <a:graphic>
          <a:graphicData uri="http://schemas.openxmlformats.org/drawingml/2006/table">
            <a:tbl>
              <a:tblPr/>
              <a:tblGrid>
                <a:gridCol w="2041560"/>
                <a:gridCol w="1920600"/>
                <a:gridCol w="2057400"/>
              </a:tblGrid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wan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ig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angt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o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lectri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mov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889240" y="2533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2400" y="3112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3798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0856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5018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752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520" y="25909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are some similarities between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begin with, both of them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ery big. The Aswan High Dam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biggest at present, an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ree Gorges Dam will 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 in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reasons for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two dams are the same, that is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event flood and produce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u_sim8" descr=""/>
          <p:cNvPicPr/>
          <p:nvPr/>
        </p:nvPicPr>
        <p:blipFill>
          <a:blip r:embed="rId1"/>
          <a:stretch/>
        </p:blipFill>
        <p:spPr>
          <a:xfrm>
            <a:off x="1447920" y="97164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nally, the problems of building the two dams are almost the same. Both of the two projects need to move people and some historical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re are also some differences between the two d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5639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rst, the Aswan High Dam lies on the River Nile, while the Three Gorges Dam is on the Yangtz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Differenc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Aswan High Dam was finished in 1970, while the Three Gorges Dam will be completed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286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92,  E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S00554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904760" cy="171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8120"/>
            <a:ext cx="6934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rite a passag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are the Three Gor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m with Aswan High D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Zhang Lingdi</cp:lastModifiedBy>
  <dcterms:modified xsi:type="dcterms:W3CDTF">2003-06-10T09:25:04Z</dcterms:modified>
  <cp:revision>501</cp:revision>
  <dc:subject/>
  <dc:title>PowerPoint 演示文稿</dc:title>
</cp:coreProperties>
</file>