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483-B061-4B95-8608-CA8FEE57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4BA-FC36-440B-8733-39CD6CCC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2C8-CD00-4420-805A-3820906B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3FC-83BF-4C5C-9196-104C49AD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A621-AEAA-4BF7-8452-01930D85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FA4-0063-4DF8-ABA6-49E01980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FD2-6547-4FF4-859E-64310E06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27D-3C15-457D-BC18-EECB7D21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851-D886-41FB-A921-166D32E6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321-3C9A-4A40-BAA3-9CDC6FD0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D78-DCBB-48B6-9467-554890D7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4D9-937F-44FE-BA1E-A164643E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CB3D-F816-4A5B-BF04-5EF6161231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086560" y="327672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温岭二中       高二备课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4:35Z</dcterms:modified>
  <cp:revision>24</cp:revision>
  <dc:subject/>
  <dc:title>PowerPoint Presentation</dc:title>
</cp:coreProperties>
</file>