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6257-E41A-413D-9023-F3F3ADA2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B8AB-8DE6-47DC-A02D-67AEC4DC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378-F5A4-42E9-AAEF-675D538E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CA86-338E-46BF-A62A-0A5BE7CE5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A21B-0BBB-4F39-8DC6-0575C0CE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1117-228F-44E4-9CAF-C9B97677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BF1-6997-4B71-9667-F2BDD32A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D51-C841-4A52-87DA-D2125DCB5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BA60-D51C-4E03-93DE-855B5E7E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E843-3970-4F67-9898-DB517524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773-C65E-4C24-87F3-01FEC2AC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6F87-37EA-4C6A-9738-112AB732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EAEA-7D2E-440F-81F9-8DCDA27838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谓一致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归纳与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规律分述如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凡属下列句型，谓语动词必须与其邻近的主语在人称和数上保持一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 b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句型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re is some paper and two pens on the de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引导的倒装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e is a fish, some bread and soup fo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73200" y="189000"/>
            <a:ext cx="822960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re there any people over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glasses,bellows,tongs,slipper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表示工具或用具的名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ants, scissors,boots,gloves, chopsticks,parents,clothes,shoes ,socks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rouser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表示衣服的复数名词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trousers are di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在其前加上量词（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pair of, a suit of clothe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pair of glasses is lying on the c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sh ,deer ,mean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单复数同形的名词作主语时，谓语动词的数取决于该名词含义表示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ny sheep are looked after by the ol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The(blind ,brave ,dead ,old ,poor ,rich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ick ,young ,wise ,wounde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主语时，谓语动词要用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dead are soon forgot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代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, which ,wh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定语从句中作主语时，谓语动词要与先行词在数上保持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ose who want to go to Beijing please get on the tr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短语或从句作主语时，谓语动词要用单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What I want to do is to play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To finish the work needs hard 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疑问句中，几个并列的名词或代词作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语时，谓语动词与最近的主语在数上保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re you or he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谓一致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归纳与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规律分述如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凡属下列句型，谓语动词必须与其邻近的主语在人称和数上保持一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re b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句型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There is some paper and two pens on the de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引导的倒装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ere is a fish, some bread and soup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 and where to build the factory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 not decided   B. aren’t decided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asn’t decided  D. haven’t dec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The fork and knife ______ o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                       B. are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as been          D. have been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Each soldier and each sailor ______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rif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re given           b. was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The boys and girls each have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ik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. Half of the students _______ made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ame mistak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has                        B.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is                           D.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 About 70% of the surface of our planet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overed by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o teacher and no student is allowed to enter the 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Many a boy and many a girl has seen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thirds of the books are written by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______ good exerc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limbing hills is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Climbing the hill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he climbing hills 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he climbing of hill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Twenty dollars _____ enough for the co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                       B.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as                     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Which of the books do you think  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st among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. --- Why did you change  your maj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rom economics to law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--- Because economics  _____ a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teresting to me as la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isn’t                      B.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doesn’t                 D. aren’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. My clothes ______ made to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  B. are      C. has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More than one person ______ m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gg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as    B. has    C. were    D.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. Each of the hotel’s 3000 rooms 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ir conditioning and tele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s equipped    B. were equip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is (was)……t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强调句型中，若强调主语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之后的谓语动词要同主语的数保持一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’s Tom who does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only ……but also, not……bu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either……nor ,either……or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接的并列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only a pen but also two books were l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is equipped          D. are equip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 Not only I but also Tom and Mary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nd of watching tele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am       B. is        C. ar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 Everything, including the clothes, 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apar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was stolen         B. were st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stole                  D. sto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. Twenty-five thousand dollars 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verage income for a four-p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amily living in a medium-sized community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in the United State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are       B. is       C. will b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5.Over 90% of the world’s population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now ________ the Inter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use                    B.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C. having been 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.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6.The number of the errors ____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. are surprising    B. were surpris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surprising        D. was surp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7.Let’s visit the art gallery first,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aving some   B.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. we will have some lu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. Five pounds of sugar______ mor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n I n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re   B. is    C. will be   D. would be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.After carrying out a large  number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s,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lfred Nobel finding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te in 18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he formula for dynamite was found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it was  in 1866 that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te was found by Alfred Nob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Alfred Nobel found the formula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.To be an effective teacher, one nee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know to convey the material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 it has been understo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know how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e needs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ow to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how determine whether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.Fifteen minutes_______ all that I can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re to talk over this matter with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is        B. are      C. were    D. 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. The king was loved by his friends,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ed by his subjects, and 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his enemies feared h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frightened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he scared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feared by his ene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The father, rather than the broth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 for the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re responsibl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wer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be responsibl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is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.The instrument as well as other sp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s ______ going to be air-lifted s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s     B. are      C. be     D. will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 Father and son ______ standing on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adside. Beside them ____ a ca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ors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. was, were      B. was, w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. were, was      D. were,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53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连接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th……and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not only……but also, not……bu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连接的并列主语同谓语动词的一致关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oth……and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连接的单数并列主语，谓语要用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hat he says and what he does are the s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并列主语两个部分指的是同一个人或事物或视为整体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ur maths teacher and Li ping ’s father is respected and loved by the stud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连接的并列主语若被否定修饰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 teacher and student is in the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定代词作主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other, each, on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ome ,any ,no ,every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构成的复合不定代词作主语时，谓语动词要用单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enever anything happens , please stay here quie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non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主语时，谓语动词可用单数，也可用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ne of her friends help/helps 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定代词等作主语时，谓语动词的单复数取决于它们所指代名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Most of the earth is covered with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Most of the poor men are laz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both,few,many,several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词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oth are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.“more than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词的复数结构”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 five men have died in the accid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.“more than one (+n.)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结构作主语时，谓语动词要用单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 one man has died in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. Many a + n.   +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ny a student has shortsight glasses 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表示不定数量的词组作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Part of, a lot of ,lots of ,one of, a number of, plenty o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词作主语时，谓语动词的单复数取决于量词后面名词的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Part of it is g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Now a number of young men cook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a+n.+and a half / one and a half +n(es). /the number of +n(es)./ the part of +n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等作主语时，其谓语动词要用单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A year and a half has already pa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)The number of the students who take part in the entrance examination is gre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些特殊名词作主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体名词（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olice, people,catt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等作主语时，谓语动词要用复数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10:11:37Z</dcterms:created>
  <dc:creator>wang</dc:creator>
  <dc:description/>
  <dc:language>en-US</dc:language>
  <cp:lastModifiedBy>wang xing zhong</cp:lastModifiedBy>
  <dcterms:modified xsi:type="dcterms:W3CDTF">2004-01-29T02:40:00Z</dcterms:modified>
  <cp:revision>21</cp:revision>
  <dc:subject/>
  <dc:title>主谓一致 归纳与总结</dc:title>
</cp:coreProperties>
</file>