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129-913C-4638-80FE-D0EA86AC5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F3E9-BFF7-4D6E-8208-E2C462BA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641-4139-46ED-B372-C3CAD089F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4A7-8301-492F-9337-7629F16DB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4C84-18B9-4CCC-A07E-203CF512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C126-70FD-4F30-AA52-93D969BC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380-73C1-45B4-AAFB-E5E7A2DC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5CEC-0C0C-47E9-A637-F0234D50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198-6E11-4C9D-8C20-1CB2AC76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8705-CE7C-44DC-A3E1-EC11F342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6E3-7ACE-4D05-8D93-97299835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A61-3790-450F-B632-A1E894D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E6C9-8C2D-48FC-9EF1-1286013D0C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71280" y="476280"/>
            <a:ext cx="727236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原级、比较级和最高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形容词的原级：由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…a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t so/as… as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来引导的同级比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car is as expensive as yo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’s almost as tall as her mother now but not so tall as her younger br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er spoken English is nearly as good as , if not better than, Miss Green’s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ke sings as beautifully as his brothe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, much, many, a lot, rathe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                                         + more than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ittle, a bi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read many more books than h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s a little taller than I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novel is far less interesting than 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by fa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taller than Mike by f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 is by far the most expens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620640"/>
            <a:ext cx="142920" cy="1368360"/>
          </a:xfrm>
          <a:custGeom>
            <a:avLst/>
            <a:gdLst>
              <a:gd name="textAreaLeft" fmla="*/ 91440 w 142920"/>
              <a:gd name="textAreaRight" fmla="*/ 143280 w 1429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sun is by far the bigger of the tw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最高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st +adj/(the) most 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f all the stars, the sun is the closes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1.) a most adj 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ery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) most  a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 most humorous novel that I’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ver r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4000" y="3500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4581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3284640"/>
            <a:ext cx="57636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284720" y="3860280"/>
            <a:ext cx="647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8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6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5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itanic” is most instruct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aths is a least interesting subject that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 as adj …+( a ) + n. +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ucy is as lovely a girl as Linda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t is as hot a day today as it was that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is as useful a dictionary as your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y have as many good books as w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倍数的表示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big as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nce/twice           bigger than  +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three … times      the siz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5280" y="4149720"/>
            <a:ext cx="216000" cy="1368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expensive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is bike is twice   more expensiv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pric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s long as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is rope is six times   longer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length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95640" y="620640"/>
            <a:ext cx="144720" cy="136836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788000" y="2997360"/>
            <a:ext cx="217440" cy="1295280"/>
          </a:xfrm>
          <a:custGeom>
            <a:avLst/>
            <a:gdLst>
              <a:gd name="textAreaLeft" fmla="*/ 138960 w 217440"/>
              <a:gd name="textAreaRight" fmla="*/ 217800 w 2174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    big                   short               heav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           ,  length          , weight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                long               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/tall                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ight             ,   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                   n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5440" y="620640"/>
            <a:ext cx="142560" cy="1368360"/>
          </a:xfrm>
          <a:custGeom>
            <a:avLst/>
            <a:gdLst>
              <a:gd name="textAreaLeft" fmla="*/ 91080 w 142560"/>
              <a:gd name="textAreaRight" fmla="*/ 142920 w 142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216000" cy="129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948360" y="620640"/>
            <a:ext cx="144720" cy="1440000"/>
          </a:xfrm>
          <a:custGeom>
            <a:avLst/>
            <a:gdLst>
              <a:gd name="textAreaLeft" fmla="*/ 92520 w 144720"/>
              <a:gd name="textAreaRight" fmla="*/ 145080 w 14472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0920" y="2349360"/>
            <a:ext cx="71640" cy="1366920"/>
          </a:xfrm>
          <a:custGeom>
            <a:avLst/>
            <a:gdLst>
              <a:gd name="textAreaLeft" fmla="*/ 45720 w 71640"/>
              <a:gd name="textAreaRight" fmla="*/ 72000 w 71640"/>
              <a:gd name="textAreaTop" fmla="*/ 35640 h 1366920"/>
              <a:gd name="textAreaBottom" fmla="*/ 1331280 h 13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48360" y="2349360"/>
            <a:ext cx="144360" cy="14414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41440"/>
              <a:gd name="textAreaBottom" fmla="*/ 1404000 h 144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4076640"/>
            <a:ext cx="73080" cy="1368360"/>
          </a:xfrm>
          <a:custGeom>
            <a:avLst/>
            <a:gdLst>
              <a:gd name="textAreaLeft" fmla="*/ 46800 w 73080"/>
              <a:gd name="textAreaRight" fmla="*/ 73440 w 73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英语中，形容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副词的比较级是非常严谨的， 既人和人比，物和物比，比较级的结构必须是一致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ther b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m is taller than   any boy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ny of the other boy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his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r handwriting is better than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2492280"/>
            <a:ext cx="216000" cy="1440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andwriting of yours is better  than that /the handwriting of m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country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is larger than  any other country i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opulation of China is bigger than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the population of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have a more beautiful kite than ___in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00720" y="191628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nyone                  B. anyone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nyone’s                D. anyone els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kite is more beautiful than _______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is taller than any boy in the class, let alone the girls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on is nearer to the earth than _____ to the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any star               B. any 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any other star      D. any other s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形容词的比较级前不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;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是以下两点要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) the more… , the mor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more, the be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harder you work, the greater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ma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ewer mistakes , the gr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the more of the tw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and Lily are twin sisters. They’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alike that I can’t tell which is whi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Lucy is the taller and  fatter of th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while Lily is the shorter and thi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Which is the further to us, the sun o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 Of the two, the sun is much the fur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5:56:22Z</dcterms:created>
  <dc:creator>wang xing zhong</dc:creator>
  <dc:description/>
  <dc:language>en-US</dc:language>
  <cp:lastModifiedBy>wang xing zhong</cp:lastModifiedBy>
  <dcterms:modified xsi:type="dcterms:W3CDTF">2004-01-28T07:03:11Z</dcterms:modified>
  <cp:revision>35</cp:revision>
  <dc:subject/>
  <dc:title>幻灯片 1</dc:title>
</cp:coreProperties>
</file>