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414-B010-4650-BA3C-46CFF9616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76DA-08C0-4168-A922-79E67A59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4382-520C-44F7-938A-1CA15F52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5B97-51EB-4D48-B053-CA6D8B22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7742-170B-4BDC-BA97-3041D1D3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1DB-A7A7-496E-AB91-0361DA84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E4C-038E-40AC-83A2-F93804A5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8AF-9467-49F8-8187-1CBDCE06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0848-02D3-4103-B9F1-C21BC0D8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1035-D7E3-4838-B23D-245E97F2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7697-C192-4463-BFB3-AD56CEF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323-F75D-4761-B69F-CE1B18C6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EA1A-DF90-470C-920C-31401B771A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高考训练题非谓语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41264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Mr. Smith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ch, started to read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tired; boring             B. tiring; b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tired; bored              D. tiring; b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riendship is like money: easier made tha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kept                          B. to be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keeping                     D. being k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.—Wh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to the museum with 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at’s a good id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go           B. don’g t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going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9. English teacher encourages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 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us doing       B. us 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our reading  D. we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—Mr. Wilson is expected back at 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have him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 then,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calling   B. call  C. to call  D. ca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.—Is the radio disturbing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ertainly is, I’d like i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urning  B. to turn C. turned D. 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. Sorry! I’ve forgott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letter f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posting          B. to have po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to post           D. that I p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. She is not worth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to get angry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 getting ang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. getting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. to get angry wi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. The woman lay on the bed, her f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ving covered  B. cov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cover             D. cov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space, the earth looks lik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ue planet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eeing              B. To se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een                 D. Having s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6.Do you mi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ugg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e to make       B. my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or me to make  D. I m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this apple juice-perhaps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ll like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rying               B. T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try               D. Have tr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8.Lots of empty bottles were found u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man’s bed. He must hav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hing bu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ink B. to drink  C. drinking D. dru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busy in his garage, I said 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call again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find               B. When f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inding              D. As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. I bitterly regre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im the story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tell            B. to have t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ld               D. having t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1. Gun-powder is generally consid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n Ch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venting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having invented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be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o have been inv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 I’m consider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off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accept       B. accep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accept           D. acce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3.The cloth won’t st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wash          B.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ashed          D. for w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4.It’s pay-day, and they’re waiting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r paying       B. to b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be paying   D. to have p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5. —Will John come here to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No, he finally decided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not to be         B. not to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not to              D. not 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9640" y="106488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There are three waiting-rooms in the new statio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bout 1000 passeng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eating        B. s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seated        D. si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her finest skirt, the girl tri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hersel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par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ressing; noticing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Dressed;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Dressing; being not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Dressed; noti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Wit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 neede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she left th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mar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omething; to bu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anything; having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everything; bu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everything; bo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—Where should I send my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office is the plac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for sending it     B. to  send i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send              D. to sen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He should at least answer wh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peaking           B. spok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spoken to          D. speaking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—What do you think made Mary 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—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 new motorbik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As she lost       B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Losing              D. Because of lo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The wonderful time they have bee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forwar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arri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had   B. have   C. has   D. 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 Is this the TV set which you wish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to have it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o repair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to have repa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will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1.She came in,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by a group of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following         B. follow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to follow          D.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. If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o a high temperature, water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 turned into vap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eat  B. to heat  C. heating D. h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3. The girl was sitting there,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 dee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ou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lose  B. to lose  C. losing  D. l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4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his father had come, his face lit 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Having heard   B. When he he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. Hearing            D. When he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5. Do you know the bo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at the back of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. sat   B. sit         C. seating D. s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ey: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. We’ve us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country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iving               B. l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be living          D. have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. His remarks left m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bout his real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wonder           B. wonde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wondered       D. to won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: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0:13:46Z</dcterms:created>
  <dc:creator>guest</dc:creator>
  <dc:description/>
  <dc:language>en-US</dc:language>
  <cp:lastModifiedBy>wang xing zhong</cp:lastModifiedBy>
  <dcterms:modified xsi:type="dcterms:W3CDTF">2003-12-23T02:00:44Z</dcterms:modified>
  <cp:revision>25</cp:revision>
  <dc:subject/>
  <dc:title>高考训练题非谓语动词</dc:title>
</cp:coreProperties>
</file>