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APPLAUSE.WAV" ContentType="audio/x-wav"/>
  <Override PartName="/ppt/media/image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CLAP.WAV" ContentType="audio/x-wav"/>
  <Override PartName="/ppt/media/image2.png" ContentType="image/png"/>
  <Override PartName="/ppt/media/image1.png" ContentType="image/png"/>
  <Override PartName="/ppt/media/image7.png" ContentType="image/png"/>
  <Override PartName="/ppt/media/DRUMROLL.WAV" ContentType="audio/x-wav"/>
  <Override PartName="/ppt/media/image11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TIMBALES.WAV" ContentType="audio/x-wav"/>
  <Override PartName="/ppt/media/ISRAELFL.WAV" ContentType="audio/x-wav"/>
  <Override PartName="/ppt/media/image13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F41-4C0B-401D-B0BF-7F1CAE2A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E28-D727-4238-8047-2A8045A7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D0D-6C44-44CD-8D87-2831205E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A26-66D2-477B-B352-23EE465F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9ED7-10E0-45DF-BFA5-215DC402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B3A1-B5BC-42EE-BD9B-BDAE3690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7A27-242D-4490-91B4-D965D6D0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E533-201A-4DFF-BC22-9233B1D5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F644-8E30-4904-94AD-577AC105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9C44-2A9D-4519-96C7-57F77273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2460-5082-4F68-A46E-6117BE8F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6AC-FA2F-4075-BAC1-215A048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8F56-89A2-425C-AB09-E8A35E4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4652-2338-41C0-AA69-4CED0D4D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8AA1-83D7-4643-B3BA-69D6D068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44B3-9472-48E1-807D-EC17EA6B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1E64-0837-4715-90DC-6BA56FAD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293-E7F3-4A0F-8D9C-8720DE37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006-3515-4D5C-9556-EA9E6B3F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1F4-1AE3-4BF1-A2AF-832EBD86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BF4-AEA7-43D6-9D81-8BE63DB8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C49-7937-4199-B0A7-37BF382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E77-4640-4489-9E18-35C7641F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AC9-32F4-4F5A-B5A3-E5943249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3FB-6B9C-4D6C-BD91-5A78D5407D1F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B0E6-8867-4EA7-A62B-4172661B03F5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3808440"/>
            <a:ext cx="41911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608796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828800" y="835200"/>
          <a:ext cx="632160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5200"/>
                    <a:ext cx="632160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11360" y="193032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gymnast performs swing, handstand and other movements on the parallel bars. He also does holding positions which require him to remain motionless for one or two second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508200" y="0"/>
          <a:ext cx="247032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4703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908000" y="1063800"/>
          <a:ext cx="5943600" cy="50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063800"/>
                    <a:ext cx="5943600" cy="50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19320" y="2208240"/>
            <a:ext cx="73911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the horizontal upper bar, the gymnast must perform acrobatic moves without coming to a stop.  The exercise ends with a dismount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508200" y="57240"/>
          <a:ext cx="220680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57240"/>
                    <a:ext cx="22068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3808440"/>
            <a:ext cx="274320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Wo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978200" y="1063800"/>
          <a:ext cx="587340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1063800"/>
                    <a:ext cx="587340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295280" y="213516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women’s vault uses the same equipment as the men’s vault.  However, women gymnasts vault across the horses width rather than its leng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578400" y="46080"/>
          <a:ext cx="198720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46080"/>
                    <a:ext cx="19872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828800" y="993600"/>
          <a:ext cx="602280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02280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2514600"/>
            <a:ext cx="70866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uneven parallel bars event requires the gymnast to execute difficult maneuvers on both bars while in constant motion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581280" y="50760"/>
          <a:ext cx="205740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0760"/>
                    <a:ext cx="205740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828800" y="1143000"/>
          <a:ext cx="609300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60930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600200" y="685800"/>
          <a:ext cx="6480000" cy="563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85800"/>
                    <a:ext cx="648000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2235240"/>
            <a:ext cx="739152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On the balance beam, the gymnast tries to use the entire length of the beam.  The advanced gymnast may perform somersaults, backhandswheel or cartwheel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63360"/>
          <a:ext cx="198144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63360"/>
                    <a:ext cx="19814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908000" y="1143000"/>
          <a:ext cx="60138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143000"/>
                    <a:ext cx="60138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2665440"/>
            <a:ext cx="70866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In the floor exercise, the gymnast demonstrates her skills of acrobatics, tumbling and dancing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657600" y="0"/>
          <a:ext cx="213372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0"/>
                    <a:ext cx="213372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828800" y="1063800"/>
          <a:ext cx="6093000" cy="52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3800"/>
                    <a:ext cx="6093000" cy="52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0968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Rhythmic gymnasts are judged on the grace and difficulty of various maneuvers performed with equipment such as a ribbon, clubs or a hoop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886200" y="0"/>
          <a:ext cx="205740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20574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6880" y="2592360"/>
            <a:ext cx="426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172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2268360"/>
            <a:ext cx="739152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In a floor exercise a gymnast must perform continuous series movements that require flexibility, balance and strength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657600" y="22320"/>
          <a:ext cx="217188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320"/>
                    <a:ext cx="21718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679400" y="914400"/>
          <a:ext cx="6046920" cy="52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604692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1981080"/>
            <a:ext cx="762012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a pommel horse,  the gymnast must support his weight entirely with his hands while performing a series of swing maneuvers.  This maneuver is known as the scissor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736800" y="11160"/>
          <a:ext cx="219564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6800" y="11160"/>
                    <a:ext cx="219564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600200" y="835200"/>
          <a:ext cx="632160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35200"/>
                    <a:ext cx="63216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95280" y="220824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the ring exercise, the gymnast must try to keep the rings motionless, while he executes a number of difficult maneuvers with his body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508200" y="0"/>
          <a:ext cx="251460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51460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1828800" y="993600"/>
          <a:ext cx="64119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4119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95280" y="2208240"/>
            <a:ext cx="693432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man’s vault uses the same equipment as the women’s vault.  However, men gymnasts vault across the horse’s length rather than its wid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578400" y="0"/>
          <a:ext cx="221580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0"/>
                    <a:ext cx="22158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9:36:30Z</dcterms:created>
  <dc:creator>ll</dc:creator>
  <dc:description/>
  <dc:language>en-US</dc:language>
  <cp:lastModifiedBy>fan</cp:lastModifiedBy>
  <dcterms:modified xsi:type="dcterms:W3CDTF">2001-03-19T11:01:59Z</dcterms:modified>
  <cp:revision>123</cp:revision>
  <dc:subject/>
  <dc:title>Gymnastics</dc:title>
</cp:coreProperties>
</file>