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E39-26A0-4670-AEF4-E86190A9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0BC-778A-47AF-885E-58311C5B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CCC-7CE9-4AEC-9976-0893874F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79B-FC0D-4B34-996C-87ABD257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66D-E7A6-42CE-8F75-4FB85C18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B61-1E0F-44B1-BD4F-8E5680E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3BC-1072-41BD-A08A-B1B38E5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D0E-C540-4679-9C9C-719F2C5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F29-D0C3-4761-AEE1-8AB71D0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3F8-7BC5-4B94-9559-AAF90F94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5E5-5122-4B94-BCED-3550062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73E-5685-4EFB-A994-DE6681A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6397-5081-4064-A7AF-6715D0357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4753440" y="-2686320"/>
            <a:ext cx="18466560" cy="18623880"/>
            <a:chOff x="-4753440" y="-2686320"/>
            <a:chExt cx="18466560" cy="18623880"/>
          </a:xfrm>
        </p:grpSpPr>
        <p:sp>
          <p:nvSpPr>
            <p:cNvPr id="6" name=""/>
            <p:cNvSpPr/>
            <p:nvPr/>
          </p:nvSpPr>
          <p:spPr>
            <a:xfrm flipH="1" rot="2520000">
              <a:off x="1089000" y="-1613520"/>
              <a:ext cx="2686680" cy="54547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2520000">
              <a:off x="-1554120" y="-471240"/>
              <a:ext cx="12068640" cy="1419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一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语法、词汇复习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352680"/>
            <a:ext cx="6477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讲人： 刘雪清 （高级教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方交大附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播出时间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早上他不可能在会上作过报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时我在街上遇见过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819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 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poken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t the meeting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orning, for I saw him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reet t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觉得这些饭菜怎麽样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极了！我们不可能找到比这家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的饭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048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do you like the food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xcellent!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fou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better restaur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—Alice always gets the best grade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 class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e ______ study very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may   C. can    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—I think this watch belongs to J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it _____ belong to him. He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t come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 B. may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Don’t believe him. His story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e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B.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—She must have gone back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she _____ . I saw 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ading room jus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not               B. must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— Is the film on in the cinema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____  be, but I’m not too 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an not                 B. must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nee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886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18960" y="22860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 ____ it be Liu Ling who com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                C. May   D. M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must have left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. must have lef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1426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eneral Revisio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 24 and Unit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Review the following par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Model verbs: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ust, m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ight,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Sentenc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ords &amp;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ight be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A. migh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dis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Marx was already in 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ies,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study the situation in Russ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Unit 21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t …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514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visit Mr. Wang an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im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ook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n his return from his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house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lean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26668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is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 tru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ities I vi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pers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as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 at the momen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此句中的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to ask for help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作定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320" y="1904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to 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52120" y="1523520"/>
            <a:ext cx="586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think you will find it very pleasant ________ (be) here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ow surprised she was when she found her necklace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523880"/>
            <a:ext cx="5943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I think you will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very pleasant ________ (be)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e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How surprised she was when s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r neckla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found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found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any peopl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ti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waiting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9625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o … that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apid progres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fore long he began to write articles in English for an American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fact, his English in one of these articles was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goo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ngels wrote him a letter and  praised him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What a lot of invitations to send ou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Yes, here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b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ver two hund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e.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nit 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phone rang but I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didn’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hear it.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bee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a good book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honest a boy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good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ones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bo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printing technology then 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printing technolog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n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good a book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b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much courage ___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courag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267080"/>
            <a:ext cx="647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名词前有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many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much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littl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few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修饰时用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o…that …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ant 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on’t feel like walking very much today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feel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介词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，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look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soun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,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’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d lik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d like to do some shopping, but not during the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ant to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can’t          can’t / couldn’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just had lunch. You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an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alk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st me without speaking. Sh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(couldn’t) have see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feel like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Would you like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4479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eel 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447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ike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要做某事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让某人做某事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doing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iv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t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y about DN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13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pened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p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ould you mind if I ______   (point) out your mistak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Do you mind if I ____ (call) your first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ould you mind ________ (wait) a few minu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mind 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t)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3840" y="14479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ai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048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(my/me) si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ould you mind _______ (speak) a little more slow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Would you mind if I ______(use) your diction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做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 di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让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g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What about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 ap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y mother would rather I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idn’t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d much rather ____ (stay) at home for a quiet week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’d like _______ (bring) in a new mach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765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has promised to attend the meeting. So she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nd is wet. It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have ra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uring the n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I’d rather you _____ (come) on Fri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205704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个词都表 “花费；付出代价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他们的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主语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不同，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搭配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d time / money in doing /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h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n hou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washing the c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lf my mone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… for …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…… 的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出代价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di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o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wrong-do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s for it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ost (sb.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st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后可以接时间金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付出代价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pace trave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ust cost a great de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 well in my lesson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cost m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ot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得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(money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多少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really 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is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wor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ach of the stamp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worth a pe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o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057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5639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The heroic deed ______ him hi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快点。你妈妈一定在等我们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位肯定就是你们的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057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urry up. Your mother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aiting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for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at man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your teac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2209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耕翻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反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o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ow and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ive a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忙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从…… 敲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逐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000" y="23623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29718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bus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42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nock ou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2080" y="38862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after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by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ck                   think abou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and then       hit; str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gainst            from time to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der               fight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429000"/>
            <a:ext cx="213372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724280"/>
            <a:ext cx="14475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191120"/>
            <a:ext cx="83808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71800" y="3581280"/>
            <a:ext cx="1752480" cy="19814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514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          call sb. on the 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et through      ask sb. to leave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ing up             manage to pas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64832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38280" y="3809520"/>
            <a:ext cx="1524240" cy="1676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6320" y="25142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up        be present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            be will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           invent (words, story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        take or get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62320" y="4190760"/>
            <a:ext cx="12189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3505320"/>
            <a:ext cx="1371600" cy="7617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581280"/>
            <a:ext cx="83808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5627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 been 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n been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tt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Ex.12 P.112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x.13 P.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Go over the check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Unit 24-2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Do Ex. 19 and 20 P.1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面很湿。刚才想必下过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为什么显得这么疲倦？你可能昨晚又开夜车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’s wet outside. 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raine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jus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Why do you look so tired?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have stayed up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lat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觉得玛丽明天早上可能会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年暑假他们想去海南，不过也有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去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think Mary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114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y’d like to go to Haina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liday this summer, but 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ight go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to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他们不可能出去，因为灯还开着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最好先打个电话。他可能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要去那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y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n’t have gon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cause the light is 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’d better make a phon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all first.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y not kn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hat we will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08:46Z</dcterms:created>
  <dc:creator>lk</dc:creator>
  <dc:description/>
  <dc:language>en-US</dc:language>
  <cp:lastModifiedBy>m</cp:lastModifiedBy>
  <dcterms:modified xsi:type="dcterms:W3CDTF">2003-06-24T03:36:53Z</dcterms:modified>
  <cp:revision>711</cp:revision>
  <dc:subject/>
  <dc:title>General Revision</dc:title>
</cp:coreProperties>
</file>