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058-1DEE-4E8A-9E31-35634BD3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D3E-F96E-4F7C-9382-F7E3E000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CDA-FA8F-4EC1-B0F8-1FBC4FC9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F26-5E03-463F-865E-999AB683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71B-4FEC-415B-91B9-B3388F07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F31-7923-4361-9292-A73DB4CF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E22-3C13-4B02-9933-D134389D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6AF-CE5B-40D5-874F-A53FF85E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DFD-E86F-4EFC-AEF9-2F490342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859-32DC-42D7-A67A-A488E226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EA6-47E4-4691-A6DB-8572DD8F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E4E-1F78-4040-A5A0-55165F89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9AAA-E8DB-400B-B182-CEE7AD7DF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introductoin.ppt#Slide 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4520" y="1197000"/>
            <a:ext cx="274104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/>
              </a:rPr>
              <a:t>过去分词概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定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表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状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补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练习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6948360" y="530064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1468" y="7493"/>
                </a:moveTo>
                <a:lnTo>
                  <a:pt x="14976" y="7493"/>
                </a:lnTo>
                <a:lnTo>
                  <a:pt x="14976" y="12828"/>
                </a:lnTo>
                <a:cubicBezTo>
                  <a:pt x="14976" y="13751"/>
                  <a:pt x="15777" y="14482"/>
                  <a:pt x="16812" y="14482"/>
                </a:cubicBezTo>
                <a:lnTo>
                  <a:pt x="18475" y="14482"/>
                </a:lnTo>
                <a:cubicBezTo>
                  <a:pt x="19510" y="14482"/>
                  <a:pt x="20311" y="13751"/>
                  <a:pt x="20311" y="12828"/>
                </a:cubicBezTo>
                <a:lnTo>
                  <a:pt x="20311" y="7493"/>
                </a:lnTo>
                <a:lnTo>
                  <a:pt x="18475" y="7493"/>
                </a:lnTo>
                <a:lnTo>
                  <a:pt x="21982" y="3985"/>
                </a:lnTo>
                <a:lnTo>
                  <a:pt x="25655" y="7493"/>
                </a:lnTo>
                <a:lnTo>
                  <a:pt x="23819" y="7493"/>
                </a:lnTo>
                <a:lnTo>
                  <a:pt x="23819" y="12828"/>
                </a:lnTo>
                <a:cubicBezTo>
                  <a:pt x="23819" y="15596"/>
                  <a:pt x="21242" y="18155"/>
                  <a:pt x="18475" y="18155"/>
                </a:cubicBezTo>
                <a:lnTo>
                  <a:pt x="16812" y="18155"/>
                </a:lnTo>
                <a:cubicBezTo>
                  <a:pt x="14045" y="18155"/>
                  <a:pt x="11468" y="15596"/>
                  <a:pt x="11468" y="12828"/>
                </a:cubicBez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1:40:42Z</dcterms:created>
  <dc:creator>李徐琴</dc:creator>
  <dc:description/>
  <dc:language>en-US</dc:language>
  <cp:lastModifiedBy>赵晨盼</cp:lastModifiedBy>
  <dcterms:modified xsi:type="dcterms:W3CDTF">2002-11-03T13:20:24Z</dcterms:modified>
  <cp:revision>5</cp:revision>
  <dc:subject/>
  <dc:title>幻灯片 1</dc:title>
</cp:coreProperties>
</file>