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B31-C68E-4927-93B0-E440A058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CE1-A5C4-4C59-812F-8B02045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B5A-5288-405A-B792-ABCE941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349-43AE-45A1-A74A-0B47FB11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45A2-A099-4391-8804-787A1C7B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574-5DBF-4258-8005-7E862E9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56B-E7CD-4C89-AAF9-9DD594A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A91A-6C19-476F-9620-2171F03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301-38AD-42B2-98BD-932438A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FC47-8BEF-4F10-93B4-71F7CE4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31A1-DCDC-4787-9025-3DAC73AE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C79-7352-476E-9484-F8EC64F6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357-4516-4774-BF8D-F50B4AC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F8C2-80E0-4A95-897D-AAE45B6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100D-0DA9-48E5-8766-EAAE1A14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56AB-1825-412E-B940-1DE71F1F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B3E-A373-428F-B62E-32D6448B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FB5-2596-41EB-8813-1EC125F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AC2-1A3C-4E9F-8AC3-2A50943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9EA-C82B-454C-BE31-5E9FDEEE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6D4-8C37-43EB-A671-CF9D43A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5AF-613A-4871-85F6-0B59831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126-756C-4A2B-B592-2EE8F2D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976-3B25-485A-9F01-B23798C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FD9-2F27-4D0B-966B-563057AFB794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17EA-C0A8-4C52-A66F-E85E2D52902F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5329440" cy="779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三、过去分词作状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844640"/>
            <a:ext cx="71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en from the mounta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our school looks beautiful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nes and Smith came,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llowed by their wi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92080" y="2602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状语的用法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说明发生的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20500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Built in 1192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bridge is over 700 years o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r. Cooper,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deeply mov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anked him again and aga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8120" y="907920"/>
            <a:ext cx="91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表示原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492280"/>
            <a:ext cx="79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Born into a farmer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famil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he had only two years of school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8320" y="1060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时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84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Seen from the hil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town looks beautifu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2680" y="844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条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060640"/>
            <a:ext cx="750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Given more attention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cabbages could have grown bet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2492280"/>
            <a:ext cx="81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词作状语时，它的逻辑主语必须与句子主语</a:t>
            </a:r>
            <a:r>
              <a:rPr b="1" lang="zh-CN" sz="4800" spc="-1" strike="noStrike">
                <a:solidFill>
                  <a:srgbClr val="99ff33"/>
                </a:solidFill>
                <a:latin typeface="Arial"/>
              </a:rPr>
              <a:t>一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0:40Z</dcterms:created>
  <dc:creator>李徐琴</dc:creator>
  <dc:description/>
  <dc:language>en-US</dc:language>
  <cp:lastModifiedBy>赵晨盼</cp:lastModifiedBy>
  <dcterms:modified xsi:type="dcterms:W3CDTF">2002-11-03T13:19:41Z</dcterms:modified>
  <cp:revision>5</cp:revision>
  <dc:subject/>
  <dc:title>三、过去分词作状语</dc:title>
</cp:coreProperties>
</file>