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C1B-FFEE-4580-9913-6D133BEA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A06-9D8F-4E9B-A881-BAF24135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2E2-8924-4F48-A2D5-B4F94802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2A6-B6B3-4A6D-AE82-9D5E318E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C360-0E61-41FF-9128-05DBB500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4CA2-49B7-46A7-AD04-488397FF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F3CA-1B44-4BB6-9B5C-0F854471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1E88-0844-4AA7-9261-138E7A34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CF01-D33F-41E5-BE6C-ABF23BE4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7B7A-8794-45D8-9326-D5E35F74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B76E-4450-40AD-95CD-132FBC4C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B2D-15C8-4801-BB39-134D0BC3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C437-CF50-4A13-B28C-0595003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2E7D-2789-4712-A723-3D6310FB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4907-BB26-406A-93ED-B12B62AC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7F72-0D14-410D-978C-33AA3AF5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0E8F-549B-497A-BF5C-E14A090E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AB7-0C2D-4D1C-AA88-E14AA63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F4F-A4A0-4AE9-9F2B-96D48938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CA3-FF82-42B5-B341-28D93819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D9E-BF93-4986-8F34-AFA4D316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EBE-18E7-4127-BC46-4858D324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340-E2FE-48B2-ABE7-E4BFEDBB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348-C61C-43F2-A5BD-A58BDFA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E6D-2B57-406C-97D9-948CB3844EB5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D00-1D43-44D5-A951-9354EFB0A8A1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3880" y="685800"/>
            <a:ext cx="611208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四、过去分词作宾语补足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1960" y="2060640"/>
            <a:ext cx="6738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常见的句式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．使役动词或感官动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(have, make, see, hear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watch,notice, fee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＋宾语＋过去分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0512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Yesterday 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my bicyc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repair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The teacher spoke so slowl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 that he could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mak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im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understoo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7400" y="2133720"/>
            <a:ext cx="8253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On my way back home, 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ear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y nam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all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.Yesterday sh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r walle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tol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when she was do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opping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14720" y="380880"/>
            <a:ext cx="657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keep, leave, get, fin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＋宾语＋过去分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00" y="2666880"/>
            <a:ext cx="8547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If I get further information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ll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keep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nform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When I came into the classroom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foun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lear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914400"/>
            <a:ext cx="8169120" cy="76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介词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＋宾语＋过去分词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9360" y="2514600"/>
            <a:ext cx="7473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The child was cry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with the glass broken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With all the work finish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y hurried back home fo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unc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"/>
          </p:cNvPr>
          <p:cNvSpPr/>
          <p:nvPr/>
        </p:nvSpPr>
        <p:spPr>
          <a:xfrm>
            <a:off x="7164360" y="558972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41:59Z</dcterms:created>
  <dc:creator>李徐琴</dc:creator>
  <dc:description/>
  <dc:language>en-US</dc:language>
  <cp:lastModifiedBy>赵晨盼</cp:lastModifiedBy>
  <dcterms:modified xsi:type="dcterms:W3CDTF">2002-11-03T13:18:39Z</dcterms:modified>
  <cp:revision>2</cp:revision>
  <dc:subject/>
  <dc:title>幻灯片 1</dc:title>
</cp:coreProperties>
</file>