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16D-D293-4FEB-874C-C5EAC70F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311-9677-48A0-86B7-11CA5131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09B-7D21-47C2-B798-7C04B066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CA2-AC29-462B-BBD0-92714927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926E-354D-42FC-B32A-99A8C50B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E002-6DA9-46D3-B85C-C5114138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CAC-28B8-4D59-AD14-F2B6D51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F514-C42B-45BC-A40B-9F309A3D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3A71-69DA-498D-A209-B19104A6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B8E0-86F6-4E5D-81A8-481C3849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BE5E-D2A6-4FB2-B646-3D248DF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041-0E2A-4FB9-BFCE-1686D341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928-431B-45E2-BCC0-26571E9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4793-3CA5-4B27-8736-C66479D2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9230-FB8C-4B03-9DF6-30DC71DE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244B-845D-4A0C-B14F-3F6C0925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421C-F8BB-452F-B2A7-82273F6A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368-294A-4C50-B88F-52B0983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9FF-F895-4592-BB5B-31F26F79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6C0-22BA-4D8B-ABF7-7318BBCC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982-605D-4F4E-B92F-ACF40778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84F-B982-448F-884A-D470091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124-1CFE-40FE-B0AA-993E0F23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CC3-3B95-4D08-BE10-6C623D07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BB5-D73E-40A5-BED9-5EA434CAC4C4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598-E1A2-4C93-BF8A-EAC187AEC720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920" y="620640"/>
            <a:ext cx="48927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二、过去分词作表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18160"/>
            <a:ext cx="8351640" cy="143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表语时，分词所表示的动作与句子的主语构成逻辑上的动宾关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628640"/>
            <a:ext cx="84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what he sai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the meeting yesterday 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e said at the mee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esterday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206064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一个分词是否成为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形容词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的一个标志就是看它是否可以和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very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连用，来表示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很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、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非常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这样的概念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1120" y="1530360"/>
            <a:ext cx="69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表语时，表示主语所处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状态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而被动结构表示所承受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动作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2708280"/>
            <a:ext cx="80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ere surpris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This lak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is badly pollut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by a paper mi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197000"/>
            <a:ext cx="2232360" cy="792000"/>
          </a:xfrm>
          <a:prstGeom prst="wedgeRectCallout">
            <a:avLst>
              <a:gd name="adj1" fmla="val -40754"/>
              <a:gd name="adj2" fmla="val 147796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表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5229360"/>
            <a:ext cx="3097440" cy="936360"/>
          </a:xfrm>
          <a:prstGeom prst="wedgeRectCallout">
            <a:avLst>
              <a:gd name="adj1" fmla="val -24986"/>
              <a:gd name="adj2" fmla="val -159490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被动结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97480" y="2276640"/>
            <a:ext cx="7531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r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u Xun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 buri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Everything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settl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were frighten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felt astonish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43480" y="533520"/>
            <a:ext cx="5658120" cy="210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现在分词及其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表语时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词所表示的动作与句子的主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构成逻辑上的主谓关系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160" y="3352680"/>
            <a:ext cx="860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ing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d we w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 excit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exciting and 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 al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77724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is a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The students are confused by the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tudent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7020000" y="5516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9:06Z</dcterms:created>
  <dc:creator>李徐琴</dc:creator>
  <dc:description/>
  <dc:language>en-US</dc:language>
  <cp:lastModifiedBy>赵晨盼</cp:lastModifiedBy>
  <dcterms:modified xsi:type="dcterms:W3CDTF">2002-11-03T13:18:59Z</dcterms:modified>
  <cp:revision>2</cp:revision>
  <dc:subject/>
  <dc:title>幻灯片 1</dc:title>
</cp:coreProperties>
</file>