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AF0-1B65-4595-B474-BAEA8CBD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BDA-AD00-416D-9A4C-5F862F27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2D2-DF17-4152-9B04-726BFB5F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914-E48A-48B3-8207-6234A8F1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0D5B-E014-47AC-860A-6A3E61DF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2CC1-5CE1-4A14-A6BD-1A73A7B1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B152-36F2-453E-848D-FDB20A24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B660-5040-4FCE-A1F1-7B117DDC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3A51-8FFB-4544-A5E9-4EAF4DCF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9B63-A703-46D7-AACE-BEED0015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3474-A3F0-440A-B1B5-5AF9DEC3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661-3231-4041-A08D-964CC355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BEAA-2CF5-4161-BED5-BA8571DE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24F4-8BB5-4653-AD10-09A2045D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D3F3-0F27-4DBC-8515-44B17605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15B7-81A2-4B5C-BF0A-220164F0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BE71-2646-4DDB-B139-4BA8EAA0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274-CF52-4961-A9D5-964C939F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3A0-2FF1-42EF-B199-02294549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ABB-4945-4438-9640-7A749E3E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B83-6EF2-4333-A55D-D2979B01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8E8-BCF0-4F08-92F3-BAC9D133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265-9537-411E-8653-036FAE3E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DFA-878E-4725-A146-EAE41BCE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A6A4-958D-4C4D-8172-979FDE61293B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17B0-8DD8-4762-9581-EBBD3F963058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98108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he computer center,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ast year, is very popular among the students in this school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open      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op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aving opened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ope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32080" y="34920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computer center,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which was opened last year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6093000"/>
            <a:ext cx="26672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855720"/>
            <a:ext cx="75675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problem just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s an important one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e referred to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referred to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referring to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referre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4581360"/>
            <a:ext cx="46796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779400"/>
            <a:ext cx="8381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story was so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at all of us were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tears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ing; moving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ed; moved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ed; moving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ing; move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6021360"/>
            <a:ext cx="59770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236600"/>
            <a:ext cx="889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hen I entered the theatre, I saw him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 the first row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it down     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at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eated        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eatin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941720"/>
            <a:ext cx="33130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3129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 found my daughter quite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 drawing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terested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terest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teresting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interest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500280"/>
            <a:ext cx="4392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765000"/>
            <a:ext cx="7580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e had his le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 the football match yesterday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reak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roken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reak   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reakin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4437000"/>
            <a:ext cx="33116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549360"/>
            <a:ext cx="860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f you have a book in front of  your face, you can feel the air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gainst your face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ing    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ed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e moved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mo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221000"/>
            <a:ext cx="33116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9280" y="1541520"/>
            <a:ext cx="8301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6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ith the jo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y went to the cinem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oing       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o         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do        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on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450864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404640"/>
            <a:ext cx="8273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7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ith the boy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way, the soldiers managed to walk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rough the forest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lead     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led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leading       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e lead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589720"/>
            <a:ext cx="3382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" y="620640"/>
            <a:ext cx="8375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efore he came to London, he had never heard a single English wor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peaking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peak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poken       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spea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5805360"/>
            <a:ext cx="33130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89080" y="549360"/>
            <a:ext cx="8854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9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program was so exciting that the children kept their eyes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on the screen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fixed     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fix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e fixed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fix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4221000"/>
            <a:ext cx="26672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7040" y="2076480"/>
            <a:ext cx="881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he first textbooks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fo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eaching English as a foreig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anguage came out in the 16th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entury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eing written   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be writt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eing writing   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ritt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7440" y="762120"/>
            <a:ext cx="86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extbooks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which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／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that were written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617220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85572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2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captain placed the flag over the boy, leaving only his face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uncover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uncovering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e uncovered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uncovere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6093000"/>
            <a:ext cx="4608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6440" y="982800"/>
            <a:ext cx="8323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2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he was very glad to see her child well ____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ake care of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aken care of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take care of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aking care of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4653000"/>
            <a:ext cx="54734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rId1"/>
          </p:cNvPr>
          <p:cNvSpPr/>
          <p:nvPr/>
        </p:nvSpPr>
        <p:spPr>
          <a:xfrm>
            <a:off x="6948360" y="530064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8520" y="1828800"/>
            <a:ext cx="7644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he Olympic Games,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776BC, did not include wo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players until 191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first play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be first play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first play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be first play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22200" y="457200"/>
            <a:ext cx="675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Olympic Games,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which we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first played in 776BC,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00000" y="5866920"/>
            <a:ext cx="3672000" cy="97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2280" y="3213000"/>
            <a:ext cx="804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leaning women in big citi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usually get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＿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y the hour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pay       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paying    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paid       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p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75440" y="609480"/>
            <a:ext cx="3472560" cy="2288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过去分词及过去分词短语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表语时，分词所表示的动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与句子的主语构成逻辑上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动宾关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602136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3480" y="2286000"/>
            <a:ext cx="821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s we joined the big crowd, 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got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＿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from my friends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eparated       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pared    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ost                  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miss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365720"/>
            <a:ext cx="3166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6120" y="2209680"/>
            <a:ext cx="8544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he speaker raised his voic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ut still couldn’t make himself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ar          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hear 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aring     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494172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779400"/>
            <a:ext cx="8218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7.He told me about the things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t the meeting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discuss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eing discussed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iscussed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e discusse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5229360"/>
            <a:ext cx="446400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765000"/>
            <a:ext cx="8367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 metal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uranium gives off a kind of radiation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alling       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alled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s called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hich call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3716280"/>
            <a:ext cx="26672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197000"/>
            <a:ext cx="8751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The water in this glass is too hot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I prefer some cold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water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to boil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having boiled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boiled    D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boil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30064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01:33:00Z</dcterms:created>
  <dc:creator>Legend User</dc:creator>
  <dc:description/>
  <dc:language>en-US</dc:language>
  <cp:lastModifiedBy>Legend User</cp:lastModifiedBy>
  <dcterms:modified xsi:type="dcterms:W3CDTF">2002-11-10T10:21:49Z</dcterms:modified>
  <cp:revision>6</cp:revision>
  <dc:subject/>
  <dc:title>PowerPoint 演示文稿</dc:title>
</cp:coreProperties>
</file>