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68D-437E-4041-949F-27BB06C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E23-9338-4050-9B7D-ECB3E0D5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B8A-CF20-4560-A3A6-BF1B8CBE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894-1DB0-495C-B452-6A548CD4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9BB-156F-4045-B14D-13DADD6E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EBF-654F-40F3-BEAA-95B041FC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266-C764-4C5C-90A3-8D99881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078-4928-48D5-9852-34C8B01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A57-1A55-4828-894D-16B018F7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9B32-42E4-414F-A17C-CA4207D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DE0B-50AF-459E-9F9E-D0248190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74F-A37F-428B-8833-7CC4505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16F5-7F4E-480A-B9FE-4EBE029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3F57-EA1D-49A9-BE37-63F85CE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4C9F-C365-4B14-A8B5-EE10E78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92C1-6273-486E-9D3D-3946A003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FC2-110E-4AF4-BDB5-01F5A7CC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641-61D6-4845-BF9D-F5E59DA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B59-B2F4-4ED2-A382-BB6FB951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D54-CEDA-4B67-94FA-6D1B1473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1D3-F4A9-42CF-A9BA-2B6E6491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8D3-0FF1-4EA8-B201-E07DDC4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D90-2461-4AF0-B42E-5DE876E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C87-0740-4D4F-B58A-932632FA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474-1480-4B7D-8ACD-E0FD69446E8A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9819-C1E7-4026-AB30-709113AB8319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155736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分词有两种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现在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过去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二者主要在意义上有</a:t>
            </a: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主动、被动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之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1700280"/>
            <a:ext cx="729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s is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hear i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someon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ing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the door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765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含有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之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6789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ough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field is a field which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has been plough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79680" y="836640"/>
            <a:ext cx="453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现在分词表示 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正在进行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7480" y="2060640"/>
            <a:ext cx="453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ing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ed 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ing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en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2305080" cy="100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-e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拼法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2448000" cy="3888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t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pe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p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jo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ud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gin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989000"/>
            <a:ext cx="2552760" cy="3702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op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udi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g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7667640" y="587700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5:53Z</dcterms:created>
  <dc:creator>李徐琴</dc:creator>
  <dc:description/>
  <dc:language>en-US</dc:language>
  <cp:lastModifiedBy>赵晨盼</cp:lastModifiedBy>
  <dcterms:modified xsi:type="dcterms:W3CDTF">2002-11-03T13:19:37Z</dcterms:modified>
  <cp:revision>3</cp:revision>
  <dc:subject/>
  <dc:title>幻灯片 1</dc:title>
</cp:coreProperties>
</file>