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10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FD863-7236-491B-A2C2-734E3B0AD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ACBCD-FDEF-4CF1-B11B-BF33DCCF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DA9F6-CF4F-419C-B3D4-0646BFA7A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ADD94-4532-423B-BC3B-6DBD9708F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54D3-2E6D-4A2A-84D5-D38A10096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C111-72CE-4D0A-86C9-3AFECB0D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0461-1D2C-4ECB-9B56-A2CE658A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F8D5-A133-42AC-B345-36680008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97B9-0A92-41B3-98E1-B469D319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39A7-804A-4126-BBFF-5C4BAD79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47B7-F64C-451F-B3C9-93D3D321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7DDCD-724F-471A-B6B7-3C22FE76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D463-F6A2-4D7E-A99F-230C9947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5698-1EFF-4052-ACD0-33498229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44CC-566B-446A-ADC7-3836405A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F893-5305-480D-8221-C609B0946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E182-EF6E-47A6-8B30-8C11CFEE2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B4FD1-8491-4087-8696-AD278BE7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3DFEB-4969-4C20-BE5A-5D64958D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D9627-9807-4A0F-9401-F13BF3AB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1A0BF-124C-441E-9974-1933A5B7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A9B28-F758-4DD2-BDAB-B4AFAFED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13B37-2F2B-402E-878A-2A6BE755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8B852-97FB-439C-82B3-B9BA6CCE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21DA-B090-4509-AB87-2A839C5E672A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9C93-9C74-49DA-AEF2-69F6E8A51ABE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aids.alms.cz/aids/english/facts_2.htm#sex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aids.alms.cz/aids/english/facts_2.htm#blood" TargetMode="External"/><Relationship Id="rId5" Type="http://schemas.openxmlformats.org/officeDocument/2006/relationships/image" Target="../media/image1.png"/><Relationship Id="rId6" Type="http://schemas.openxmlformats.org/officeDocument/2006/relationships/hyperlink" Target="http://aids.alms.cz/aids/english/facts_2.htm#needle" TargetMode="External"/><Relationship Id="rId7" Type="http://schemas.openxmlformats.org/officeDocument/2006/relationships/image" Target="../media/image1.png"/><Relationship Id="rId8" Type="http://schemas.openxmlformats.org/officeDocument/2006/relationships/hyperlink" Target="http://aids.alms.cz/aids/english/facts_2.htm#mother" TargetMode="External"/><Relationship Id="rId9" Type="http://schemas.openxmlformats.org/officeDocument/2006/relationships/hyperlink" Target="http://aids.alms.cz/aids/english/facts_2.htm#mother" TargetMode="External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Arial"/>
              </a:rPr>
              <a:t>我的故事</a:t>
            </a: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 </a:t>
            </a:r>
            <a:br>
              <a:rPr sz="4000"/>
            </a:b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深圳首位艾滋患者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:</a:t>
            </a:r>
            <a:br>
              <a:rPr sz="4000"/>
            </a:b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一次好奇失去一切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HIV can be transmitted through unprotected sexual intercourse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34531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How HIV is transmitte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date, there are only four primary methods of transmissio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sexual intercourse (anal and vaginal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4"/>
              </a:rPr>
              <a:t>contaminated blood and blood products, tissues and organs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6"/>
              </a:rPr>
              <a:t>contaminated needles, syringes and other piercing instruments;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8"/>
              </a:rPr>
              <a:t>mother-to-child transmission (MTCT).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9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971640" y="266760"/>
            <a:ext cx="6337080" cy="63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How HIV is not transmitte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mily, friends and co-workers should not fear becoming infected with HIV through casual contact with an HIV-infected person at home, at work, or sociall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se activities will not transmit the viru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shaking hands, hugging or kissing 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2782800" y="1916280"/>
            <a:ext cx="389592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coughing or sneezing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1835280" y="2019240"/>
            <a:ext cx="626580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getting a mosquito or insect bite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1258920" y="1481040"/>
            <a:ext cx="532908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sharing food, eating or drinking utensils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2454120" y="1557360"/>
            <a:ext cx="43545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using drinking fountains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2519280" y="1628640"/>
            <a:ext cx="4356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using toilets or showers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2519280" y="1628640"/>
            <a:ext cx="4554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他出生在湖南一个偏僻的农村山沟，家里祖祖辈辈才培养出他这么一个研究生，方圆几十里都曾以他为荣。 </a:t>
            </a:r>
            <a:br>
              <a:rPr sz="4000"/>
            </a:b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　  然而，人生中仅有的一次“好奇”冒险，仅有的一次国外红灯区的性生活经历，他就染上了艾滋病。从此，他失去了工作，失去了家庭，失去了儿子，失去了住所，失去了亲朋好友，失去了他所拥有的一切。 </a:t>
            </a:r>
            <a:br>
              <a:rPr sz="4000"/>
            </a:b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12</a:t>
            </a:r>
            <a:r>
              <a:rPr b="1" lang="zh-CN" sz="4000" spc="-1" strike="noStrike">
                <a:solidFill>
                  <a:srgbClr val="dfdef6"/>
                </a:solidFill>
                <a:latin typeface="Arial"/>
              </a:rPr>
              <a:t>年前发现感染去年发病 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using a public phone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2454120" y="1557360"/>
            <a:ext cx="46850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using public swimming pools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2387520" y="1484280"/>
            <a:ext cx="47516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opening a door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2387520" y="1484280"/>
            <a:ext cx="47516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55640" y="27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　  他是深圳市第一个被发现感染艾滋病毒的患者，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1992</a:t>
            </a: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年出国学习时在红灯区染病，去年开始发病。记者面前的李意辉（化名）懊悔万分，艾滋病毁掉了他的前程，毁掉了他的一切。 </a:t>
            </a:r>
            <a:br>
              <a:rPr sz="4000"/>
            </a:b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　  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55280" y="2997360"/>
            <a:ext cx="7777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Arial"/>
              </a:rPr>
              <a:t>山沟里出的名牌大学研究生 </a:t>
            </a:r>
            <a:br>
              <a:rPr sz="4000"/>
            </a:b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　  记者在东湖医院病房见到他时，李意辉看上去挺年轻，憨厚朴实。 </a:t>
            </a:r>
            <a:br>
              <a:rPr sz="4000"/>
            </a:b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　  李意辉告诉记者，自己出生在湖南一个非常偏僻的农村，他靠着勤奋考上大学，又接着考上一所名牌大学读研究生，当时他是村里的骄傲。 </a:t>
            </a:r>
            <a:br>
              <a:rPr sz="4000"/>
            </a:b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　  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1990</a:t>
            </a: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年，研究生毕业以后，李意辉来到了深圳。 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2781000"/>
            <a:ext cx="9144000" cy="20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Arial"/>
              </a:rPr>
              <a:t>赴英培训在红灯区染上艾滋 </a:t>
            </a:r>
            <a:br>
              <a:rPr sz="4000"/>
            </a:b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　  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1992</a:t>
            </a: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年初，李意辉被派赴英国学习一年。到了英国，对艾滋病并没有深刻认识、又是第一次出国的他，对什么都充满新奇。就因为好奇，李意辉走进了一家并不高档的高危红灯区经营场所，搭讪了一个非常诱人的金发碧眼的姑娘，可他却没有意识到她的危险，没有采取任何保护措施。 </a:t>
            </a:r>
            <a:br>
              <a:rPr sz="4000"/>
            </a:b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李意辉说，就是这一次，他倒霉地感染上了艾滋。 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查出艾滋病毒后失去工作 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家搬了一次又一次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忍痛离开妻儿一个人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曾在小岛生活了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年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记者手记：他是一个好人 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395280" y="446040"/>
            <a:ext cx="828036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17236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324000" y="247680"/>
            <a:ext cx="8351640" cy="62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</cp:lastModifiedBy>
  <dcterms:modified xsi:type="dcterms:W3CDTF">2004-10-02T03:34:54Z</dcterms:modified>
  <cp:revision>2</cp:revision>
  <dc:subject/>
  <dc:title>PowerPoint Presentation</dc:title>
</cp:coreProperties>
</file>