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4F97-8252-4507-92F1-353DAEEFA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G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D7F-53D0-4A5A-B0A4-779F4174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D76-79FD-4DCD-8752-6B639AF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7A5-7984-4688-BAEF-7656F964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976-BEE9-41C6-B817-C5B425F1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1F0-D440-4C5E-9705-0942C4A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039-40B6-419C-AA49-9F560B21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99F-64A8-4824-B5FD-3D35943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955-100E-429F-A056-C062D6D1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755-8C9D-4570-B910-C72A486A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598-17A4-4FB7-805C-5B3D876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9E5-6256-4DF1-B79F-D9DABF4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0C7-A4F6-43A4-A431-67426EC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68A-E810-467B-8666-FE955D8D4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685800"/>
            <a:ext cx="6934320" cy="6172200"/>
          </a:xfrm>
          <a:prstGeom prst="rightArrow">
            <a:avLst>
              <a:gd name="adj1" fmla="val 50000"/>
              <a:gd name="adj2" fmla="val 2808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are really tir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 daily stres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ich you have to go throug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NTETRABAJ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Never stop lov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7920" y="198072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AMASIEMPRE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OTEMASALOSGRANDE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7692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afraid of others, because they are bigger than you.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l size could be measured in the wisd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nd finally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ook in the mirror and think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“I’m beautifu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YLINDO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029200" cy="449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272200">
            <a:off x="3417480" y="5263920"/>
            <a:ext cx="52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w, enjoy your day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lax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CONEJOTRABAJ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lay solitair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240" y="228564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GATOCOMPUT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Enjoy the fiel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5640" y="1981080"/>
            <a:ext cx="480060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ZORROLINGO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some su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120" y="198072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TOMARSOL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refres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360" y="198072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65" name="REFRESQUESE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34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be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2840" y="198072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UNACERVEZA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rid of the horrible diets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(after all you are not so fat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FINDEDIETA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OMUERDASPROJIMO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Don’t unload your anger on oth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5:35:15Z</dcterms:created>
  <dc:creator>PROMOVISAO</dc:creator>
  <dc:description/>
  <dc:language>en-US</dc:language>
  <cp:lastModifiedBy>user</cp:lastModifiedBy>
  <dcterms:modified xsi:type="dcterms:W3CDTF">2001-09-27T06:13:39Z</dcterms:modified>
  <cp:revision>7</cp:revision>
  <dc:subject/>
  <dc:title>Se está cansado do stress a que todos os dias é submetido...</dc:title>
</cp:coreProperties>
</file>