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CF96-DBEC-4B30-98C3-EF60900A0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911240" y="4884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368A-8E70-4D02-967E-FBBCD9887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91124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9120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6394-DED4-44F9-8B47-251C26418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07520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3952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91124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07520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3952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36D9-1F54-4099-BEE0-74060115A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FB3E4-7ACC-4E03-B108-37E777FE1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CB382-6895-421C-9DD1-5C6182AD6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4C4A9-3541-47F9-8AF3-D70C36A07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E5B48-C0BE-4E81-8AC0-744DB5BF8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40B63-2763-49A9-B605-2E312DD6F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04760" y="1676520"/>
            <a:ext cx="6933960" cy="98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2D75D-C5BE-4A13-AAF7-C1318B41F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1124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B1BC2-08EC-4964-9448-1C7B40BA7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ADCF-A770-4556-8ECF-BD3974F01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9120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005BB-A329-47E3-BE97-340EAE4A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911240" y="4884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84793-8E43-466C-8438-DE8FB0680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911240" y="4884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1ACF7-54DB-408C-AAAD-4E8E43A42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91124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9120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0FF2C-B7B6-49BF-973E-77FD07145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07520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3952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91124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07520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3952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AC908-2CF2-4C88-B6AC-5DF6C4ADE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118E-BE53-45BD-9742-83CB33CD7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0498-CF65-4BD2-83EC-9B1D7DB10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11BB-DF1F-4E08-BC94-994AC4377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04760" y="1676520"/>
            <a:ext cx="6933960" cy="98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7F40-00A2-4530-A0EC-7B5689947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91124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50C0-769D-46E0-9B1E-13A6315E6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9120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D958-AC3B-4865-9B6B-4D0E4C5F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911240" y="4884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4698-2049-4560-BA5B-7BFA423FB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B0E85-52CE-4C0A-AFF5-71AB44BABCCD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55E63-7C3F-4976-A65A-1C5D8225069C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newpag41" descr=""/>
          <p:cNvPicPr/>
          <p:nvPr/>
        </p:nvPicPr>
        <p:blipFill>
          <a:blip r:embed="rId1"/>
          <a:stretch/>
        </p:blipFill>
        <p:spPr>
          <a:xfrm>
            <a:off x="1590840" y="1030320"/>
            <a:ext cx="5962320" cy="4795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562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            </a:t>
            </a:r>
            <a:r>
              <a:rPr b="0" lang="en-US" sz="4800" spc="-1" strike="noStrike">
                <a:solidFill>
                  <a:srgbClr val="ffcc66"/>
                </a:solidFill>
                <a:latin typeface="Monotype Corsiva"/>
              </a:rPr>
              <a:t>That is all</a:t>
            </a:r>
            <a:br>
              <a:rPr sz="4800"/>
            </a:br>
            <a:r>
              <a:rPr b="0" lang="en-US" sz="4800" spc="-1" strike="noStrike">
                <a:solidFill>
                  <a:srgbClr val="ffcc66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ffcc66"/>
                </a:solidFill>
                <a:latin typeface="Verdana"/>
              </a:rPr>
              <a:t>thank you!</a:t>
            </a:r>
            <a:br>
              <a:rPr sz="4800"/>
            </a:b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834920" y="2491920"/>
            <a:ext cx="76676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1045"/>
                </a:solidFill>
                <a:latin typeface="Times New Roman"/>
              </a:rPr>
              <a:t>          </a:t>
            </a:r>
            <a:r>
              <a:rPr b="0" lang="zh-CN" sz="3600" spc="-1" strike="noStrike">
                <a:solidFill>
                  <a:srgbClr val="ff1045"/>
                </a:solidFill>
                <a:latin typeface="Times New Roman"/>
              </a:rPr>
              <a:t>chen  longbo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1045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1045"/>
                </a:solidFill>
                <a:latin typeface="Times New Roman"/>
              </a:rPr>
              <a:t>Tai Shan Foreign   Language School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3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cover" descr=""/>
          <p:cNvPicPr/>
          <p:nvPr/>
        </p:nvPicPr>
        <p:blipFill>
          <a:blip r:embed="rId1"/>
          <a:stretch/>
        </p:blipFill>
        <p:spPr>
          <a:xfrm>
            <a:off x="2438280" y="1447920"/>
            <a:ext cx="5029200" cy="3429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   </a:t>
            </a: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Guess : who is he or she?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066320"/>
            <a:ext cx="4648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He is an excellent </a:t>
            </a:r>
            <a:r>
              <a:rPr b="1" lang="zh-CN" sz="2800" spc="-1" strike="noStrike" u="sng">
                <a:solidFill>
                  <a:srgbClr val="ff1045"/>
                </a:solidFill>
                <a:uFillTx/>
                <a:latin typeface="Times New Roman"/>
              </a:rPr>
              <a:t>gymnast 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and won three golden Olympic Games medals, and now he works in International </a:t>
            </a:r>
            <a:r>
              <a:rPr b="1" i="1" lang="zh-CN" sz="3200" spc="-1" strike="noStrike" u="sng">
                <a:solidFill>
                  <a:srgbClr val="ff1045"/>
                </a:solidFill>
                <a:uFillTx/>
                <a:latin typeface="Times New Roman"/>
              </a:rPr>
              <a:t>Gymnastics</a:t>
            </a:r>
            <a:r>
              <a:rPr b="1" i="1" lang="zh-CN" sz="3200" spc="-1" strike="noStrike">
                <a:solidFill>
                  <a:srgbClr val="ff1045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Union . He runs a firm selling shoes and T-shirts and so on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Times New Roman"/>
                <a:ea typeface="隶书"/>
              </a:rPr>
              <a:t>李宁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81480" y="1066680"/>
            <a:ext cx="3810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In 1998, a young and beautiful Chinese girl was doing exercises on a </a:t>
            </a:r>
            <a:r>
              <a:rPr b="1" lang="zh-CN" sz="2800" spc="-1" strike="noStrike" u="sng">
                <a:solidFill>
                  <a:srgbClr val="eaeaea"/>
                </a:solidFill>
                <a:uFillTx/>
                <a:latin typeface="Times New Roman"/>
              </a:rPr>
              <a:t>beam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 in the USA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when she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landed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unfortunately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 she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fell </a:t>
            </a:r>
            <a:r>
              <a:rPr b="1" lang="zh-CN" sz="2800" spc="-1" strike="noStrike" u="sng">
                <a:solidFill>
                  <a:srgbClr val="eaeaea"/>
                </a:solidFill>
                <a:uFillTx/>
                <a:latin typeface="Times New Roman"/>
              </a:rPr>
              <a:t>over 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and hurt badly. Now she is a disabled one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桑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o you like doing sports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00200" y="1600200"/>
            <a:ext cx="504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1219320"/>
            <a:ext cx="8077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If you hurt yourself, what will do at once?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see the doctor,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use  special medicine ,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rub down , put hot and cold cloth on the </a:t>
            </a:r>
            <a:r>
              <a:rPr b="0" lang="zh-CN" sz="3600" spc="-1" strike="noStrike" u="sng">
                <a:solidFill>
                  <a:srgbClr val="eaeaea"/>
                </a:solidFill>
                <a:uFillTx/>
                <a:latin typeface="Times New Roman"/>
              </a:rPr>
              <a:t>damaged part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eaeaea"/>
                </a:solidFill>
                <a:uFillTx/>
                <a:latin typeface="Times New Roman"/>
              </a:rPr>
              <a:t>  </a:t>
            </a:r>
            <a:r>
              <a:rPr b="0" lang="zh-CN" sz="3600" spc="-1" strike="noStrike" u="sng">
                <a:solidFill>
                  <a:srgbClr val="eaeaea"/>
                </a:solidFill>
                <a:uFillTx/>
                <a:latin typeface="Times New Roman"/>
              </a:rPr>
              <a:t>(hot-cloth-and –frozen-peas)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The temperatures makes the blood move a,the damaged part begin to repair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L</a:t>
            </a:r>
            <a:r>
              <a:rPr b="0" lang="en-US" sz="4400" spc="-1" strike="noStrike">
                <a:solidFill>
                  <a:srgbClr val="ffcc66"/>
                </a:solidFill>
                <a:latin typeface="Ravie"/>
              </a:rPr>
              <a:t>isten and answ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1180800"/>
            <a:ext cx="777240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隶书"/>
                <a:ea typeface="隶书"/>
              </a:rPr>
              <a:t>1,What is the matter with Sharon?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隶书"/>
                <a:ea typeface="隶书"/>
              </a:rPr>
              <a:t>2,What does the doctor tell her to do?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隶书"/>
                <a:ea typeface="隶书"/>
              </a:rPr>
              <a:t>To 1  is that she has hurt her </a:t>
            </a:r>
            <a:r>
              <a:rPr b="1" i="1" lang="en-US" sz="3600" spc="-1" strike="noStrike" u="sng">
                <a:solidFill>
                  <a:srgbClr val="99ff33"/>
                </a:solidFill>
                <a:uFillTx/>
                <a:latin typeface="隶书"/>
                <a:ea typeface="隶书"/>
              </a:rPr>
              <a:t>shoulder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隶书"/>
                <a:ea typeface="隶书"/>
              </a:rPr>
              <a:t>To 2  is that the doctor tells her to use a special treatment</a:t>
            </a: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Do the questions with your partner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648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o is Sharon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ow did she hurt her should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y was she very   fortunate 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at does the doctor advise her to use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ow to use the treatment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ow often does she must take the treatment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o you think it is effective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00240" y="1066320"/>
            <a:ext cx="4343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Gymnas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Do exercises, high-and low bar, land,fell forward, too close,knocked into,fell over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Nothing serious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Put hot wet cloth one minute,frozen peas for one minute again and again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Twice a day for a wee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You were sharon,tell the stor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7621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Monotype Corsiva"/>
              </a:rPr>
              <a:t>   </a:t>
            </a:r>
            <a:r>
              <a:rPr b="0" lang="zh-CN" sz="3200" spc="-1" strike="noStrike">
                <a:solidFill>
                  <a:srgbClr val="ffcc66"/>
                </a:solidFill>
                <a:latin typeface="Monotype Corsiva"/>
              </a:rPr>
              <a:t>practise with your partner</a:t>
            </a:r>
            <a:br>
              <a:rPr sz="3200"/>
            </a:br>
            <a:r>
              <a:rPr b="0" lang="zh-CN" sz="3200" spc="-1" strike="noStrike">
                <a:solidFill>
                  <a:srgbClr val="ffcc66"/>
                </a:solidFill>
                <a:latin typeface="Monotype Corsiva"/>
              </a:rPr>
              <a:t>  one to be sharon and one to be doctor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971800"/>
            <a:ext cx="46483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Take (have )a look at s.t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Have a walk/rest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Be fit to do sth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Be fit for st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638320" y="3504960"/>
            <a:ext cx="304812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7" name="AN02122_" descr=""/>
          <p:cNvPicPr/>
          <p:nvPr/>
        </p:nvPicPr>
        <p:blipFill>
          <a:blip r:embed="rId1"/>
          <a:stretch/>
        </p:blipFill>
        <p:spPr>
          <a:xfrm>
            <a:off x="5791320" y="3505320"/>
            <a:ext cx="2601720" cy="26049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66"/>
                </a:solidFill>
                <a:latin typeface="Tw Cen MT Condensed Extra Bold"/>
              </a:rPr>
              <a:t>If you were a patient at doctor’s ,and make  a dialogue with your friend.(</a:t>
            </a:r>
            <a:r>
              <a:rPr b="0" i="1" lang="en-US" sz="2800" spc="-1" strike="noStrike">
                <a:solidFill>
                  <a:srgbClr val="ffcc66"/>
                </a:solidFill>
                <a:latin typeface="Tw Cen MT Condensed Extra Bold"/>
              </a:rPr>
              <a:t>headache </a:t>
            </a:r>
            <a:r>
              <a:rPr b="0" i="1" lang="en-US" sz="3600" spc="-1" strike="noStrike">
                <a:solidFill>
                  <a:srgbClr val="ffcc66"/>
                </a:solidFill>
                <a:latin typeface="Tw Cen MT Condensed Extra Bold"/>
              </a:rPr>
              <a:t>…)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9" name="PE02716_" descr=""/>
          <p:cNvPicPr/>
          <p:nvPr/>
        </p:nvPicPr>
        <p:blipFill>
          <a:blip r:embed="rId1"/>
          <a:stretch/>
        </p:blipFill>
        <p:spPr>
          <a:xfrm>
            <a:off x="4952880" y="2971800"/>
            <a:ext cx="3772080" cy="35575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0" lang="en-US" sz="4400" spc="-1" strike="noStrike">
                <a:solidFill>
                  <a:srgbClr val="ffcc66"/>
                </a:solidFill>
                <a:latin typeface="DFPhonetic"/>
                <a:ea typeface="MingLiU"/>
              </a:rPr>
              <a:t>exercises to homewor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8960" y="114300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xercises                     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knock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hould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ur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xamin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at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81480" y="1294920"/>
            <a:ext cx="3810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riou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reatme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ot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acke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loo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pai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5T13:14:11Z</dcterms:created>
  <dc:creator>陈金钱</dc:creator>
  <dc:description/>
  <dc:language>en-US</dc:language>
  <cp:lastModifiedBy>User</cp:lastModifiedBy>
  <dcterms:modified xsi:type="dcterms:W3CDTF">2004-03-15T14:44:52Z</dcterms:modified>
  <cp:revision>7</cp:revision>
  <dc:subject/>
  <dc:title>    Guess : who is he or she</dc:title>
</cp:coreProperties>
</file>