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601-F119-42C2-9385-4D43AEE4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6E9-6A03-4121-B3D5-1C043FC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0BE-E3FE-4FE1-BD71-8DD9888D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9DC-1B56-4835-B0DF-B3CF534B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3FE1-5327-47FD-A41D-275CA173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A68F-146A-4ACD-9BD9-7E7304B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CF57-4948-4B0D-A175-E7AA27E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97D-0176-4C9D-B9EE-937BA0F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4666-3842-4FAC-BBF6-15B66084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579D-C142-448A-AABD-FF04FD1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9D6-7B80-4785-90E2-2E92E19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515-4643-4010-8449-2D40A65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CC96-1C2B-4A16-80DF-EF0B20B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73E-8783-4D92-A02A-8ED6FB2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E2E-6780-4675-9354-49EDA66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515A-24AF-4906-B0FE-CD0C33E9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24C6-3C7D-4975-9CE9-8C3B5F71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2B5-D011-41A9-8D2D-683097E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85E-B717-4EDE-8FE4-C2E7DFAC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7FE-4D74-4542-9D79-EA62CF4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D7D-8F50-49F8-BB0E-653D7BC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03A-78CF-4DBC-A3DB-4047491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C79-7C88-4338-A282-1B31FFF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5D7-F470-40C3-A261-6156D1E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B3F-5624-4E1D-B6C7-712F6647670C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A63-336D-4887-A361-FD2C1B12457D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定语从句高考点例析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的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493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. Whose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句可转换为“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of +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关系代词”型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They live in a house, whose door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1055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04760" y="1849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which the door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door of whic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an you work them out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9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proper preposition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The sun gives us heat and light, ________ which we can’t liv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The student ________ whom we were talking just now is the best student in our clas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I’ll never forget the day _____ which she said good-bye to 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Who can give me the reason ______ which he hasn’t turned up y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5880" y="502884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640" y="3200400"/>
            <a:ext cx="11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1160" y="4114800"/>
            <a:ext cx="6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286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考点四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关系副词的运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限定性和非限定性从句中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时间名词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地点名词，分别在定语从句中做状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.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After living in Paris for 50 years he returned to the small town ______ he grew up as a chi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which    B. where    C. that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t was an exciting moment for these people this year, ______ for the first time their team won the World Cup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that    B. while    C. which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52480" y="335268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点五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which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导的定语从句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两者均可引导非限制性定语从句，有时可以互换，但下列情况多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关系代词引导的定语从句居句首时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we all know, the earth is roun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当与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such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或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e same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连用时，一般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Such book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 tell me are interesting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I have the same pla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219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当从句和主句语义一致时，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反之则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     unexpected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3716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从句中作主语时，后面常接行为动词的被动语态，如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know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sai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reporte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等，如从句中行为动词是主动语态，一般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主语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She has been late again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Tom has made great progress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made us happ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387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I’m using the pen which he bought it yester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Is that factory which your father once worked i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The man whom I spoke is from Can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July 1,1999 is the day when we’ll never forge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809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8954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60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8600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72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0384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on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. I still remember the holidays I stayed with th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. I’m going to work in the hospital where needs 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. Those that haven’t been to the West Lake will gather at the school gat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 I don’t like the way which you talked to your frie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24280"/>
            <a:ext cx="609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057400"/>
            <a:ext cx="2057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990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9880"/>
            <a:ext cx="2133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505320"/>
            <a:ext cx="914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48120"/>
            <a:ext cx="2895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3920" y="1828440"/>
            <a:ext cx="838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9.This is the last time when I’ve given you lesso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. Soon they came to a farm house,and in front of which sat a small bo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1. We heard the news which our team won the ga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2. The reason which he explained it sounds reasonabl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91160" y="2742840"/>
            <a:ext cx="1066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3080" y="1905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1320" y="44956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54100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840" y="3276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500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3. Those at the desk want to buy tickets write down your nam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4. That was the reason because she looked o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5. Miss Chen is the only one of the few teachers who give us wonderful English lessons in our scho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6. Taiwan, that we know, belongs to Chin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5409720"/>
            <a:ext cx="914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0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148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25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1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4100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4840" y="1981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  <a:ea typeface="黑体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指出关系代词（副词）在定语从句中的成份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The ma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came to our school is Mr. Wang.            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2.The girl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om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I met is Lucy.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3.A chil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parents are dead is called Tom.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4.I like the boo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ich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bought yesterday.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19560" y="2819160"/>
            <a:ext cx="152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7. It is the one of the best films that have been shown recentl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. The third place which we are going to visit is Hangzhou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9. Which is known to all, many satellite are going around in the sk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 The students and things which you spoke of are known to u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6360" y="3352320"/>
            <a:ext cx="1066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152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488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308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11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852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82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114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1.Einstein is such a great scientist that we must learn fro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2. The student who’s book I had borrowed didn’t come to school to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3. Who is the worker who took some pictures of the factor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4. The bike by which I travelled was h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9720" y="22093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9400" y="403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7800" y="4952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96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badi MT Condensed Light"/>
              </a:rPr>
              <a:t>Homework:</a:t>
            </a:r>
            <a:endParaRPr b="0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10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1) Finish off the exercis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2) Preview Lesson 89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666880" y="48006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5. His parents wouldn’t let him marry anyon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family  was poor.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6. I like the perso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just talk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7. We shall never forget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spent together.              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8. We shall never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lived together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介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状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情况，引导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为不定代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n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no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Finally, the thief handed everything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had stol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前有形容词最高级、序数词修饰时，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This is the best book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’ve ever rea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先行词被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onl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ver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last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修饰时，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is the only person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 want to see now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4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先行词同时指人和指物时，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talked about the things and persons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saw th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5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定语从句内容为解释名词的性质、概念时，需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A plane is a machine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can fl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二：连接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用法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Whic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引导非限定性定语从句，其先行词可是一个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也可是整个主句或主句的某一部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1. She heard a terrible noise, ______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brought her heart into her m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it    B. which    C. this    D. 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2. The weather turned out to be good,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___ was more than we could expect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what    B. which    C. that    D. it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4616280"/>
          <a:ext cx="1409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16280"/>
                    <a:ext cx="1409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1599840"/>
            <a:ext cx="62485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05740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Handwriting"/>
              </a:rPr>
              <a:t>Good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三：介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+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关系代词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****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of + which/whom”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可用来限定名词、代词、分数词、数词等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1. In the dark street, there wasn’t a single person ____________ she could turn for help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at    B. who    C. from whom    D. to who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2. He paid the boy $10 for washing the windows, most of ________ hadn’t been cleaned  for at least a y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ese    B. those    C. that    D. which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95480" y="4343040"/>
            <a:ext cx="60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84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根据从句中动词与先行词的逻辑关系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s that the newspape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you often write articl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从句中动词或形容词的习惯搭配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an you explain to me how to use these  idioms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out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I’m su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先行词与介词的搭配习惯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1949 was the yea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the P.R.C. was found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非限制性定与从句中，要表示先行词的一部分时，可用“数词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代词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+ of +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关系代词”的结构，如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There are 50 students in our class,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two-    thirds of whom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have been to Beijing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13:56:08Z</dcterms:created>
  <dc:creator>dx</dc:creator>
  <dc:description/>
  <dc:language>en-US</dc:language>
  <cp:lastModifiedBy>user</cp:lastModifiedBy>
  <dcterms:modified xsi:type="dcterms:W3CDTF">2005-04-03T12:18:11Z</dcterms:modified>
  <cp:revision>15</cp:revision>
  <dc:subject/>
  <dc:title>Have a try</dc:title>
</cp:coreProperties>
</file>