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gif" ContentType="image/gif"/>
  <Override PartName="/ppt/media/image54.wmf" ContentType="image/x-wmf"/>
  <Override PartName="/ppt/media/image57.jpeg" ContentType="image/jpeg"/>
  <Override PartName="/ppt/media/image43.png" ContentType="image/png"/>
  <Override PartName="/ppt/media/TYPE.WAV" ContentType="audio/x-wav"/>
  <Override PartName="/ppt/media/image41.png" ContentType="image/png"/>
  <Override PartName="/ppt/media/image51.gif" ContentType="image/gif"/>
  <Override PartName="/ppt/media/image40.jpeg" ContentType="image/jpeg"/>
  <Override PartName="/ppt/media/image38.gif" ContentType="image/gif"/>
  <Override PartName="/ppt/media/applause.wav" ContentType="audio/x-wav"/>
  <Override PartName="/ppt/media/image37.jpeg" ContentType="image/jpeg"/>
  <Override PartName="/ppt/media/image20.png" ContentType="image/png"/>
  <Override PartName="/ppt/media/image44.gif" ContentType="image/gif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8.gif" ContentType="image/gif"/>
  <Override PartName="/ppt/media/image22.jpeg" ContentType="image/jpeg"/>
  <Override PartName="/ppt/media/image75.png" ContentType="image/png"/>
  <Override PartName="/ppt/media/image28.jpeg" ContentType="image/jpeg"/>
  <Override PartName="/ppt/media/image24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49.gif" ContentType="image/gif"/>
  <Override PartName="/ppt/media/image12.gif" ContentType="image/gif"/>
  <Override PartName="/ppt/media/image18.jpeg" ContentType="image/jpeg"/>
  <Override PartName="/ppt/media/image19.png" ContentType="image/png"/>
  <Override PartName="/ppt/media/image71.png" ContentType="image/png"/>
  <Override PartName="/ppt/media/image17.jpeg" ContentType="image/jpeg"/>
  <Override PartName="/ppt/media/chimes.wav" ContentType="audio/x-wav"/>
  <Override PartName="/ppt/media/image76.gif" ContentType="image/gif"/>
  <Override PartName="/ppt/media/image25.jpeg" ContentType="image/jpeg"/>
  <Override PartName="/ppt/media/image42.png" ContentType="image/png"/>
  <Override PartName="/ppt/media/image74.gif" ContentType="image/gif"/>
  <Override PartName="/ppt/media/image46.gif" ContentType="image/gif"/>
  <Override PartName="/ppt/media/image65.jpeg" ContentType="image/jpeg"/>
  <Override PartName="/ppt/media/image8.jpeg" ContentType="image/jpeg"/>
  <Override PartName="/ppt/media/image45.gif" ContentType="image/gif"/>
  <Override PartName="/ppt/media/image66.png" ContentType="image/png"/>
  <Override PartName="/ppt/media/image21.jpeg" ContentType="image/jpeg"/>
  <Override PartName="/ppt/media/image62.gif" ContentType="image/gif"/>
  <Override PartName="/ppt/media/image16.wmf" ContentType="image/x-wmf"/>
  <Override PartName="/ppt/media/image55.png" ContentType="image/png"/>
  <Override PartName="/ppt/media/image73.jpeg" ContentType="image/jpeg"/>
  <Override PartName="/ppt/media/image68.png" ContentType="image/png"/>
  <Override PartName="/ppt/media/image70.png" ContentType="image/png"/>
  <Override PartName="/ppt/media/image69.gif" ContentType="image/gif"/>
  <Override PartName="/ppt/media/image67.png" ContentType="image/png"/>
  <Override PartName="/ppt/media/image64.gif" ContentType="image/gif"/>
  <Override PartName="/ppt/media/image36.jpeg" ContentType="image/jpeg"/>
  <Override PartName="/ppt/media/image63.jpeg" ContentType="image/jpeg"/>
  <Override PartName="/ppt/media/image60.jpeg" ContentType="image/jpeg"/>
  <Override PartName="/ppt/media/image61.gif" ContentType="image/gif"/>
  <Override PartName="/ppt/media/image1.jpeg" ContentType="image/jpeg"/>
  <Override PartName="/ppt/media/image35.jpeg" ContentType="image/jpeg"/>
  <Override PartName="/ppt/media/image9.jpeg" ContentType="image/jpeg"/>
  <Override PartName="/ppt/media/image3.wmf" ContentType="image/x-wmf"/>
  <Override PartName="/ppt/media/image29.jpeg" ContentType="image/jpeg"/>
  <Override PartName="/ppt/media/image39.gif" ContentType="image/gif"/>
  <Override PartName="/ppt/media/image4.jpeg" ContentType="image/jpeg"/>
  <Override PartName="/ppt/media/image5.gif" ContentType="image/gif"/>
  <Override PartName="/ppt/media/image23.jpeg" ContentType="image/jpeg"/>
  <Override PartName="/ppt/media/image7.jpeg" ContentType="image/jpeg"/>
  <Override PartName="/ppt/media/image13.gif" ContentType="image/gif"/>
  <Override PartName="/ppt/media/image5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59.jpeg" ContentType="image/jpeg"/>
  <Override PartName="/ppt/media/image6.png" ContentType="image/png"/>
  <Override PartName="/ppt/media/image15.gif" ContentType="image/gif"/>
  <Override PartName="/ppt/media/image2.png" ContentType="image/png"/>
  <Override PartName="/ppt/media/image72.jpeg" ContentType="image/jpeg"/>
  <Override PartName="/ppt/media/image11.gif" ContentType="image/gif"/>
  <Override PartName="/ppt/media/image4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F00-6048-4A95-846A-7AE44D29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065-DD59-4B4E-AD37-8B582411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257-DD2C-4F04-998D-93B465C6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471-2C8C-4645-8622-0DB811FB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9CC-1D4B-478C-BB1B-DDDF4E1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4BC-1221-4609-89FE-6179D6E6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7FE-FE9F-4771-A00B-134D94D5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2A2-7C5C-4B66-95C2-C53EDBAC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F16-E009-4917-81E6-F32DF1E0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2C8-E340-4BF1-8B3E-78024526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058-083E-4FCA-8984-DDD2EC2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40A-3D10-4700-A282-8AA43E3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80D-1C07-4FE5-B08B-DAEB0EA3A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gif"/><Relationship Id="rId3" Type="http://schemas.openxmlformats.org/officeDocument/2006/relationships/image" Target="../media/image53.jpe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4.gif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6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0800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7640" y="765000"/>
            <a:ext cx="75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Unit 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ody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4120" y="2286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-45720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96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3044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o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791320"/>
            <a:ext cx="2286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268360" y="1566720"/>
            <a:ext cx="496764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280" y="543564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75800" y="-85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acial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27672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276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3276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080" y="3124080"/>
            <a:ext cx="167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2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920" y="3124080"/>
            <a:ext cx="125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3962520"/>
            <a:ext cx="533520" cy="5331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2057400" cy="14475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680"/>
            <a:ext cx="1219320" cy="106704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905120"/>
            <a:ext cx="1600200" cy="16002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733920"/>
            <a:ext cx="838080" cy="18288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209680"/>
            <a:ext cx="3808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3733560"/>
            <a:ext cx="35812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0200" y="146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302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447920"/>
            <a:ext cx="2514600" cy="1981080"/>
          </a:xfrm>
          <a:prstGeom prst="flowChartProcess">
            <a:avLst/>
          </a:prstGeom>
          <a:solidFill>
            <a:srgbClr val="ffff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920" y="1523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320" y="2438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09480"/>
            <a:ext cx="75960" cy="3962520"/>
          </a:xfrm>
          <a:custGeom>
            <a:avLst/>
            <a:gdLst>
              <a:gd name="textAreaLeft" fmla="*/ 48600 w 75960"/>
              <a:gd name="textAreaRight" fmla="*/ 76320 w 759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920" y="18288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82880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498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21337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07988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292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50760">
                  <a:solidFill>
                    <a:srgbClr val="333399"/>
                  </a:solidFill>
                  <a:miter/>
                </a:ln>
                <a:solidFill>
                  <a:srgbClr val="000080">
                    <a:alpha val="54000"/>
                  </a:srgbClr>
                </a:solidFill>
                <a:latin typeface="幼圆"/>
              </a:rPr>
              <a:t>Body talks</a:t>
            </a:r>
            <a:endParaRPr b="1" i="1" lang="en-US" sz="5400" spc="1" strike="noStrike">
              <a:ln w="50760">
                <a:solidFill>
                  <a:srgbClr val="333399"/>
                </a:solidFill>
                <a:miter/>
              </a:ln>
              <a:solidFill>
                <a:srgbClr val="000080">
                  <a:alpha val="54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173" name=""/>
          <p:cNvSpPr/>
          <p:nvPr/>
        </p:nvSpPr>
        <p:spPr>
          <a:xfrm>
            <a:off x="307440" y="28954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Do people from different part of 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use the same body langu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5720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9325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What’s the main idea of each paragraph</a:t>
            </a: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Pay attention to the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fir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and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la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76520" y="1066680"/>
          <a:ext cx="487656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8765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4191120"/>
            <a:ext cx="6095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apping one’s han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--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620640"/>
            <a:ext cx="12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4160" y="50976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ommunicate with peopl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ords but also by 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8600" y="1716120"/>
            <a:ext cx="75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 varies from cultur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l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7360" y="295920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ody language has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s in some differen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360" y="44434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gestures are univers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2320" y="5407200"/>
            <a:ext cx="78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le is the best example of univers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st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1080" y="476280"/>
            <a:ext cx="775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Body langu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7740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4568760"/>
            <a:ext cx="774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Universal gestur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97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2280" y="189000"/>
            <a:ext cx="89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What different meanings do the following ge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have in different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1360" y="14842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umb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00" y="2781360"/>
            <a:ext cx="81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making a circle with one’s thumb and inde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280" y="3789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moving the index finger in a circle in fro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600" y="48690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nodding or shaking one’s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144960" y="16970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2992320" y="23828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429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04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130" t="0" r="0" b="0"/>
          <a:stretch/>
        </p:blipFill>
        <p:spPr>
          <a:xfrm>
            <a:off x="324000" y="1413000"/>
            <a:ext cx="28080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24000" y="404640"/>
          <a:ext cx="8569080" cy="5688000"/>
        </p:xfrm>
        <a:graphic>
          <a:graphicData uri="http://schemas.openxmlformats.org/drawingml/2006/table">
            <a:tbl>
              <a:tblPr/>
              <a:tblGrid>
                <a:gridCol w="2855880"/>
                <a:gridCol w="1968480"/>
                <a:gridCol w="3744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292720" y="1341360"/>
            <a:ext cx="3600360" cy="2444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cap="rnd" w="0">
            <a:solidFill>
              <a:srgbClr val="ccec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a way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’s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05360"/>
            <a:ext cx="331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rud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disrespect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80" y="47242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10159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549360"/>
          <a:ext cx="8642160" cy="60116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56360" y="1844640"/>
            <a:ext cx="259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rea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365720"/>
            <a:ext cx="2664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the numb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8360" y="4508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mb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9880" y="3276720"/>
            <a:ext cx="175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g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2200" y="549360"/>
          <a:ext cx="8353440" cy="559728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276720" y="2276640"/>
            <a:ext cx="25905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3284640"/>
            <a:ext cx="2305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4221000"/>
            <a:ext cx="2232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29360"/>
            <a:ext cx="230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974520" cy="2362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240" y="3789360"/>
            <a:ext cx="29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ing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ne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mb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fi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404640"/>
          <a:ext cx="8280360" cy="5400720"/>
        </p:xfrm>
        <a:graphic>
          <a:graphicData uri="http://schemas.openxmlformats.org/drawingml/2006/table">
            <a:tbl>
              <a:tblPr/>
              <a:tblGrid>
                <a:gridCol w="2951280"/>
                <a:gridCol w="2570040"/>
                <a:gridCol w="2759040"/>
              </a:tblGrid>
              <a:tr h="15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he index finger in a circle in front of the 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27640" y="2205000"/>
            <a:ext cx="23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076640"/>
            <a:ext cx="2519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You have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phone c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59916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25320" y="838080"/>
            <a:ext cx="329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Bulgaria, pa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f Greece,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84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3160" y="3657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920" y="328464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iss on the ch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4920" y="414972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4560" y="47973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loving h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5657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bow/ a nod of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1996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560" y="3962520"/>
            <a:ext cx="1401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Gr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3048120" cy="373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1193760" cy="2100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124000" y="2852640"/>
            <a:ext cx="91440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341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Bulgaria, parts of Greece, and I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080" y="4572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1440" y="4437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56360" y="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 they   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06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20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27664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 Luc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933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zy/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don’t k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/C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640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fu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21800" y="1052640"/>
            <a:ext cx="1222200" cy="191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80036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9144000" cy="155700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Body t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194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74872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947160"/>
          </a:xfrm>
          <a:prstGeom prst="rect">
            <a:avLst/>
          </a:prstGeom>
          <a:gradFill rotWithShape="0">
            <a:gsLst>
              <a:gs pos="0">
                <a:srgbClr val="fef7ec"/>
              </a:gs>
              <a:gs pos="100000">
                <a:srgbClr val="fff7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ody language can carry meaning , which is an important part of nonverbal communication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7236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gradFill rotWithShape="0">
            <a:gsLst>
              <a:gs pos="0">
                <a:srgbClr val="fff3e1"/>
              </a:gs>
              <a:gs pos="50000">
                <a:srgbClr val="fef6ea"/>
              </a:gs>
              <a:gs pos="100000">
                <a:srgbClr val="fff3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 handshake is the most common gesture that goes with a greeting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0" y="1752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8120" cy="360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510552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4172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6040" y="281952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aby 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3480" y="2819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2240" y="61722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429000" y="5943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4000" y="2584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ss on the ch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al bod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907920"/>
          <a:ext cx="8664480" cy="5675400"/>
        </p:xfrm>
        <a:graphic>
          <a:graphicData uri="http://schemas.openxmlformats.org/drawingml/2006/table">
            <a:tbl>
              <a:tblPr/>
              <a:tblGrid>
                <a:gridCol w="3457440"/>
                <a:gridCol w="5207040"/>
              </a:tblGrid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tired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hung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726720" y="1557360"/>
            <a:ext cx="4370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ressing one’s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ogether and rest on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head on the b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e’s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370692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oving the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ircles over the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3760" y="4724280"/>
            <a:ext cx="34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at one’s stom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before a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57340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7560" y="386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’m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59594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lmost any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91320" y="5638680"/>
            <a:ext cx="12142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64800" y="2498760"/>
            <a:ext cx="60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What can you lea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       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from this pass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2708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en in Rome, do as the Romans do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548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（入乡随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897440" cy="1738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3960" y="2463840"/>
            <a:ext cx="675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ast between the bod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nguage in China and tha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27480" y="642960"/>
            <a:ext cx="28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Times New Roman"/>
              </a:rPr>
              <a:t>Ta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843280" y="4952880"/>
            <a:ext cx="316692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012000" y="4952880"/>
            <a:ext cx="3132000" cy="1905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620640"/>
          <a:ext cx="8208720" cy="622800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81080"/>
              </a:tblGrid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don’t do th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ving the index finger from side to si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kno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rugging one’s should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 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umbs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dible. I can’t believe i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lling one’s eyes.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12040" y="442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0541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ving the h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from side to 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200" y="35956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haking the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42000" y="5484960"/>
            <a:ext cx="24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Open one’s eye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uth 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7984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080" y="47242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Thumbs up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50920" y="692280"/>
          <a:ext cx="8642160" cy="5727600"/>
        </p:xfrm>
        <a:graphic>
          <a:graphicData uri="http://schemas.openxmlformats.org/drawingml/2006/table">
            <a:tbl>
              <a:tblPr/>
              <a:tblGrid>
                <a:gridCol w="2160360"/>
                <a:gridCol w="295272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Rubbing the thum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and forefinger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in a circle in front of the ea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l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Cross the fing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forwards and backwa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-3960" y="1126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584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41520" y="1790640"/>
            <a:ext cx="38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Rubbing the thu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nd forefing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9320" y="3292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the index fing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 circle from side to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3640" y="420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No such a ge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50800" y="49528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one’s hand u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down with the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facing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6200" y="1143000"/>
            <a:ext cx="84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Goodbye, everyon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00800" cy="4038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0760" y="530064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rab countries, you e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sing the fin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right hand; the left hand is not us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74508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3284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148360" y="3284640"/>
            <a:ext cx="2303280" cy="720720"/>
          </a:xfrm>
          <a:prstGeom prst="wedgeRoundRectCallout">
            <a:avLst>
              <a:gd name="adj1" fmla="val 52824"/>
              <a:gd name="adj2" fmla="val 480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413000"/>
            <a:ext cx="2737080" cy="863640"/>
          </a:xfrm>
          <a:prstGeom prst="wedgeEllipseCallout">
            <a:avLst>
              <a:gd name="adj1" fmla="val -46518"/>
              <a:gd name="adj2" fmla="val 9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fore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2448000" cy="981000"/>
          </a:xfrm>
          <a:prstGeom prst="cloudCallout">
            <a:avLst>
              <a:gd name="adj1" fmla="val -44291"/>
              <a:gd name="adj2" fmla="val 70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49360"/>
            <a:ext cx="1656000" cy="93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205000"/>
            <a:ext cx="1871640" cy="10796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581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582920" y="5172120"/>
            <a:ext cx="68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s of Asia you must not si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th your f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ointing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720" y="299880"/>
            <a:ext cx="883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or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ran, nodding has the meaning of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ussia , a visiting friend is gree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kiss on the ch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 France, people greet with each 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firm handsh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ome countries, people greet ea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th a loving hug, a bow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y a nod of the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59640" y="580536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7772400" y="5783400"/>
            <a:ext cx="1371600" cy="1074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476360" cy="1057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343640" y="1523880"/>
            <a:ext cx="73368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02436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17672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229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12536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you want to learn more please look at the following gestu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5659560"/>
            <a:ext cx="143964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23600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132000" y="3141720"/>
            <a:ext cx="2702160" cy="294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56000" y="552456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732720" y="3500280"/>
            <a:ext cx="1346040" cy="16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60640"/>
            <a:ext cx="9144000" cy="137376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re are some gestures that are widely used in the English-speaking countries and other countries or places.   Do you know the meanings of the following ges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Wait/Slowly/Impol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lay the finger-guessing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95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4572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andsh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elcome / </a:t>
            </a: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good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3716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9112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272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5920" y="990720"/>
            <a:ext cx="2548080" cy="1523880"/>
          </a:xfrm>
          <a:prstGeom prst="cloudCallout">
            <a:avLst>
              <a:gd name="adj1" fmla="val -117166"/>
              <a:gd name="adj2" fmla="val 63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4-06-01T01:33:49Z</dcterms:modified>
  <cp:revision>103</cp:revision>
  <dc:subject/>
  <dc:title>PowerPoint Presentation</dc:title>
</cp:coreProperties>
</file>