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5CC-77B4-4BD6-898D-08651012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31C-C2C3-409A-A8F6-8B7919CE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394-6354-4CF9-9810-ED74A68C6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A357-6624-48AA-8BA2-ED17BD3D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539-C55A-4D66-8D0B-C9AAED91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C4B-B392-484B-83A5-54A0212E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EF50-B763-4521-BD7B-DACF4BC0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6DE3-6917-44AD-B92B-8D532F02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371-7770-438A-B385-467C3F98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0755-A064-459A-9E8B-E0C26A7B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2A2-6EB1-42BE-8CC2-C46022D5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BD3-96E4-4529-9490-E40DE5D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9BAB-7B27-4FA4-A4AB-4971F70B82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4753440" y="-2686320"/>
            <a:ext cx="18466560" cy="18623880"/>
            <a:chOff x="-4753440" y="-2686320"/>
            <a:chExt cx="18466560" cy="18623880"/>
          </a:xfrm>
        </p:grpSpPr>
        <p:sp>
          <p:nvSpPr>
            <p:cNvPr id="6" name=""/>
            <p:cNvSpPr/>
            <p:nvPr/>
          </p:nvSpPr>
          <p:spPr>
            <a:xfrm flipH="1" rot="2520000">
              <a:off x="1089000" y="-1613520"/>
              <a:ext cx="2686680" cy="545472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2520000">
              <a:off x="-1554120" y="-471240"/>
              <a:ext cx="12068640" cy="1419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914400" y="7621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高一英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语法、词汇复习（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3352680"/>
            <a:ext cx="6477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主讲人： 刘雪清 （高级教师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北方交大附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播出时间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日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: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9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天早上他不可能在会上作过报告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时我在街上遇见过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281952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  h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poken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t the meeting t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orning, for I saw him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reet th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77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.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觉得这些饭菜怎麽样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极了！我们不可能找到比这家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好的饭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066680" y="3048120"/>
            <a:ext cx="701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do you like the food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—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xcellent!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ouldn’t / can’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fou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better restauran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9343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. —Alice always gets the best grades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 class.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he ______ study very h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may   C. can    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657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A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. —I think this watch belongs to J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it _____ belong to him. He di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t come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 B. may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4267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an’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8960" y="2209320"/>
            <a:ext cx="7086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. Don’t believe him. His story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e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must not             B. c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m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657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8960" y="22096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. —She must have gone back to Am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, she _____ . I saw her in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ading room just n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had not               B. must not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1911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C. could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— Is the film on in the cinema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t ____  be, but I’m not too s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an not                 B. must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nee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8862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38862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. may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18960" y="22860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6. ____ it be Liu Ling who comes 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 day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                C. May   D. M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429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.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must have left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7. —I can not find my purse, have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en i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No. You ____ it at home th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ust leave          B. can have le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C. must have lef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D. may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114264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General Revision</a:t>
            </a:r>
            <a:br>
              <a:rPr sz="4400"/>
            </a:b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it 24 and Unit 2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2286000"/>
            <a:ext cx="7467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标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Review the following part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Model verbs: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ust, ma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might, c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Sentence stru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ords &amp;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might be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52680" y="838080"/>
            <a:ext cx="1981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选择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43000" y="2285640"/>
            <a:ext cx="7238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—What time are you going to ge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ac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m not sure. I ____ back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unch tim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A. migh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B. must b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ill be          D. may have be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9140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2640" y="1905120"/>
            <a:ext cx="6553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: disco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2895480"/>
            <a:ext cx="655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en Marx was already in h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fties,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i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mportan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study the situation in Russ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Unit 21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629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it …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do …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2514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ent to visit Mr. Wang an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im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ook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80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正在做某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n his return from his off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house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clean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0384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don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被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2666880"/>
            <a:ext cx="6705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is </a:t>
            </a:r>
            <a:r>
              <a:rPr b="0" lang="zh-CN" sz="3600" spc="-1" strike="noStrike">
                <a:solidFill>
                  <a:srgbClr val="ff9933"/>
                </a:solidFill>
                <a:latin typeface="Times New Roman"/>
              </a:rPr>
              <a:t>to be tru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cities I visi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a pers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to ask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</a:t>
            </a:r>
            <a:r>
              <a:rPr b="0" lang="zh-CN" sz="3600" spc="-1" strike="noStrike" u="sng">
                <a:solidFill>
                  <a:srgbClr val="ffffff"/>
                </a:solidFill>
                <a:uFillTx/>
                <a:latin typeface="Times New Roman"/>
              </a:rPr>
              <a:t>help at the momen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此句中的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to ask for help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作定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066320" y="19047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… to b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发现……是……状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752120" y="1523520"/>
            <a:ext cx="58676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think you will find it very pleasant ________ (be) here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How surprised she was when she found her necklace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523880"/>
            <a:ext cx="5943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I think you will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i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very pleasant ________ (be)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er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with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How surprised she was when sh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er necklac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go)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2057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4952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g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found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found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1523880"/>
            <a:ext cx="594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any people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time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many peopl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_ (wait) to greet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ould you tell me how 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oun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tim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_____ (do) all that read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981080" y="76176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2057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waiting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9600" y="396252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990360" y="175212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so … that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mad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rapid progress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before long he began to write articles in English for an American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uch … that …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&amp;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 fact, his English in one of these articles was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good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ngels wrote him a letter and  praised him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What a lot of invitations to send out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--Yes, here </a:t>
            </a: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b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over two hund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ere. 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Unit 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phone rang but I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didn’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hear it.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must have bee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a good book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honest a boy 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 It is _____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good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verybody wants to buy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was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hones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 bo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ll the people believed in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286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printing technology then 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China had ____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dvanc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printing technolog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n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lot of useful information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en kept up to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2860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good a book 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It is ___ 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good</a:t>
            </a: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a b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eryone wants to buy o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22860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much courage ___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371600" y="23623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The fire fighters showed ____ </a:t>
            </a: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courag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 u="sng">
                <a:solidFill>
                  <a:srgbClr val="00ffff"/>
                </a:solidFill>
                <a:uFillTx/>
                <a:latin typeface="Times New Roman"/>
              </a:rPr>
              <a:t>tha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ll of us admired them very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23623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4267080"/>
            <a:ext cx="6477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名词前有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many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much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 littl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few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修饰时用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o…that …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句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2057040" y="838080"/>
            <a:ext cx="5334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5238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h … that … &amp; so … that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6858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feel like 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ant 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on’t feel like walking very much today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feel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介词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，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如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look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seem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, soun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,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et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990720" y="1752480"/>
            <a:ext cx="7315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’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d lik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Unit 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d like to do some shopping, but not during the 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中的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like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是动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19051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want to d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6761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66"/>
                </a:solidFill>
                <a:latin typeface="Times New Roman"/>
              </a:rPr>
              <a:t>can’t          can’t / couldn’t 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You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just had lunch. You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hung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ane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alke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st me without speaking. Sh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can’t (couldn’t) have see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e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7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feel like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Would you like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447920"/>
            <a:ext cx="6477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does not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feel 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keep) in touch with him any long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We want to have a walk after supper.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______ (go) with 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19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5880" y="1447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33720" y="47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ike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Just stay at home. I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lik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you __________ (mak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rouble out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9880" y="20574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ma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342900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7c80"/>
                </a:solidFill>
                <a:latin typeface="Times New Roman"/>
              </a:rPr>
              <a:t>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要做某事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would like </a:t>
            </a:r>
            <a:r>
              <a:rPr b="0" i="1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99ff"/>
                </a:solidFill>
                <a:latin typeface="Times New Roman"/>
              </a:rPr>
              <a:t>to do</a:t>
            </a: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想让某人做某事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467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doing 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/ 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givin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talk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day about DN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2133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…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ould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opened</a:t>
            </a:r>
            <a:r>
              <a:rPr b="0" lang="en-US" sz="36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Do you m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f I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pen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ind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9810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509"/>
                </a:lnTo>
                <a:cubicBezTo>
                  <a:pt x="10800" y="9409"/>
                  <a:pt x="16200" y="10309"/>
                  <a:pt x="21600" y="10309"/>
                </a:cubicBezTo>
                <a:cubicBezTo>
                  <a:pt x="16200" y="10309"/>
                  <a:pt x="10800" y="11209"/>
                  <a:pt x="10800" y="121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2057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介意……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Would you mind if I ______   (point) out your mistak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Do you mind if I ____ (call) your first na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1447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33526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95280" y="144756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ould you mind ________ (wait) a few minut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 you mind ______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sit) 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437920" y="838080"/>
            <a:ext cx="4496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3840" y="1447920"/>
            <a:ext cx="166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wai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30481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(my/me) si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838080"/>
            <a:ext cx="4572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ould you mind _______ (speak) a little more slowl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Would you mind if I ______(use) your dictiona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95288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48520" y="3124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u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做…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woul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rath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 did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宁愿让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……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would like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 g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What about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would rather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v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n ap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y mother would rather I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idn’t do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828440" y="99036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ntence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3244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d much rather ____ (stay) at home for a quiet week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’d like _______ (bring) in a new mach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22096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t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4038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o b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040" y="990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Model verbs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情态动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520" y="1676520"/>
            <a:ext cx="6705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/ m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have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has promised to attend the meeting. So she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b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nd is wet. It </a:t>
            </a: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y have rain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during the nigh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324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I’d rather you _____ (come) on Frida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209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599840" y="8380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3000" y="205704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几个词都表 “花费；付出代价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注意：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他们的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主语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不同，</a:t>
            </a:r>
            <a:r>
              <a:rPr b="0" i="1" lang="zh-CN" sz="2800" spc="-1" strike="noStrike">
                <a:solidFill>
                  <a:srgbClr val="ffff66"/>
                </a:solidFill>
                <a:latin typeface="Times New Roman"/>
              </a:rPr>
              <a:t>搭配</a:t>
            </a:r>
            <a:r>
              <a:rPr b="0" i="1" lang="zh-CN" sz="2800" spc="-1" strike="noStrike">
                <a:solidFill>
                  <a:srgbClr val="ffffff"/>
                </a:solidFill>
                <a:latin typeface="Times New Roman"/>
              </a:rPr>
              <a:t>也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d time / money in doing /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h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an hou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n washing the c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pent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alf my money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on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b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… for …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…… 的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…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付出代价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w muc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did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you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 for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o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wrong-doe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pays for it in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ost (sb.)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st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后可以接时间金钱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or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付出代价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pace travel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must cost a great de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 well in my lesson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cost me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lot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词辨析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br>
              <a:rPr sz="4400"/>
            </a:br>
            <a:r>
              <a:rPr b="0" i="1" lang="zh-CN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42640" y="20570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do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得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sth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be worth (money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值多少钱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 boo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really 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 is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wor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Each of the stamps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is worth a pen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1523520" y="21333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I ______ for the medicine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urried home out of br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The diamond necklace was said to __________ several thousand franc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a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33920" y="4343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o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Bob _______ a lot of mon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organizing the conce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None of these improv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as _____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05740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p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4343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lete the sentences with </a:t>
            </a:r>
            <a:r>
              <a:rPr b="0" i="1" lang="en-US" sz="4400" spc="-1" strike="noStrike">
                <a:solidFill>
                  <a:srgbClr val="00ffff"/>
                </a:solidFill>
                <a:latin typeface="Times New Roman"/>
              </a:rPr>
              <a:t>spend / pay / cost / be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523880" y="2133720"/>
            <a:ext cx="5639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The heroic deed ______ him his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213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快点。你妈妈一定在等我们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那位肯定就是你们的老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2057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Hurry up. Your mother 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waiting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for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9625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at man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your teac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2209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耕翻（土地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反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同意做某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不时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做报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tur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o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3505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40384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now and t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62520" y="4572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give a tal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240" y="2514240"/>
            <a:ext cx="2438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忙于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从…… 敲出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逐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41000" y="2362320"/>
            <a:ext cx="181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poi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0280" y="29718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be bus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342900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knock out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42080" y="388620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after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4419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year by y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2057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ck                   think about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 and then       hit; stri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gainst            from time to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ider               fight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3429000"/>
            <a:ext cx="213372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724280"/>
            <a:ext cx="14475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4191120"/>
            <a:ext cx="838080" cy="5331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971800" y="3581280"/>
            <a:ext cx="1752480" cy="198144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2819520"/>
            <a:ext cx="60984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25146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          call sb. on the ph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et through      ask sb. to leave a p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ring up             manage to pass throug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3809880"/>
            <a:ext cx="1143000" cy="7621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4648320"/>
            <a:ext cx="914400" cy="83808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438280" y="3809520"/>
            <a:ext cx="1524240" cy="16765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6720" y="297180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066320" y="2514240"/>
            <a:ext cx="7239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e.g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move      to take of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ke up        be present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end            be willing to tak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cept           invent (words, story etc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ceive         take or get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tch the foll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362320" y="4190760"/>
            <a:ext cx="1218960" cy="68580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86000" y="3505320"/>
            <a:ext cx="1371600" cy="76176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43200" y="3581280"/>
            <a:ext cx="838080" cy="12193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5562720"/>
            <a:ext cx="99072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0400" y="2895480"/>
            <a:ext cx="60948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388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Unit 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 been 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2362320" y="3581280"/>
            <a:ext cx="5273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n’t worry, all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itation haven been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t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133720" y="3581280"/>
            <a:ext cx="5715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Our headmaster 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English party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38680" y="3581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tte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172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ll in the blanks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286000" y="1980720"/>
            <a:ext cx="5105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send out; get through; ring up; attend; accept; rece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6629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Ex.12 P.112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Ex.13 P.1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Go over the check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Unit 24-26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Do Ex. 19 and 20 P.1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外面很湿。刚才想必下过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你为什么显得这么疲倦？你可能昨晚又开夜车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t’s wet outside. It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us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have rained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just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1148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Why do you look so tired?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have stayed up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late l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觉得玛丽明天早上可能会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今年暑假他们想去海南，不过也有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能去上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810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I think Mary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ay 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1148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They’d like to go to Haina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holiday this summer, but the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</a:rPr>
              <a:t>might go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 to Shangha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他们不可能出去，因为灯还开着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最好先打个电话。他可能不知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们要去那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80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ut the following into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400" y="2057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They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an’t have gone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because the light is 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41148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We’d better make a phon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all first. H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may not know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that we will go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13:08:46Z</dcterms:created>
  <dc:creator>lk</dc:creator>
  <dc:description/>
  <dc:language>en-US</dc:language>
  <cp:lastModifiedBy>m</cp:lastModifiedBy>
  <dcterms:modified xsi:type="dcterms:W3CDTF">2003-06-24T03:36:53Z</dcterms:modified>
  <cp:revision>711</cp:revision>
  <dc:subject/>
  <dc:title>General Revision</dc:title>
</cp:coreProperties>
</file>