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1214-F1ED-443C-A88B-AB109B36D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F7DC-D20E-49E1-95FA-9799936D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6247-2AE6-46AE-ACE2-9EEC70B99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E4AD-4DEA-443B-AB5B-0A8E78829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826D-FC3E-44E1-91EF-B543CB764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0D38-EE6F-46A2-9B78-AB487534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8EC9-C9FB-432E-828E-3E3BF250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CD69-A7A4-4E4A-AA1E-61AD32D5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83D5-DB98-43A9-A6CA-A48EBE9D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0E35-E53A-4331-A714-C007E4D3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D7CC-87E0-447E-B49B-F78C4AE3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F455-1ABD-40C3-B83D-0DFF790C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C3A9-6604-4BC0-A1E4-9E1CF540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6147-9BB0-4B2D-BEB3-61996500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762E-A65D-4656-BB46-D20ABEF5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E75F-02D4-4AE1-BABF-7BB836059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8974-B386-4214-8818-6C29B082F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4D35-9E6D-4AF4-AB33-D1CBA87D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3F1A-5C30-4944-B1B7-88F13B40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73BE-94FA-4957-8D73-033C78E2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910D-4902-460C-9AB7-8EA7423E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0456-8188-41A9-AF2B-FF09BC9D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E007-0F6C-4704-A95E-7C9EB523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A56E-D5D2-454D-A0F8-FB1E43E6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DB5F-CDED-4812-B00B-EBC71F399F75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686A-A059-4534-B4F4-772C21B79CF8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05480" y="762120"/>
            <a:ext cx="5234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0" lang="en-US" sz="6600" spc="-1" strike="noStrike">
                <a:solidFill>
                  <a:srgbClr val="003300"/>
                </a:solidFill>
                <a:latin typeface="Times New Roman"/>
              </a:rPr>
              <a:t>Lesson 41  </a:t>
            </a:r>
            <a:endParaRPr b="0" lang="en-US" sz="6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00"/>
                </a:solidFill>
                <a:latin typeface="Times New Roman"/>
              </a:rPr>
              <a:t>Country Music</a:t>
            </a:r>
            <a:endParaRPr b="0" lang="en-US" sz="6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4920" y="3733920"/>
            <a:ext cx="77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Times New Roman"/>
              </a:rPr>
              <a:t>Zhaoqing Shiyuan Middle School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3440" y="5257800"/>
            <a:ext cx="523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Times New Roman"/>
              </a:rPr>
              <a:t>Speaker:  Li Changxiu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4160" y="685800"/>
            <a:ext cx="488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4160" y="685800"/>
            <a:ext cx="488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00600" y="1371600"/>
            <a:ext cx="327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Saturday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4160" y="685800"/>
            <a:ext cx="502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00600" y="1371600"/>
            <a:ext cx="34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Saturday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56720" y="22334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57800" y="291924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4160" y="685800"/>
            <a:ext cx="502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1371600"/>
            <a:ext cx="34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Saturday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56720" y="22334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57800" y="291924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56720" y="29192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64160" y="685800"/>
            <a:ext cx="502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00600" y="1371600"/>
            <a:ext cx="34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Saturday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56720" y="22334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57800" y="291924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56720" y="29192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64160" y="685800"/>
            <a:ext cx="502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1371600"/>
            <a:ext cx="34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Saturday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56720" y="22334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57800" y="291924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56720" y="29192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5880" y="3733920"/>
            <a:ext cx="131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64160" y="685800"/>
            <a:ext cx="502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1371600"/>
            <a:ext cx="34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Saturday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56720" y="22334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57800" y="291924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56720" y="29192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5880" y="3733920"/>
            <a:ext cx="131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70560" y="4367160"/>
            <a:ext cx="33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the radio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4160" y="685800"/>
            <a:ext cx="502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0600" y="1371600"/>
            <a:ext cx="34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Saturday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56720" y="22334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57800" y="291924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56720" y="29192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3733920"/>
            <a:ext cx="131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70560" y="4367160"/>
            <a:ext cx="33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the radio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9160" y="5791320"/>
            <a:ext cx="876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He’s very successful./He’s a succes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55400" y="0"/>
            <a:ext cx="427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VI.  Expressions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960" y="609480"/>
            <a:ext cx="7067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 the coming weekend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the weekend that is coming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-4680" y="1752480"/>
            <a:ext cx="7939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 Haven’t you heard of him?=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I’m surprised that you haven’t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heard of him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6840" y="3581280"/>
            <a:ext cx="6663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. hear of... =know of…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hear from sb.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receive a letter from sb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5425920"/>
            <a:ext cx="5979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He’s very successful.=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He’s a succes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63960" y="252360"/>
            <a:ext cx="297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VII. Repeat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-6120" y="1219320"/>
            <a:ext cx="87818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VIII. Dialogue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1.Why don’t you come on Saturday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2. Why not buy a ticket to hear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John Denver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3.You’d better see more English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film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4. What about going for a walk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68580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               Aim: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Master the following 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698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Theatre, successful, success,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make a record, broadcast,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the radio, pop music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Jackie, John Denver,Mozart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913400" y="176040"/>
            <a:ext cx="4504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VIII. Translation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我刚听说他生病了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收到姐姐的来信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明年秋天举行一次运动会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913400" y="176040"/>
            <a:ext cx="4504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VIII. Translation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我刚听说他生病了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收到姐姐的来信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明年秋天举行一次运动会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14400" y="1319040"/>
            <a:ext cx="654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’ve just heard his illnes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913400" y="176040"/>
            <a:ext cx="4504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VIII. Translation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我刚听说他生病了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收到姐姐的来信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明年秋天举行一次运动会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319040"/>
            <a:ext cx="654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’ve just heard his illnes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71280" y="2766960"/>
            <a:ext cx="610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He heard from his sister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329200" y="304920"/>
            <a:ext cx="4504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VIII. Translation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我刚听说他生病了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收到姐姐的来信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们计划明年秋天举行一次运动会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1319040"/>
            <a:ext cx="654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’ve just heard his illnes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71280" y="2766960"/>
            <a:ext cx="610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He heard from his sister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94960" y="4214880"/>
            <a:ext cx="7428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They planned to hold a sports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meet the coming autumn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085400" y="100080"/>
            <a:ext cx="36327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IX. Summary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即将到来的周末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听说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很成功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美国乡村音乐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哪种音乐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播放他的音乐节目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灌唱片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通过录音机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最好快点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085400" y="100080"/>
            <a:ext cx="36327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IX. Summary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即将到来的周末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听说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很成功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美国乡村音乐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哪种音乐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播放他的音乐节目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灌唱片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通过录音机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最好快点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085400" y="100080"/>
            <a:ext cx="36327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IX. Summary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即将到来的周末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听说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很成功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美国乡村音乐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哪种音乐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播放他的音乐节目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灌唱片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通过录音机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最好快点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936440" y="252360"/>
            <a:ext cx="57949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X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写作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介绍香港歌星周华健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是香港著名歌星，中学时代就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对音乐感兴趣。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曾参加过当地无线电台举办的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歌唱比赛并获一等奖。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  19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岁去台湾上大学，由于不会普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通话而被嘲笑并视为“乡下仔”。次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年，他去饭店当歌手。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80880" y="2057400"/>
            <a:ext cx="8379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四年后的一天，当周在饭店演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出时，一唱片公司经理被其歌声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打动并邀请周加入他们的公司。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经过仔细考虑后，周决定放弃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学业去当歌星。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20080" y="785880"/>
            <a:ext cx="462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II         Key points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96760" y="1700280"/>
            <a:ext cx="461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Everyday English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46520" y="2386080"/>
            <a:ext cx="666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Haven’t you heard of …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47960" y="3147840"/>
            <a:ext cx="5298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 Why don’t you …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Why not …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You’d better …  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45800" y="4976640"/>
            <a:ext cx="766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.That’s a good idea./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Thanks. I must try to do that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742120" y="914400"/>
            <a:ext cx="373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Western music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2057400"/>
            <a:ext cx="464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Classical music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2057400"/>
            <a:ext cx="26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Pop music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123720" y="1752480"/>
            <a:ext cx="228600" cy="38124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1828800"/>
            <a:ext cx="228600" cy="3808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057040" y="3048120"/>
            <a:ext cx="228600" cy="7617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2971800"/>
            <a:ext cx="228600" cy="68580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038480"/>
            <a:ext cx="4140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Symphony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Music for opera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nd ballet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4440" y="4038480"/>
            <a:ext cx="3740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Country music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Jazz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Rock and roll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685800"/>
            <a:ext cx="89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II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13360" y="633240"/>
            <a:ext cx="689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V      Answer the follow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200" y="1319040"/>
            <a:ext cx="34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John Denver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819520"/>
            <a:ext cx="385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Type of music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7720" y="4419720"/>
            <a:ext cx="304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What to do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13360" y="633240"/>
            <a:ext cx="689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V      Answer the follow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5200" y="1319040"/>
            <a:ext cx="34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John Denver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819520"/>
            <a:ext cx="385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Type of music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7720" y="4419720"/>
            <a:ext cx="304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What to do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17920" y="2157480"/>
            <a:ext cx="526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 very famous singer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13360" y="633240"/>
            <a:ext cx="689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V      Answer the follow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5200" y="1319040"/>
            <a:ext cx="34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John Denver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2819520"/>
            <a:ext cx="385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Type of music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7720" y="4419720"/>
            <a:ext cx="304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What to do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17920" y="2157480"/>
            <a:ext cx="526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 very famous singer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71280" y="3605040"/>
            <a:ext cx="608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merican country music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13360" y="633240"/>
            <a:ext cx="689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V      Answer the follow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5200" y="1319040"/>
            <a:ext cx="34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John Denver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2819520"/>
            <a:ext cx="385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Type of music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7720" y="4419720"/>
            <a:ext cx="304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What to do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17920" y="2157480"/>
            <a:ext cx="526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 very famous singer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71280" y="3605040"/>
            <a:ext cx="608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merican country music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27160" y="5129280"/>
            <a:ext cx="325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He’s singing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800" y="1243080"/>
            <a:ext cx="60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9680" y="2895480"/>
            <a:ext cx="60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9800" y="4443480"/>
            <a:ext cx="60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4T09:00:50Z</dcterms:created>
  <dc:creator>Tan</dc:creator>
  <dc:description/>
  <dc:language>en-US</dc:language>
  <cp:lastModifiedBy>Tan</cp:lastModifiedBy>
  <dcterms:modified xsi:type="dcterms:W3CDTF">2001-11-04T13:56:18Z</dcterms:modified>
  <cp:revision>11</cp:revision>
  <dc:subject/>
  <dc:title>没有幻灯片标题</dc:title>
</cp:coreProperties>
</file>