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9DC5-338C-4494-A979-6494312CD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7035-6740-4E5B-8A04-7C4517DC5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59AB-CF02-4E0E-9B66-B23DE9BD9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D10A-F9C7-4879-8B6D-F5635EFC9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2654-D390-4A97-A5F6-49FDF7A31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8B29-A067-4886-99C5-EE4BC5074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BAF4-D3C9-4226-9B09-F3AFD5B28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8160-44DC-42C7-B0A5-733E36441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B429-10BF-470C-A94F-4A29665AC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64CC-C97A-4254-B1BD-273683E6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9702-6FD0-42D9-ABB8-43686687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0400-7E3A-4F0D-95AC-764154FC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1E7AD-222C-48A8-B0BA-28FC520548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3120" y="228600"/>
            <a:ext cx="35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ff"/>
                </a:solidFill>
                <a:latin typeface="Arial"/>
              </a:rPr>
              <a:t>If you should die before m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ff"/>
                </a:solidFill>
                <a:latin typeface="Arial"/>
              </a:rPr>
              <a:t>ask if you could bring a friend</a:t>
            </a:r>
            <a:r>
              <a:rPr b="0" lang="en-US" sz="1800" spc="-1" strike="noStrike">
                <a:solidFill>
                  <a:srgbClr val="00cc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1600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78360" y="1523880"/>
            <a:ext cx="506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ff"/>
                </a:solidFill>
                <a:latin typeface="Arial"/>
              </a:rPr>
              <a:t>If you live to be a hundr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ff"/>
                </a:solidFill>
                <a:latin typeface="Arial"/>
              </a:rPr>
              <a:t>I want to live to be a hundred minus one da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ff"/>
                </a:solidFill>
                <a:latin typeface="Arial"/>
              </a:rPr>
              <a:t>so I never have to liv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ff"/>
                </a:solidFill>
                <a:latin typeface="Arial"/>
              </a:rPr>
              <a:t>without yo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3200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3480" y="3429000"/>
            <a:ext cx="41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ff"/>
                </a:solidFill>
                <a:latin typeface="Arial"/>
              </a:rPr>
              <a:t>True friendship is like sound healt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ff"/>
                </a:solidFill>
                <a:latin typeface="Arial"/>
              </a:rPr>
              <a:t>the value of it is seldom kn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ff"/>
                </a:solidFill>
                <a:latin typeface="Arial"/>
              </a:rPr>
              <a:t>until it is los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5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128680" y="4470480"/>
            <a:ext cx="5537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nd if you only get it but once, do not 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iscouraged for you will know that you h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49240" y="5486400"/>
            <a:ext cx="615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T LEAST ONE GOOD FRI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7440" y="6248520"/>
            <a:ext cx="266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vantha@desilver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300"/>
                            </p:stCondLst>
                            <p:childTnLst>
                              <p:par>
                                <p:cTn id="11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019200" y="1371600"/>
            <a:ext cx="264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A real fri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is one who walks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when the 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of the world walks out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807160" y="3200400"/>
            <a:ext cx="333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My father always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to say that when you di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if you've got five real friend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then you've had a great life.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86200" y="341280"/>
            <a:ext cx="3050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ll my friends w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 jump off a bridg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 wouldn't jump with the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'd be at the bottom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tch th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84040" y="5334120"/>
            <a:ext cx="451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ld a true friend with both your ha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304920"/>
            <a:ext cx="231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I'll lean on you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you lean on me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we'll be ok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66560" y="5791320"/>
            <a:ext cx="268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Friendship is one m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in two bod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500"/>
                            </p:stCondLst>
                            <p:childTnLst>
                              <p:par>
                                <p:cTn id="52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79800" y="457200"/>
            <a:ext cx="3388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on'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walk in front of m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 may not fol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on't walk behind m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 may not l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Walk beside me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e my frien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63600" y="341280"/>
            <a:ext cx="2730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Arial"/>
              </a:rPr>
              <a:t>Everyone h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Arial"/>
              </a:rPr>
              <a:t>what you s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Arial"/>
              </a:rPr>
              <a:t>Friends listen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Arial"/>
              </a:rPr>
              <a:t>what you s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Arial"/>
              </a:rPr>
              <a:t>Best frie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Arial"/>
              </a:rPr>
              <a:t>listen to what you don'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Arial"/>
              </a:rPr>
              <a:t>s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181480" y="4114800"/>
            <a:ext cx="3664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A friend is someone who kn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the song in your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and can sing it back to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when you have forgot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the words.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5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380880"/>
            <a:ext cx="3143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We all take diffe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paths in lif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but no matter where we g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we take a little of 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other everywhere.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44400" y="6172200"/>
            <a:ext cx="49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Friends are God's way of taking care of u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5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77640" y="304920"/>
            <a:ext cx="3855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Strangers 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just friends waiting to happ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Friends are the Ba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Bits in the Sal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Bowl of Lif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733920" y="1523880"/>
            <a:ext cx="4868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Pass this on to all of your FRIENDS, even if it m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sending it to the person that sent it to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And if you receive this e-mail many times f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many different people, it only means that you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many FRIEN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fad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9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>
                                          <p:stCondLst>
                                            <p:cond delay="90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6T15:38:23Z</dcterms:created>
  <dc:creator>user</dc:creator>
  <dc:description/>
  <dc:language>en-US</dc:language>
  <cp:lastModifiedBy>user</cp:lastModifiedBy>
  <dcterms:modified xsi:type="dcterms:W3CDTF">2002-05-16T17:27:11Z</dcterms:modified>
  <cp:revision>25</cp:revision>
  <dc:subject/>
  <dc:title>Slide 1</dc:title>
</cp:coreProperties>
</file>